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9EE0-CD2E-44A5-BD94-1C4F89730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13C-6E74-4A92-8D26-8567DA8A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128F-6FC2-4672-BC2D-E5E11CF0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C1D4-1F31-4D72-A69C-3833899A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E765-777A-4767-8522-793DED5CC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1D1F-6F6A-4F50-9D07-987435C04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30BB-1984-4AB0-A67E-D900E6F7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F167-2ABC-44E7-A4D8-1B271FFF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C960-AD6F-48F1-8CA4-17735C9D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9E6D-FE68-4DBB-B3E5-C97D6A88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90FD-4700-45FE-8B6B-89087253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F04F-0336-48AC-B61C-75ACDEA5B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242E-959C-4564-BE5D-1DA36A7B1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5067-A160-439F-881D-DE7F32ED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02F0-E510-4DDA-8266-BF74503B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B4A9-CC4F-4C9D-AE4B-2664709BA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8A4F-24CA-4456-943B-F105455B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4E8B-E675-47E5-9E7D-5D03967BF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9AF-1771-42CF-A47A-00A0A154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CA40-D744-4B10-9604-6C9D9498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4C63-655F-45B4-966F-D7EF64C3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BBF8-C944-4E53-9DD6-BC27C25D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E653-FF91-4D8E-93E4-61CAAD39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FFICER IN THE NAVY OR MARINE CORPS IS ELIGIBLE FOR A COMBAT COMM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LIQUID IS UNUSUAL IN THAT IT BECOMES LESS DENSE WHEN IT FREE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AL TERM BECOMES THE NAME OF A VEGETABLE IF ITS SECOND AND THIRD LETTERS ARE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IDERS ON THE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BENJAMIN FRANKLIN QUOTE: "WITHOUT FREEDOM OF ____, THERE CAN BE NO WISD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A TENNIS SHOE COVERS THE TOP OF THE FOOT AND IS LA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FFICER IN THE NAVY OR MARINE CORPS IS ELIGIBLE FOR A COMBAT COMM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(CANDEL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ETRIC UNIT OF LUMINOUS INTENSITY UNTIL 1979, WHEN IT WAS REPLACED BY THE LATIN WORD FOR THE SAME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87692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LIQUID IS UNUSUAL IN THAT IT BECOMES LESS DENSE WHEN IT FREE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AL TERM BECOMES THE NAME OF A VEGETABLE IF ITS SECOND AND THIRD LETTERS ARE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IDERS ON THE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BENJAMIN FRANKLIN QUOTE: "WITHOUT FREEDOM OF ____, THERE CAN BE NO WISD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A TENNIS SHOE COVERS THE TOP OF THE FOOT AND IS LA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ETRIC UNIT OF LUMINOUS INTENSITY UNTIL 1979, WHEN IT WAS REPLACED BY THE LATIN WORD FOR THE SAME 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6:06:38Z</dcterms:created>
  <dc:creator>Jennifer Budzinski</dc:creator>
  <dc:description/>
  <dc:language>en-US</dc:language>
  <cp:lastModifiedBy>Erich Friedman</cp:lastModifiedBy>
  <dcterms:modified xsi:type="dcterms:W3CDTF">2020-08-28T22:00:11Z</dcterms:modified>
  <cp:revision>450</cp:revision>
  <dc:subject/>
  <dc:title>Slide 1</dc:title>
</cp:coreProperties>
</file>