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5CA2-1F66-4649-ACC2-5AC265B3B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1D3C-FEB9-4AC9-91CB-A04C599F9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DF7F-23E5-434A-9BCA-EFA70734B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151E-DD64-460A-B07D-7B790B1CC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E9EA-C852-4B76-947B-7F0535878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EFCB-ADEC-448B-9EE6-CBA0DF42C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BD8B-63AA-4FC1-8BFA-318759DAA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484F-12A4-4B42-93C3-7A9B5E98B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6C9C-9E3F-4A16-82A1-8E6582E1F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BAE3-E69E-478F-8877-21F94AB64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E8E3-8B39-4E39-B6CD-BA2A0E9B0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7D76-FC27-45BA-923F-E8EAB5CAF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82C0-AF0A-459D-AE90-3A0151A63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5566-F643-476A-8E9C-0CE7BB4CA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F31E-7D0C-42F0-A758-21680F1BA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4FB2-9F5E-44F7-891A-8AED5DA78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4F9D-AFF9-418F-8156-B03AF084A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79E4-77BA-4BF1-AE16-EEF394FDA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1E9D-49EF-41B0-A415-80F02CBE2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E3C7-E1F2-4BCA-9747-4E6F05741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7676-A00D-47DE-B15E-67BC230D4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E745-621E-43DA-B067-44D095E10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8DC8-B6B2-42A6-BD4F-A2ED8BB5F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0666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IS USED TO MEASURE THE HEIGHTS OF HORSES IN ENGLISH SPEAKING COUNT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OFFICER IN THE NAVY OR MARINE CORPS IS ELIGIBLE FOR A COMBAT COMM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ARGARET)  CO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90400" y="762120"/>
            <a:ext cx="7963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EMALE TENNIS PLAYER WHO HAS WON THE MOST MAJOR TOURNA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95280" y="762120"/>
            <a:ext cx="65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LIQUID IS UNUSUAL IN THAT IT BECOMES LESS DENSE WHEN IT FREEZ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I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GAL TERM BECOMES THE NAME OF A VEGETABLE IF ITS SECOND AND THIRD LETTERS ARE REMOV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O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RIDERS ON THE STOR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IS BENJAMIN FRANKLIN QUOTE: "WITHOUT FREEDOM OF ____, THERE CAN BE NO WISDO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G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 OF A TENNIS SHOE COVERS THE TOP OF THE FOOT AND IS LAC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OFFICER IN THE NAVY OR MARINE CORPS IS ELIGIBLE FOR A COMBAT COMM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DLE  (CANDEL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ETRIC UNIT OF LUMINOUS INTENSITY UNTIL 1979, WHEN IT WAS REPLACED BY THE LATIN WORD FOR THE SAME 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IS USED TO MEASURE THE HEIGHTS OF HORSES IN ENGLISH SPEAKING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90720" y="4876920"/>
            <a:ext cx="7162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YOU  CAN  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EMALE TENNIS PLAYER WHO HAS WON THE MOST MAJOR TOURNA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95280" y="762120"/>
            <a:ext cx="6553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LIQUID IS UNUSUAL IN THAT IT BECOMES LESS DENSE WHEN IT FREEZ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GAL TERM BECOMES THE NAME OF A VEGETABLE IF ITS SECOND AND THIRD LETTERS ARE REMOV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RIDERS ON THE STOR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IS BENJAMIN FRANKLIN QUOTE: "WITHOUT FREEDOM OF ____, THERE CAN BE NO WISDO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 OF A TENNIS SHOE COVERS THE TOP OF THE FOOT AND IS LAC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ETRIC UNIT OF LUMINOUS INTENSITY UNTIL 1979, WHEN IT WAS REPLACED BY THE LATIN WORD FOR THE SAME TH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5T16:06:38Z</dcterms:created>
  <dc:creator>Jennifer Budzinski</dc:creator>
  <dc:description/>
  <dc:language>en-US</dc:language>
  <cp:lastModifiedBy>Erich Friedman</cp:lastModifiedBy>
  <dcterms:modified xsi:type="dcterms:W3CDTF">2020-08-28T22:00:11Z</dcterms:modified>
  <cp:revision>450</cp:revision>
  <dc:subject/>
  <dc:title>Slide 1</dc:title>
</cp:coreProperties>
</file>