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4563-7DFD-4B1B-8AC5-94526F30F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D81B-8E6E-46B6-BE60-C3F045BEE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9F83-52CD-4549-BDAB-2ABBB969E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9DDA-0F8C-454D-B330-BB892F50D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47D4-B9A0-4506-84FD-DD85A8017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D480-F5C0-4A7D-BFE1-B5641885D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40B6-50C1-4249-A022-98E08845A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C8AF-D9C6-445B-BD72-87378905E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8C38-6F02-4615-9897-CCAEED981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FF8A-B82C-4A98-B731-AE39413F5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C034-5AD0-4CE9-9A8A-2FC7287B8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6825-24C4-4079-817E-C1554EBEA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8D06-9777-452E-A839-3365A35FE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EBBDF-EF0E-47E8-8290-FC0368484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CEAE-2465-4478-8651-7B13FE0FF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659B-07D4-4C9A-8E1C-D82FDF2E0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80A7-E81C-4532-A6FE-770B7AEEB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1134-E3DB-4E84-A484-F85C0DB83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2F43-004F-41E9-AE8F-B8899B5F2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A33A-D923-41B2-8EBD-BE1199CFC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9D6E-41B8-4BE1-8652-EAE2E8A09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A6FE-A123-44C2-8C1C-551096063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23D6-AFEC-4740-8DC0-241CA8527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IS USED TO MEASURE THE HEIGHTS OF HORSES IN ENGLISH SPEAKING COUNT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OFFICER IN THE NAVY OR MARINE CORPS IS ELIGIBLE FOR A COMBAT COMM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RGARET)  CO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90400" y="762120"/>
            <a:ext cx="7963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EMALE TENNIS PLAYER WHO HAS WON THE MOST MAJOR TOURNA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LIQUID IS UNUSUAL IN THAT IT BECOMES LESS DENSE WHEN IT FREEZ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I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GAL TERM BECOMES THE NAME OF A VEGETABLE IF ITS SECOND AND THIRD LETTERS ARE REMO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O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RIDERS ON THE STOR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BENJAMIN FRANKLIN QUOTE: "WITHOUT FREEDOM OF ____, THERE CAN BE NO WISDO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A TENNIS SHOE COVERS THE TOP OF THE FOOT AND IS LA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OFFICER IN THE NAVY OR MARINE CORPS IS ELIGIBLE FOR A COMBAT COMM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LE  (CANDEL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ETRIC UNIT OF LUMINOUS INTENSITY UNTIL 1979, WHEN IT WAS REPLACED BY THE LATIN WORD FOR THE SAME 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IS USED TO MEASURE THE HEIGHTS OF HORSES IN ENGLISH SPEAKING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87692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EMALE TENNIS PLAYER WHO HAS WON THE MOST MAJOR TOURNA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LIQUID IS UNUSUAL IN THAT IT BECOMES LESS DENSE WHEN IT FREEZ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GAL TERM BECOMES THE NAME OF A VEGETABLE IF ITS SECOND AND THIRD LETTERS ARE REMOV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RIDERS ON THE STOR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BENJAMIN FRANKLIN QUOTE: "WITHOUT FREEDOM OF ____, THERE CAN BE NO WISDO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A TENNIS SHOE COVERS THE TOP OF THE FOOT AND IS LAC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ETRIC UNIT OF LUMINOUS INTENSITY UNTIL 1979, WHEN IT WAS REPLACED BY THE LATIN WORD FOR THE SAME TH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5T16:06:38Z</dcterms:created>
  <dc:creator>Jennifer Budzinski</dc:creator>
  <dc:description/>
  <dc:language>en-US</dc:language>
  <cp:lastModifiedBy>Erich Friedman</cp:lastModifiedBy>
  <dcterms:modified xsi:type="dcterms:W3CDTF">2020-08-28T22:00:11Z</dcterms:modified>
  <cp:revision>450</cp:revision>
  <dc:subject/>
  <dc:title>Slide 1</dc:title>
</cp:coreProperties>
</file>