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0ED1-20DC-41BD-87AC-43F80E987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75CC-9494-4B90-8B52-5572655A8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C030-C675-472A-869B-E165D1D66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FEC9-DFA9-4CB6-AFA8-73CCB753B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0DD9-DC1A-4715-8CB7-05E08F9CA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2BFF-9180-428A-9719-A7A87CCB7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9FF7-A4B8-4673-876C-6AFFCB51D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7848-7C97-434E-BDCB-022442BFE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26AC-9C02-4CD2-AB69-7CF181055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A38E-A6EF-4DD5-A576-BDDEB0136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AFE9-C385-48EE-A4F4-68C82ADDC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14AB-5A67-4869-B1BA-7156A65D7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A8B6-F3CF-4DD2-85A7-6C457F65F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E9D3-4069-4A98-BF5C-A9836DD4C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03F5-CB2E-4C5E-AB85-496090A54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B85B-023C-4F80-A5CA-717640CA0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4B7A-2BFA-4570-90A6-E2836C597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535F-01C5-462B-AE4E-997D029F5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88BF-3712-45B5-8B58-08E0DD444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E655-449D-479A-8734-853305097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4465-F61A-45C2-B1DE-13FBF740F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41C4-BEC3-4E4D-B6DA-8F595B5E7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4CBD-0BF6-47F9-9580-AD9D6B089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SATURN'S LARGEST MO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IDERS  OF  THE  LOST  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333440" y="762120"/>
            <a:ext cx="64771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FIRST INDIANA JONES MOV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LEGE  OF  CARDIN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VOTES FOR A NEW POPE WHEN THAT IS NECESS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A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DGAR ALLAN POE'S EPITAPH IS A QUOTE FROM WHICH OF HIS FAMOUS WOR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42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ATRIOT  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LEGISLATION ALLOWED THE NSA TO SEARCH TELEPHONE, EMAIL, AND FINANCIAL RECORDS WITHOUT A WARR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DDY  B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7 #1 ELVIS SONG'S OFFICIAL TITLE BEGINS WITH "(LET ME BE YOUR)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J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38080" y="762120"/>
            <a:ext cx="74678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WEST SIDE STORY", WHAT WAS THE RIVAL GANG TO THE SHAR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MIGHT  BE  GI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TERNATIVE ROCK BAND COVERED THE FOUR LADS'S SONG "ISTANBUL (NOT CONSTANTINOPLE)" IN 199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FIRST INDIANA JONES MOV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A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GREATEST HITS ALBUM IS THE BEST-SELLING ALBUM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04920" y="487692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SATURN'S LARGEST M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04920" y="4876920"/>
            <a:ext cx="8534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FL  TEAM  N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VOTES FOR A NEW POPE WHEN THAT IS NECESS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DGAR ALLAN POE'S EPITAPH IS A QUOTE FROM WHICH OF HIS FAMOUS WOR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LEGISLATION ALLOWED THE NSA TO SEARCH TELEPHONE, EMAIL, AND FINANCIAL RECORDS WITHOUT A WARR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7 #1 ELVIS SONG'S OFFICIAL TITLE BEGINS WITH "(LET ME BE YOUR)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WEST SIDE STORY", WHAT WAS THE RIVAL GANG TO THE SHAR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TERNATIVE ROCK BAND COVERED THE FOUR LADS' SONG "ISTANBUL (NOT CONSTANTINOPLE)" IN 199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GREATEST HITS ALBUM IS THE BEST-SELLING ALBUM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9T15:07:25Z</dcterms:created>
  <dc:creator>Jennifer Budzinski</dc:creator>
  <dc:description/>
  <dc:language>en-US</dc:language>
  <cp:lastModifiedBy>Erich Friedman</cp:lastModifiedBy>
  <dcterms:modified xsi:type="dcterms:W3CDTF">2020-08-24T12:11:57Z</dcterms:modified>
  <cp:revision>363</cp:revision>
  <dc:subject/>
  <dc:title>Slide 1</dc:title>
</cp:coreProperties>
</file>