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85D-BC79-4C72-8A32-85F6E83C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8E2-0008-497F-8791-49E9882D2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C32-9C7F-4690-8892-4EBB7D26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A1B-D2FC-45F4-B66D-34EF6189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118-F33F-46E7-AFEE-E6DEA511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0B3-BB73-45B6-8B1C-9BED54D7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F10-EBF2-4BB0-A847-DB0A7F69D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BD7-6E7B-459A-B0EB-FFC26DD3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5BE-7428-4D58-8132-6CC9AB50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6B7-6C35-42D6-AB02-6EDC3259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9A1-A655-4F63-A5EB-D20FDE2F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E4EB-3693-41E7-A10F-B3D96326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405B-5429-46F7-ADE5-92EF5E0D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305B-FB06-45DD-9FED-DFA413C6F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803B-167E-4FCC-BA59-485BB3B5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0D68-EEFE-44E8-BA3D-01BAA76C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D69-5B20-4BB3-B1CF-96775485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FF9-6E69-4A2A-AFDB-04E0B1CB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BE17-1876-4BE6-9F99-CAD54317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C799-5B27-4389-A383-04DD3FEB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5853-B349-431B-9422-394214D8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8CFB-5EBE-4E6C-A448-E6AABA7A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620-C52B-4933-B074-50055A0E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TRIOT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MIGHT  BE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S SONG "ISTANBUL (NOT CONSTANTINOPLE)"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487692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F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 SONG "ISTANBUL (NOT CONSTANTINOPLE)" IN 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5:07:25Z</dcterms:created>
  <dc:creator>Jennifer Budzinski</dc:creator>
  <dc:description/>
  <dc:language>en-US</dc:language>
  <cp:lastModifiedBy>Erich Friedman</cp:lastModifiedBy>
  <dcterms:modified xsi:type="dcterms:W3CDTF">2020-08-24T12:11:57Z</dcterms:modified>
  <cp:revision>363</cp:revision>
  <dc:subject/>
  <dc:title>Slide 1</dc:title>
</cp:coreProperties>
</file>