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AA789-3CE4-4CEE-86E7-3EF8040FB6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BD566-AB35-45C5-B9F7-848799F2A6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4C904-A33C-464F-952D-47728B71ED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EAF71-32ED-43F8-BE3F-5F98F15FA2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5D969-1E93-4315-A942-AEB0FFA9C4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852F6-416D-4A3D-B9EF-865E2AB6EF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10B29-F618-43EE-8381-973C1B3FFE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1DD42-7D86-46F7-9295-C8F0714347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5E6AA-00AF-4D93-84F9-41D753C123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A2F6B-4A09-4961-B9A7-DF1676A1FB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194B8-53FF-4D89-9998-66EF1A9BB2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A6591-6D1B-43D1-AC39-462554C49E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82D41-8DA5-4AAC-8A31-5F1B9155EC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5F7B0-DBA0-4783-940A-54678E88DB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0EC21-C38A-400D-B559-7DFCB95FA8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A0C45-D166-4602-B74A-62E5B2BF08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08352-A476-4742-AFE1-92C6A3FB72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7272D-2824-49A8-B9B7-4751B0AF06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64AE4-59D5-41AF-82A5-A3DB27E51B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07687-FCC5-4770-B1F9-EEACCBC8B3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FB09B-A2AE-441C-98BE-64337A739A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2E645-82E0-4CAA-A23D-8230EDA44D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CBB5C-65AA-4BAF-8A52-3D2C409B8E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600200" y="1523880"/>
            <a:ext cx="5943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533520" y="761760"/>
            <a:ext cx="80769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SATURN'S LARGEST MO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990720" y="4876920"/>
            <a:ext cx="71625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AIDERS  OF  THE  LOST  AR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1333440" y="762120"/>
            <a:ext cx="647712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NAME OF THE FIRST INDIANA JONES MOVI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LLEGE  OF  CARDINA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457200" y="762120"/>
            <a:ext cx="82296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VOTES FOR A NEW POPE WHEN THAT IS NECESSAR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380880" y="4876920"/>
            <a:ext cx="838224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RAV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723960" y="762120"/>
            <a:ext cx="7696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DGAR ALLAN POE'S EPITAPH IS A QUOTE FROM WHICH OF HIS FAMOUS WORK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343080" y="4894200"/>
            <a:ext cx="84582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PATRIOT  A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419040" y="762120"/>
            <a:ext cx="83059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01 LEGISLATION ALLOWED THE NSA TO SEARCH TELEPHONE, EMAIL, AND FINANCIAL RECORDS WITHOUT A WARRAN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457200" y="487692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EDDY  BE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762120" y="762120"/>
            <a:ext cx="76197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57 #1 ELVIS SONG'S OFFICIAL TITLE BEGINS WITH "(LET ME BE YOUR)"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JE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838080" y="762120"/>
            <a:ext cx="746784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"WEST SIDE STORY", WHAT WAS THE RIVAL GANG TO THE SHARK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143000" y="4876920"/>
            <a:ext cx="6858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Y  MIGHT  BE  GIA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533520" y="762120"/>
            <a:ext cx="80769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LTERNATIVE ROCK BAND COVERED THE FOUR LADS'S SONG "ISTANBUL (NOT CONSTANTINOPLE)" IN 1990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333440" y="762120"/>
            <a:ext cx="64771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NAME OF THE FIRST INDIANA JONES MOVI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380880" y="4876920"/>
            <a:ext cx="83822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EAG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533520" y="762120"/>
            <a:ext cx="807696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SE GREATEST HITS ALBUM IS THE BEST-SELLING ALBUM OF ALL TI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04920" y="4876920"/>
            <a:ext cx="85341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IT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609480" y="762120"/>
            <a:ext cx="792504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SATURN'S LARGEST MO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304920" y="4876920"/>
            <a:ext cx="85341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NTAIN  NFL  TEAM  NAM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VOTES FOR A NEW POPE WHEN THAT IS NECESSAR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723960" y="762120"/>
            <a:ext cx="7696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DGAR ALLAN POE'S EPITAPH IS A QUOTE FROM WHICH OF HIS FAMOUS WORK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380880" y="762120"/>
            <a:ext cx="83822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01 LEGISLATION ALLOWED THE NSA TO SEARCH TELEPHONE, EMAIL, AND FINANCIAL RECORDS WITHOUT A WARRAN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876240" y="761760"/>
            <a:ext cx="7391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57 #1 ELVIS SONG'S OFFICIAL TITLE BEGINS WITH "(LET ME BE YOUR)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838080" y="761760"/>
            <a:ext cx="74678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"WEST SIDE STORY", WHAT WAS THE RIVAL GANG TO THE SHARK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19040" y="761760"/>
            <a:ext cx="83059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LTERNATIVE ROCK BAND COVERED THE FOUR LADS' SONG "ISTANBUL (NOT CONSTANTINOPLE)" IN 1990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647640" y="762120"/>
            <a:ext cx="784872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SE GREATEST HITS ALBUM IS THE BEST-SELLING ALBUM OF ALL TIM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19T15:07:25Z</dcterms:created>
  <dc:creator>Jennifer Budzinski</dc:creator>
  <dc:description/>
  <dc:language>en-US</dc:language>
  <cp:lastModifiedBy>Erich Friedman</cp:lastModifiedBy>
  <dcterms:modified xsi:type="dcterms:W3CDTF">2020-08-24T12:11:57Z</dcterms:modified>
  <cp:revision>363</cp:revision>
  <dc:subject/>
  <dc:title>Slide 1</dc:title>
</cp:coreProperties>
</file>