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9B2A-EF73-4FD2-9D40-3A075910B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2AAC-EA73-479A-8572-33E4989F3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E4B3-DB7D-4B5D-A796-AD82F42D0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5EE5-2E94-422F-98CA-B11AD36F9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7C8F-BAF8-4E69-AAF2-FBBDF9ACE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A7E3-156A-40C6-AE0F-7A0BA70BA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F738-A38F-44C3-89F2-94A68AA7C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55CA-F2CC-48DC-8FF4-D8680371E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25DE-A5C6-4CA9-8ADC-FBC2E0F5E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9319-BFB9-4C88-9425-7BCF8EDD1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067C-E32D-40A0-9948-5E1F06531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27CA-95A3-40EF-9740-8B24B86F4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CF08-F0E8-4E18-A555-BA140EE9F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88D1-8703-4C37-B483-3C37CCFDE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505B-380F-400F-8493-22FAE525E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E52F-9922-4985-9AF3-368FAFC34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0260-8751-4D37-8FFF-05020E916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1E7A-A6EF-4484-8F66-AFAD780AD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FF7A-CAC3-42DE-AB11-81A829BBA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662C-1745-473B-875B-D3EE8539C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DDF2-E8EF-4860-9419-085A24E05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ACBA-E260-4027-87F7-FDD1641DB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185C-46BB-41A7-9FAB-4FE546655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BOUT 90% OF THE WORLD'S EARTHQUAKES OCCUR IN WHAT BELT OF SEISMIC ACTIVITY ALONG THE PACIFIC RI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ATAD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905120" y="762120"/>
            <a:ext cx="5333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STAR OF A BULLFIG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NE  GIR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4 FILM STARS BEN AFFLECK AS THE MAIN SUSPECT IN HIS WIFE'S SUDDEN DISAPPEAR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320" y="762120"/>
            <a:ext cx="8991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RITISH ACADEMY WINNERS FOR BEST ACTOR FOR "THE ELEPHANT MAN" AND "KISS OF THE SPIDER WOMAN" SHARED WHAT LAST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WALK  THE  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509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0 FILM STARRED GREGORY PECK AS A SHERIFF AND TUESDAY WELD AS HIS GIRLFRIE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NAN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57080"/>
            <a:ext cx="7772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9-1973 WESTERN TV SERIES TOLD THE STORY OF BEN AND HIS 3 SONS ADAM, HOSS, AND LITTLE JO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A  CONSTRI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UTH AMERICAN SNAKE IS FAMOUS FOR SQUEEZING ITS PR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ENERAL  L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1969 CHARGER OWNED BY THE "DUKES OF HAZAR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828800" y="761760"/>
            <a:ext cx="5486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STAR OF A BULLFIGH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04840" y="4883040"/>
            <a:ext cx="693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    OF THE SINGERS OF "ABC",        "I WANT YOU BACK", AND "BLAME IT ON THE BOOGI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NG  OF  F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BOUT 90% OF THE WORLD'S EARTHQUAKES OCCUR IN WHAT BELT OF SEISMIC ACTIVITY ALONG THE PACIFIC R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790640" y="4876920"/>
            <a:ext cx="556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NY  CASH 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4 FILM STARS BEN AFFLECK AS THE MAIN SUSPECT IN HIS WIFE'S SUDDEN DISAPPEARA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320" y="762120"/>
            <a:ext cx="8991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RITISH ACADEMY WINNERS FOR BEST ACTOR FOR "THE ELEPHANT MAN" AND "KISS OF THE SPIDER WOMAN" SHARED WHAT LAST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0 FILM STARRED GREGORY PECK AS A SHERIFF AND TUESDAY WELD AS HIS GIRLFRIE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9-1973 WESTERN TV SERIES TOLD THE STORY OF BEN AND HIS 3 SONS ADAM, HOSS, AND LITTLE JO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UTH AMERICAN SNAKE IS FAMOUS FOR SQUEEZING ITS PR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1969 CHARGER OWNED BY THE "DUKES OF HAZAR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    OF THE SINGERS OF "ABC",        "I WANT YOU BACK", AND "BLAME IT ON THE BOOGI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5T17:18:33Z</dcterms:created>
  <dc:creator>Jennifer Budzinski</dc:creator>
  <dc:description/>
  <dc:language>en-US</dc:language>
  <cp:lastModifiedBy>Erich Friedman</cp:lastModifiedBy>
  <dcterms:modified xsi:type="dcterms:W3CDTF">2020-08-28T22:02:19Z</dcterms:modified>
  <cp:revision>444</cp:revision>
  <dc:subject/>
  <dc:title>Slide 1</dc:title>
</cp:coreProperties>
</file>