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7554-A180-4F59-90A8-813160980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DAE2-500B-45DF-BBD6-2F5001A9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76EF-6BAF-4E8C-A286-49A9659B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325D-8EC8-44E6-86F9-08A7B9E6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E729-F3DE-4E59-A06D-F81B91A7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9BD5-9D96-4D62-81BE-81FF992F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74B-A7E9-4B39-AFDA-2BEAF856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DF2-4001-4981-A15E-745B4D378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FAC9-02E6-424D-9610-2D051B87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4F46-A9F6-4E42-9E27-D627FE5F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2299-ECFE-4B4B-92A1-2186710EF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DE19-07B4-4BED-ADBA-A4C50250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5226-B075-47CB-9C61-DF139CC00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95E-D58A-402F-95B8-3F07E08D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B83D-C7EB-46F0-BDE2-E13A224D6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5095-9352-4544-A642-FC3E83955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121-22D2-4E43-8629-E76D9D806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061-A451-4EF5-A773-0DD0986E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ED01-67C4-4ECA-88E7-968A3332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7C67-EFAD-4DF9-8DE7-120FC91A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DAB7-FA93-424C-9248-494F119C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522B-CAA3-474C-A9A1-CCA3ED86A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0E1A-CD71-4485-A039-287317F3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5120" y="762120"/>
            <a:ext cx="533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LK  THE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509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70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  CONSTRI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ENERAL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TAR OF A BULL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8304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  OF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90% OF THE WORLD'S EARTHQUAKES OCCUR IN WHAT BELT OF SEISMIC ACTIVITY ALONG THE PACIFIC R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ILM STARS BEN AFFLECK AS THE MAIN SUSPECT IN HIS WIFE'S SUDDEN DIS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320" y="762120"/>
            <a:ext cx="89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ACADEMY WINNERS FOR BEST ACTOR FOR "THE ELEPHANT MAN" AND "KISS OF THE SPIDER WOMAN" SHARED W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STARRED GREGORY PECK AS A SHERIFF AND TUESDAY WELD AS HIS GIRL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-1973 WESTERN TV SERIES TOLD THE STORY OF BEN AND HIS 3 SONS ADAM, HOSS, AND LITTLE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SNAKE IS FAMOUS FOR SQUEEZING ITS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69 CHARGER OWNED BY THE "DUKES OF HAZ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SINGERS OF "ABC",        "I WANT YOU BACK", AND "BLAME IT ON THE BOO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7:18:33Z</dcterms:created>
  <dc:creator>Jennifer Budzinski</dc:creator>
  <dc:description/>
  <dc:language>en-US</dc:language>
  <cp:lastModifiedBy>Erich Friedman</cp:lastModifiedBy>
  <dcterms:modified xsi:type="dcterms:W3CDTF">2020-08-28T22:02:19Z</dcterms:modified>
  <cp:revision>444</cp:revision>
  <dc:subject/>
  <dc:title>Slide 1</dc:title>
</cp:coreProperties>
</file>