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02C3-5273-4045-BCF8-E7BA984C7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FD34-E671-4A3B-B03F-B2620E876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8525-0F5E-4F0C-A382-0763327B1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E989-EA0F-4668-AF90-078A6B692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C540-82CE-4DE9-8FB1-A5593342D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C484-F05D-4C81-9882-7C6F6D890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A4D9-186D-434E-ABB2-A35D9BC2F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263C-A04A-459B-B3F6-D5F104B18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B4CA-63FF-4EAF-94F9-567EA7F93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F4BB-F1AA-4050-A511-82BB1ED53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28CC-734B-4866-9B5D-D561E1D50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87B3-BCB4-4CF8-8119-3F3A338D4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5747-6725-47C3-8D49-AFC4C88EF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984A-E920-4982-9B75-2FA8E9357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F7F7-60D7-4C6C-8217-BDA8BE789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F772-E883-4527-AA14-84A6C39AD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5344-1529-4CD5-98AC-6FF431E18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4FAF-8BDB-481E-8C03-85E712BAA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8327-CE66-4707-9807-4CA0BB6A9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F660-8A73-445A-8304-9C2EE3783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1E79-E0C5-4528-935B-C2F65B70B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C0B3-4FDB-4B0C-81C4-5DC817F20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A1A7-B811-4462-9F7E-363B7EF53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BOUT 90% OF THE WORLD'S EARTHQUAKES OCCUR IN WHAT BELT OF SEISMIC ACTIVITY ALONG THE PACIFIC RI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ATAD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905120" y="762120"/>
            <a:ext cx="5333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STAR OF A BULLFIG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NE  GIR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4 FILM STARS BEN AFFLECK AS THE MAIN SUSPECT IN HIS WIFE'S SUDDEN DISAPPEAR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320" y="762120"/>
            <a:ext cx="8991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RITISH ACADEMY WINNERS FOR BEST ACTOR FOR "THE ELEPHANT MAN" AND "KISS OF THE SPIDER WOMAN" SHARED WHAT LAST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WALK  THE  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509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0 FILM STARRED GREGORY PECK AS A SHERIFF AND TUESDAY WELD AS HIS GIRLFRIE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NAN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57080"/>
            <a:ext cx="7772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9-1973 WESTERN TV SERIES TOLD THE STORY OF BEN AND HIS 3 SONS ADAM, HOSS, AND LITTLE JO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A  CONSTRI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UTH AMERICAN SNAKE IS FAMOUS FOR SQUEEZING ITS PR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ENERAL  L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1969 CHARGER OWNED BY THE "DUKES OF HAZAR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828800" y="761760"/>
            <a:ext cx="5486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STAR OF A BULLFIGH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04840" y="4883040"/>
            <a:ext cx="693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    OF THE SINGERS OF "ABC",        "I WANT YOU BACK", AND "BLAME IT ON THE BOOGI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NG  OF  F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BOUT 90% OF THE WORLD'S EARTHQUAKES OCCUR IN WHAT BELT OF SEISMIC ACTIVITY ALONG THE PACIFIC R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790640" y="487692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NY  CASH 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4 FILM STARS BEN AFFLECK AS THE MAIN SUSPECT IN HIS WIFE'S SUDDEN DISAPPEARA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320" y="762120"/>
            <a:ext cx="8991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RITISH ACADEMY WINNERS FOR BEST ACTOR FOR "THE ELEPHANT MAN" AND "KISS OF THE SPIDER WOMAN" SHARED WHAT LAST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0 FILM STARRED GREGORY PECK AS A SHERIFF AND TUESDAY WELD AS HIS GIRLFRIE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9-1973 WESTERN TV SERIES TOLD THE STORY OF BEN AND HIS 3 SONS ADAM, HOSS, AND LITTLE JO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UTH AMERICAN SNAKE IS FAMOUS FOR SQUEEZING ITS PR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1969 CHARGER OWNED BY THE "DUKES OF HAZAR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    OF THE SINGERS OF "ABC",        "I WANT YOU BACK", AND "BLAME IT ON THE BOOGI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5T17:18:33Z</dcterms:created>
  <dc:creator>Jennifer Budzinski</dc:creator>
  <dc:description/>
  <dc:language>en-US</dc:language>
  <cp:lastModifiedBy>Erich Friedman</cp:lastModifiedBy>
  <dcterms:modified xsi:type="dcterms:W3CDTF">2020-08-28T22:02:19Z</dcterms:modified>
  <cp:revision>444</cp:revision>
  <dc:subject/>
  <dc:title>Slide 1</dc:title>
</cp:coreProperties>
</file>