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A2883-5A9C-4C2F-B8AC-F775411AC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6B8E2-C454-4B61-84A1-EECE75F8A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38168-B6BF-4AF6-BA22-CF3C19C55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A2533-5674-4715-8EF3-2FFD3EF39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BBDC1-0494-4D02-B9CE-C2DD2E520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840A8-58F4-479F-B731-582465D17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8F35-9F4C-4F1F-A3A7-794BF20EE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62CE8-A818-4B97-B81A-4AAB68416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9EE4C-CBB3-44D3-9120-16519C5F5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C3319-AEFF-4424-8836-DC15985F1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CAC71-EE86-42AC-AB06-F61A5AB7E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3CB34-B827-47DD-90E9-E7CA57E58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2CD44-CAA7-49D9-9EFE-BD6A9E0EA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4873D-DC36-4855-9F39-61BDB4C95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651BC-FE98-4C9D-AB2F-5C77E1CC6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27F6-14D1-49E8-B5BD-CBE66B75E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4D14F-0295-4E7D-9D5F-76D413A5D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D9976-22C4-423E-AE39-FB34A820E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58DEB-C2BB-4F6A-898D-A9B5442E4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4FA27-22AF-447C-9019-6BC4E3843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6049D-58A9-4B07-9273-CA82F3A2A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5799C-BF2F-490D-8C35-520A1F15D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51F4F-0A85-44DC-ADBB-38C4B229B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PORT IS A "RINGER" SCORED WHEN THE HEEL CALKS CLEAR THE STAK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0060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BATR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IRD HAS THE LONGEST WINGSP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0060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OV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RENCH CALL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♥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HEARTS (OF COURSE),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♠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IKES,        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♦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ILES, AND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♣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19040" y="4800600"/>
            <a:ext cx="8305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EAMCATC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03 SCIENCE FICTION HORROR FILM BASED ON A STEPHEN KING NOVEL DO 4 BOYS ENCOUNTER PARASITIC ALIE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0060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DYB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066680" y="762120"/>
            <a:ext cx="7010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92 FILM DOES RODNEY DANGERFIELD COACH A GIRL'S SOCCER TE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00600"/>
            <a:ext cx="6858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SHB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ACK RUSSELL TERRIER FROM CHILDREN'S BOOKS AND TV WAS THE "LITTLE DOG WITH A BIG IMAGINATI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333440" y="480060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47640" y="762120"/>
            <a:ext cx="78487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pH OF A NEUTRAL SOLU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00600"/>
            <a:ext cx="5867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GINN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RISTOPHER PLUMMER BECAME THE OLDEST ACTOR EVER TO WIN AN OSCAR FOR PLAYING A NEWLY OUT DAD IN WHAT 2011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IRD HAS THE LONGEST WINGSP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04840" y="4800600"/>
            <a:ext cx="693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N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"BIG BANG THEORY" CHARACTER MARRIED LEONARD AT THE START OF THE SHOW'S 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SEA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00600"/>
            <a:ext cx="8382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RSESH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PORT IS A "RINGER" SCORED WHEN THE HEEL CALKS CLEAR THE STA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143000" y="480060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INGS  THAT  ARE  LUC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RENCH CALL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♥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HEARTS (OF COURSE),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♠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IKES,        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♦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ILES, AND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♣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03 SCIENCE FICTION HORROR FILM BASED ON A STEPHEN KING NOVEL DO 4 BOYS ENCOUNTER PARASITIC ALIE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92 FILM DOES RODNEY DANGERFIELD COACH A GIRL'S SOCCER TEA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ACK RUSSELL TERRIER FROM CHILDREN'S BOOKS AND TV WAS THE "LITTLE DOG WITH A BIG IMAGINATI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pH OF A NEUTRAL SOLU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RISTOPHER PLUMMER BECAME THE OLDEST ACTOR EVER TO WIN AN OSCAR FOR PLAYING A NEWLY OUT DAD IN WHAT 2011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"BIG BANG THEORY" CHARACTER MARRIED LEONARD AT THE START OF THE SHOW'S 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SEA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7T19:15:54Z</dcterms:created>
  <dc:creator>Jennifer Budzinski</dc:creator>
  <dc:description/>
  <dc:language>en-US</dc:language>
  <cp:lastModifiedBy>Erich Friedman</cp:lastModifiedBy>
  <dcterms:modified xsi:type="dcterms:W3CDTF">2020-08-28T22:04:02Z</dcterms:modified>
  <cp:revision>451</cp:revision>
  <dc:subject/>
  <dc:title>Slide 1</dc:title>
</cp:coreProperties>
</file>