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881B-2BB2-4417-9011-FEFA671C5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E3E2-47D4-4258-853B-863AF674E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9F63-DB06-446E-9276-EA254FC34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798D-4432-4DEC-B1E7-1783AE720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4BB0-3E30-40E4-84BF-066DF0CF0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D9AC-B482-42F6-9768-8100C2573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975F-12D3-45BD-9875-B3E89D254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1964-9A54-478D-9AC9-4B2B2A586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40F4-6240-49C2-9E43-778FB07BB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24BD-DE06-415D-98EF-EC5200EBC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A5F1-E455-412E-AF29-8573DEE5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A496-ACDD-4345-A820-20289CB35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A443-2510-4AA6-800C-09ECC82BA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FA39-E4A4-498A-A404-CCF30CFFC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DBE7-8175-42C9-B699-C5B914C2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36529-85F2-44D3-93EB-69473238C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9626-C8FD-4C4E-AB2B-704B25E17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1F52-2B57-4056-846E-E2E6C447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92D4-4410-4238-8217-03D7F3FB5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005C-B4D7-4A2B-9EDF-D450DB850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54D1-3BE6-47A0-ADC2-0EF4DFD1D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0A3EF-CB19-485E-BB64-BDC4821D9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F93A-AD6D-4724-B776-8A3542CD7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A "RINGER" SCORED WHEN THE HEEL CALKS CLEAR THE ST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0060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AT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HAS THE LONGEST WINGS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0060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CALL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EARTS (OF COURSE),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KES,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LES, AND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C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3 SCIENCE FICTION HORROR FILM BASED ON A STEPHEN KING NOVEL DO 4 BOYS ENCOUNTER PARASITIC ALI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B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2 FILM DOES RODNEY DANGERFIELD COACH A GIRL'S SOCCER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SH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CK RUSSELL TERRIER FROM CHILDREN'S BOOKS AND TV WAS THE "LITTLE DOG WITH A BIG IMAGIN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0060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H OF A NEUTRAL S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GINN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PLUMMER BECAME THE OLDEST ACTOR EVER TO WIN AN OSCAR FOR PLAYING A NEWLY OUT DAD IN WHAT 2011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HAS THE LONGEST WINGSP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0060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BIG BANG THEORY" CHARACTER MARRIED LEONARD AT THE START OF THE SHOW'S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SH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IS A "RINGER" SCORED WHEN THE HEEL CALKS CLEAR THE ST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ARE  LU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CALL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♥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HEARTS (OF COURSE),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♠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IKES,     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♦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LES, AND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♣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3 SCIENCE FICTION HORROR FILM BASED ON A STEPHEN KING NOVEL DO 4 BOYS ENCOUNTER PARASITIC ALI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2 FILM DOES RODNEY DANGERFIELD COACH A GIRL'S SOCCER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ACK RUSSELL TERRIER FROM CHILDREN'S BOOKS AND TV WAS THE "LITTLE DOG WITH A BIG IMAGIN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H OF A NEUTRAL S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OPHER PLUMMER BECAME THE OLDEST ACTOR EVER TO WIN AN OSCAR FOR PLAYING A NEWLY OUT DAD IN WHAT 2011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BIG BANG THEORY" CHARACTER MARRIED LEONARD AT THE START OF THE SHOW'S 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7T19:15:54Z</dcterms:created>
  <dc:creator>Jennifer Budzinski</dc:creator>
  <dc:description/>
  <dc:language>en-US</dc:language>
  <cp:lastModifiedBy>Erich Friedman</cp:lastModifiedBy>
  <dcterms:modified xsi:type="dcterms:W3CDTF">2020-08-28T22:04:02Z</dcterms:modified>
  <cp:revision>451</cp:revision>
  <dc:subject/>
  <dc:title>Slide 1</dc:title>
</cp:coreProperties>
</file>