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1BF-E53E-476F-9624-B3C617B8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42A-D4FB-4DF4-AFB2-551022FE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E47-41C4-46C1-933A-37E8560A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22F1-2F5E-4C9C-B072-D2534D49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545-5CC6-4231-B1CB-1607DF3CA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E56-8321-4CD7-960B-534A7432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08F-EFFD-4C11-981A-702CD07BF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1A9-34F0-4C09-99F9-84248A84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878-E359-447E-864D-5A8330C0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2FB-7DE1-4549-B599-A3BBD5C2C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9D7B-83C1-4E2F-AC95-E24F0C01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8FE-D999-4FD6-B960-C98C71F9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A94C-3E83-4F61-AF40-610D36B8A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78E2-CE14-429B-92E7-9FF081894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E4F-617E-4C8E-946F-AE330F7D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C00-364F-4526-8654-4A1E27AD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5E1-1C2B-470A-8D2A-72360BA1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579D-4BC6-4F0F-9699-CA8A7C14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F2F-CB81-4E49-9725-21D6A8A0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9E0-6EC2-4CEE-B362-B261FCB0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1CE-2F07-4443-98AA-1F349EBB4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113-48DB-4409-85F1-288B180B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AA1-B9F7-41D6-8EC6-59F8838C8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T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C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15:54Z</dcterms:created>
  <dc:creator>Jennifer Budzinski</dc:creator>
  <dc:description/>
  <dc:language>en-US</dc:language>
  <cp:lastModifiedBy>Erich Friedman</cp:lastModifiedBy>
  <dcterms:modified xsi:type="dcterms:W3CDTF">2020-08-28T22:04:02Z</dcterms:modified>
  <cp:revision>451</cp:revision>
  <dc:subject/>
  <dc:title>Slide 1</dc:title>
</cp:coreProperties>
</file>