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CC5F-F3E3-408F-90DB-1713AE379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F99D-82F1-4849-AFE5-18821596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E287-DA83-4AC1-9A13-AFCA56C0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06DB-3FEB-45FE-BAD4-A58DF9F67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0907-0215-44BD-B67F-F86C8981B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2F95-A2F7-4A59-A100-F928ECBE8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1651-5DCC-4B68-BCC9-E659EC066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2F07-B518-4F33-A632-B936CAB6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CABE-C7CC-4D76-8597-AD20BBBF3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F203-4EBA-46F7-9BB8-5C1317BE6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F3B2-DB8D-4810-8476-0BB293E0D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4246-7541-4A03-B23E-8B83EF14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4C63-2936-440D-AAD4-34AF51B2C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4102-958B-4110-848F-A5BAC162F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7BB4-3D21-4576-B962-8A815AB47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59C4-1D8C-4CDA-9E16-86C00D76C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4784-2CBC-43E8-82D4-FB844BC98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7B9A-3D81-41EF-B0D3-1C5ACB5AA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8359-5CA9-4DDF-A365-C14C765D4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8861-C682-4501-A717-01ABD687A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CCCB-92D5-4B87-A7D2-5F2311CD5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55966-5CD7-424D-B150-6540905B3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BACD-1DA2-4E6E-9242-B1D03F721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33240" y="762120"/>
            <a:ext cx="7877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SE CANDI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971800" y="2666880"/>
            <a:ext cx="320040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006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66920" y="762120"/>
            <a:ext cx="641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WORTH THE MOST POINTS IN SCRAB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86080" y="480060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77760" y="762120"/>
            <a:ext cx="7186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380880" y="762120"/>
            <a:ext cx="83822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PERCUSSION INSTRUMENT CAN BE USED TO SIGNAL A GRAND ENT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538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61800" y="782640"/>
            <a:ext cx="842040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DRANGE IPAD MODEL, BETWEEN REGULAR AND P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  (EMITTING  DI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95560" y="762120"/>
            <a:ext cx="675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 STAND FOR IN "L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  (JOHNS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27040" y="762120"/>
            <a:ext cx="808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A LAKER STAR WHO WAS, UNTIL RECENTLY, THEIR PRESIDENT OF OPER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  (GARFUNKE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011240" y="762120"/>
            <a:ext cx="7120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AUL SIMON'S MUSICAL PART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WORTH THE MOST POINTS IN SCRAB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873000" y="4251240"/>
            <a:ext cx="7429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ORTH  ATLANTIC  FREE)  TRADE  (ORGANIZ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619200" y="762120"/>
            <a:ext cx="7905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IN "NAFT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ONE OF THESE CANDI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3048120" y="2666880"/>
            <a:ext cx="3047760" cy="216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84280" y="4876920"/>
            <a:ext cx="617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3440" y="762120"/>
            <a:ext cx="82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PERCUSSION INSTRUMENT CAN BE USED TO SIGNAL A GRAND ENT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MIDRANGE IPAD MODEL, BETWEEN REGULAR AND P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L STAND FOR IN "L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2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LA LAKER STAR WHO WAS, UNTIL RECENTLY, THEIR PRESIDENT OF OPER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8480" y="762120"/>
            <a:ext cx="7005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PAUL SIMON'S MUSICAL PARTN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54160" y="762120"/>
            <a:ext cx="6834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IN "NAFT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8-28T22:05:19Z</dcterms:modified>
  <cp:revision>455</cp:revision>
  <dc:subject/>
  <dc:title>Slide 1</dc:title>
</cp:coreProperties>
</file>