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0F0A-22E9-4E0F-B5F7-8631B1DA0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2F2B-2058-46B2-AB9E-6169718F2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A98B-C98E-4EE9-9689-D4F64E5D6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39AE-BCCD-4963-B966-3A18523D8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4988-B438-4E80-B3AB-580952094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904B-F010-4095-9596-562E8DD7C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04D1-0D1D-4C4B-8E38-EC03979FD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3F63-3D5E-43FA-AF90-AA0F95D38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C4D0-5B01-4180-B301-0F0CF3C7A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26B5-169E-4F7C-AFAE-0830CBB1B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35C1-B913-4EFD-85A4-8DC8315C7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3653-82B4-4B53-945E-F7324CC1B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2057-5805-461F-9CE2-E96B9B8F9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595D-A5FD-4251-BE3A-14F674664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C33D-8E92-4111-AEFE-4AD3F5103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E0D3-95E2-4E6C-A89B-0CB04A63E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F16A-FA3A-41FE-A2E9-51E289FB8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BE26-D9E8-46B0-90A1-A4EA99BEB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A68C-DC80-4DF4-B29A-FF3FA678B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FEAB-8962-4AE9-A472-8215CAF54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6540-2EB6-4149-BC54-F80F98AE5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EF20-CDF1-4F4C-BF43-B85028D2B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7E47-2DC1-4C98-ABDE-D3E683689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OF THESE CANDI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20040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366920" y="762120"/>
            <a:ext cx="6410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WORTH THE MOST POINTS IN SCRAB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77760" y="762120"/>
            <a:ext cx="7186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O GOO DOLLS HAVE HAD TWO #1 SONGS: "IRIS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PERCUSSION INSTRUMENT CAN BE USED TO SIGNAL A GRAND ENT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538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61800" y="782640"/>
            <a:ext cx="842040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DRANGE IPAD MODEL, BETWEEN REGULAR AND P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  (EMITTING  DI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195560" y="762120"/>
            <a:ext cx="675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 STAND FOR IN "L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  (JOHN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27040" y="762120"/>
            <a:ext cx="808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A LAKER STAR WHO WAS, UNTIL RECENTLY, THEIR PRESIDENT OF OPER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  (GARFUNK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011240" y="762120"/>
            <a:ext cx="7120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AUL SIMON'S MUSICAL PART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WORTH THE MOST POINTS IN SCRAB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873000" y="4251240"/>
            <a:ext cx="7429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ORTH  ATLANTIC  FREE)  TRADE  (ORGANIZ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619200" y="762120"/>
            <a:ext cx="7905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T" IN "NAFT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OF THESE CANDI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304776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84280" y="4876920"/>
            <a:ext cx="617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H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O GOO DOLLS HAVE HAD TWO #1 SONGS: "IRIS"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3440" y="762120"/>
            <a:ext cx="82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PERCUSSION INSTRUMENT CAN BE USED TO SIGNAL A GRAND ENT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DRANGE IPAD MODEL, BETWEEN REGULAR AND P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 STAND FOR IN "L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2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A LAKER STAR WHO WAS, UNTIL RECENTLY, THEIR PRESIDENT OF OPER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8480" y="762120"/>
            <a:ext cx="700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AUL SIMON'S MUSICAL PART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54160" y="762120"/>
            <a:ext cx="6834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T" IN "NAFT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28T22:05:19Z</dcterms:modified>
  <cp:revision>455</cp:revision>
  <dc:subject/>
  <dc:title>Slide 1</dc:title>
</cp:coreProperties>
</file>