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BA4-5412-487E-9704-E4343C77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8B13-F469-44CD-9814-284B3CF7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D77D-E695-4F40-B704-456E94AF4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A120-440E-4D3C-A224-8CAEF12E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876-AEC0-4629-95BA-D7674081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20A3-A29C-4DFF-981E-B466C04D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C583-B1CF-4122-9E0C-C695959B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A33-843C-4D53-AB08-3551EF75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C58F-9D3F-47AC-913A-F86BC8DD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F38-DC0C-4E97-B23E-6EA48E5B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8A74-EE0F-4A19-9051-DAA6BA92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B3C3-8A77-4F54-A4C5-BDB52B51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D86-15BE-4A1E-AD33-39339AE6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FE55-7BD2-477A-8AF7-86534F21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CE2-6C93-4D07-A9F6-9E4EAF38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B13-57D6-40B8-AF26-4B61CE5B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BA07-2B90-4550-901D-AFA567E6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325-A072-455A-8585-0C79BFD9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072-A4E2-46F4-A47A-47FC16D2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436-74A4-4F0A-B7BC-9D899A5A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C26-5450-47E2-9AC6-FABEBCA0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47E-65C3-4BFD-91E1-B7A906A5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E717-62A5-4537-B99E-BC68BFF6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04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66920" y="762120"/>
            <a:ext cx="641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7760" y="762120"/>
            <a:ext cx="7186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53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61800" y="782640"/>
            <a:ext cx="84204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  (EMITTING  DI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95560" y="762120"/>
            <a:ext cx="67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27040" y="762120"/>
            <a:ext cx="808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(GARFUNK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11240" y="762120"/>
            <a:ext cx="71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251240"/>
            <a:ext cx="7429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  ATLANTIC  FREE)  TRADE  (ORGANIZ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04776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84280" y="4876920"/>
            <a:ext cx="617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8480" y="762120"/>
            <a:ext cx="70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54160" y="762120"/>
            <a:ext cx="68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5:19Z</dcterms:modified>
  <cp:revision>455</cp:revision>
  <dc:subject/>
  <dc:title>Slide 1</dc:title>
</cp:coreProperties>
</file>