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0A6-669B-4372-8F59-1770EC8BE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DCD2-E5C4-4E22-97E3-781C55F5F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41D-5AEA-4A72-8489-F0E85747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4CBD-1EB5-4A8E-A8FC-C3EAA6FB5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318E-B2EE-4C2C-B31F-3840C353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9F11-56A2-4EDD-B19A-49AC3A24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C82-7746-4903-95F1-B3615CC3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07EE-DFE7-4636-A7F6-788084C6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DB6B-525B-420F-83D6-CE7BFA2B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6E7-5442-4F1F-A7AF-5C951E9A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5BDE-E3C7-44C7-9883-02AC9B5C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025B-C561-4A88-A1CA-8DC44EC9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C555-F18A-4466-8BF2-19B16F6B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D69-0672-4263-8C57-95FE0BAD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FE11-A8B3-474B-AB36-DA217F43D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5983-BF57-4031-8197-9ADCA788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FEF-7F38-40BB-8404-54D6784F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4F60-A05C-4C7A-AA31-1F5EC60E3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A914-D906-4D1A-BF40-F3431BBA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2298-E1F7-4C0E-ADA0-27FCE8D77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1046-7245-4E9D-A325-A09729D77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962-2B89-4236-BC9E-54B96D6A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F353-988B-4978-AF6E-90A98564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BLAKE      POEM IS ABOUT AN ANIMAL "BURNING BRIGHT IN THE FORESTS OF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STELLO'S COMEDY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ETRO)  GOLDWYN  (MAY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G" IN "MG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228600" y="48769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990720"/>
            <a:ext cx="403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TCH IS THIS THE SYMBO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BLAIR.jpg"/>
          <p:cNvPicPr/>
          <p:nvPr/>
        </p:nvPicPr>
        <p:blipFill>
          <a:blip r:embed="rId1"/>
          <a:stretch/>
        </p:blipFill>
        <p:spPr>
          <a:xfrm>
            <a:off x="5257800" y="838080"/>
            <a:ext cx="34434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58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THIS IS US" CHARACTER IS PLAYED BY STERLING K. BROWN (AGE 37), NILES FITCH (AGE 15), AND LONNIE CHAVIS (AGE 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COMIC STRIP DID CARTOONIST RAY BILLINGSLEY BASE ON HIS OWN HARLEM CHILD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ME SOLVERS ON TV'S "SPENSER FOR HIRE" AND "TWIN PEAKS" BOTH HAD SIDEKICKS WITH WHAT AVIA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MOST VISITED WATER PARKS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STELLO'S COMEDY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CAL RANGE IS REQUIRED TO PLAY EITHER PAMINA OR THE QUEEN OF THE NIGHT IN MOZART'S OPERA THE MAGIC FL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BLAKE POEM IS ABOUT AN ANIMAL "BURNING BRIGHT IN THE FORESTS OF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430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WITH  FIRST  NAME  T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G" IN "MG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1219320"/>
            <a:ext cx="396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TCH IS THIS THE SYMBO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BLAIR.jpg"/>
          <p:cNvPicPr/>
          <p:nvPr/>
        </p:nvPicPr>
        <p:blipFill>
          <a:blip r:embed="rId1"/>
          <a:stretch/>
        </p:blipFill>
        <p:spPr>
          <a:xfrm>
            <a:off x="5257800" y="838080"/>
            <a:ext cx="34434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THIS IS US" CHARACTER IS PLAYED BY STERLING K. BROWN (AGE 37), NILES FITCH (AGE 15), AND LONNIE CHAVIS (AGE 9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COMIC STRIP DID CARTOONIST RAY BILLINGSLEY BASE ON HIS OWN HARLEM CHILD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ME SOLVERS ON TV'S "SPENSER FOR HIRE" AND "TWIN PEAKS" BOTH HAD SIDEKICKS WITH WHAT AVIA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MOST VISITED WATER PARKS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CAL RANGE IS REQUIRED TO PLAY EITHER PAMINA OR THE QUEEN OF THE NIGHT IN MOZART'S OPERA THE MAGIC FLU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9:50:29Z</dcterms:created>
  <dc:creator>Jennifer Budzinski</dc:creator>
  <dc:description/>
  <dc:language>en-US</dc:language>
  <cp:lastModifiedBy>Erich Friedman</cp:lastModifiedBy>
  <dcterms:modified xsi:type="dcterms:W3CDTF">2020-08-28T22:06:30Z</dcterms:modified>
  <cp:revision>453</cp:revision>
  <dc:subject/>
  <dc:title>Slide 1</dc:title>
</cp:coreProperties>
</file>