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84A0-A0BB-42C6-8B66-22D5609FB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2D76-A3D5-4746-BEC9-5748297B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56C7-439F-4FAB-A2E4-9208DE27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EC6-C2FD-4343-81C5-32A5AB9C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0D5D-C834-4431-9B97-13774DA87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1C4B-7173-4E78-B756-63B6E8B64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D982-9EAC-4F11-9298-51B29D0C6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E4F-AA33-4442-ACF5-8BAECFA6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E87-5460-4C1B-B9B8-F6D24A9C1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6716-F0D6-4EB7-A7E4-41B1A278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5FEE-0B7B-4BD5-A5A2-A7278556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6843-94D4-4F11-B4C2-D73E36F86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2AE-A407-43CD-8AF8-95A118BD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7186-CC9F-4292-937B-5C1F3975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EE5B-BE7E-4CA9-BD8D-11C8B2030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CC70-19F3-4F87-907E-508DD2C1F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BAB7-005B-414C-AC79-373CB68E6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2B0D-1A37-4666-86EA-05834AC47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4A94-A360-4CA5-A2BC-869CC507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E75A-696D-4CD0-8493-84C664B0C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6B36-D34B-453F-8D87-04F1E5722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FA30-954F-4FFC-BCFB-EB578527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4D78-425C-419C-BC9D-E7E27B96D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     POEM IS ABOUT AN ANIMAL "BURNING BRIGHT IN THE FORESTS OF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ETRO)  GOLDWYN  (MAY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28600" y="4876920"/>
            <a:ext cx="4876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990720"/>
            <a:ext cx="403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588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STELLO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BLAKE POEM IS ABOUT AN ANIMAL "BURNING BRIGHT IN THE FORESTS OF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26708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WITH  FIRST  NAME  T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G" IN "MG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1219320"/>
            <a:ext cx="396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TCH IS THIS THE SYMBO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BLAIR.jpg"/>
          <p:cNvPicPr/>
          <p:nvPr/>
        </p:nvPicPr>
        <p:blipFill>
          <a:blip r:embed="rId1"/>
          <a:stretch/>
        </p:blipFill>
        <p:spPr>
          <a:xfrm>
            <a:off x="5257800" y="838080"/>
            <a:ext cx="34434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THIS IS US" CHARACTER IS PLAYED BY STERLING K. BROWN (AGE 37), NILES FITCH (AGE 15), AND LONNIE CHAVIS (AGE 9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COMIC STRIP DID CARTOONIST RAY BILLINGSLEY BASE ON HIS OWN HARLEM CHILD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ME SOLVERS ON TV'S "SPENSER FOR HIRE" AND "TWIN PEAKS" BOTH HAD SIDEKICKS WITH WHAT AVIA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MOST VISITED WATER PARKS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CAL RANGE IS REQUIRED TO PLAY EITHER PAMINA OR THE QUEEN OF THE NIGHT IN MOZART'S OPERA THE MAGIC FL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50:29Z</dcterms:created>
  <dc:creator>Jennifer Budzinski</dc:creator>
  <dc:description/>
  <dc:language>en-US</dc:language>
  <cp:lastModifiedBy>Erich Friedman</cp:lastModifiedBy>
  <dcterms:modified xsi:type="dcterms:W3CDTF">2020-08-28T22:06:30Z</dcterms:modified>
  <cp:revision>453</cp:revision>
  <dc:subject/>
  <dc:title>Slide 1</dc:title>
</cp:coreProperties>
</file>