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373D-6854-48A8-89AF-14D44DE1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E75C-634A-4CD8-A637-7222C7AC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0657-A450-4EBA-AEB0-A3E234741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C7CB-BDD9-4F46-9E19-8B1911F97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2541-44E3-436E-92C6-BD4F4C55B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BE11-8CD2-41EC-84F8-32F97FA32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E141-2559-4CCC-9960-FF05F69B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071-231D-4152-A056-D0B847DB0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9AD6-FD78-4AD7-922E-3A71A849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38C0-D8F9-40BC-B887-AC327E16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B65-00A6-4E8D-BA9B-DEE69211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4E17-470A-40D5-9256-9B270B1DB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FAF1-5A63-49A4-8862-701212997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233-D56E-43F9-8E9A-68170A68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DF42-0B9C-440C-885A-B8FE23CA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B25-61FD-4896-9A66-4A5F6E9ED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5E4-28F2-4043-A93D-FE4AFFF75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32F9-19CC-4706-B80C-3A386188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597A-FC37-4294-8E3E-23FDF466C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373C-649D-4EBB-A670-F5323D71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912B-241C-4231-93F0-7916236B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2484-36C7-4D32-9A78-74306672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4690-F208-4521-961D-82717038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BLAKE      POEM IS ABOUT AN ANIMAL "BURNING BRIGHT IN THE FORESTS OF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STELLO'S COMEDY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ETRO)  GOLDWYN  (MAY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G" IN "MG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228600" y="48769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990720"/>
            <a:ext cx="4038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TCH IS THIS THE SYMBO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BLAIR.jpg"/>
          <p:cNvPicPr/>
          <p:nvPr/>
        </p:nvPicPr>
        <p:blipFill>
          <a:blip r:embed="rId1"/>
          <a:stretch/>
        </p:blipFill>
        <p:spPr>
          <a:xfrm>
            <a:off x="5257800" y="838080"/>
            <a:ext cx="34434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58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THIS IS US" CHARACTER IS PLAYED BY STERLING K. BROWN (AGE 37), NILES FITCH (AGE 15), AND LONNIE CHAVIS (AGE 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COMIC STRIP DID CARTOONIST RAY BILLINGSLEY BASE ON HIS OWN HARLEM CHILD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ME SOLVERS ON TV'S "SPENSER FOR HIRE" AND "TWIN PEAKS" BOTH HAD SIDEKICKS WITH WHAT AVIA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MOST VISITED WATER PARKS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STELLO'S COMEDY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CAL RANGE IS REQUIRED TO PLAY EITHER PAMINA OR THE QUEEN OF THE NIGHT IN MOZART'S OPERA THE MAGIC FL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BLAKE POEM IS ABOUT AN ANIMAL "BURNING BRIGHT IN THE FORESTS OF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43000" y="426708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WITH  FIRST  NAME  T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G" IN "MG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1219320"/>
            <a:ext cx="396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TCH IS THIS THE SYMBO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BLAIR.jpg"/>
          <p:cNvPicPr/>
          <p:nvPr/>
        </p:nvPicPr>
        <p:blipFill>
          <a:blip r:embed="rId1"/>
          <a:stretch/>
        </p:blipFill>
        <p:spPr>
          <a:xfrm>
            <a:off x="5257800" y="838080"/>
            <a:ext cx="34434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THIS IS US" CHARACTER IS PLAYED BY STERLING K. BROWN (AGE 37), NILES FITCH (AGE 15), AND LONNIE CHAVIS (AGE 9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COMIC STRIP DID CARTOONIST RAY BILLINGSLEY BASE ON HIS OWN HARLEM CHILD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ME SOLVERS ON TV'S "SPENSER FOR HIRE" AND "TWIN PEAKS" BOTH HAD SIDEKICKS WITH WHAT AVIA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MOST VISITED WATER PARKS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CAL RANGE IS REQUIRED TO PLAY EITHER PAMINA OR THE QUEEN OF THE NIGHT IN MOZART'S OPERA THE MAGIC FLU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9:50:29Z</dcterms:created>
  <dc:creator>Jennifer Budzinski</dc:creator>
  <dc:description/>
  <dc:language>en-US</dc:language>
  <cp:lastModifiedBy>Erich Friedman</cp:lastModifiedBy>
  <dcterms:modified xsi:type="dcterms:W3CDTF">2020-08-28T22:06:30Z</dcterms:modified>
  <cp:revision>453</cp:revision>
  <dc:subject/>
  <dc:title>Slide 1</dc:title>
</cp:coreProperties>
</file>