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842E-4A91-40C5-9B68-EE53B1392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9A85-97B5-4201-962C-39F23EE6E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6EF0-3647-417E-ADCA-610F6FB60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CC0F-5E75-4621-B58C-A916F6C21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B096-53C7-48E2-890B-CA5D58E4C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ECD1-F42A-4B93-AB3E-442EF523B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6617-AD86-47FA-8BB7-382FE0349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C5D6-B1EE-4B5E-AAE3-B5AE0EF45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A89A-A8CB-4A95-9826-47F38C845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0983-7706-4FC9-B9A7-8F5B3272B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7914-1EFA-41B1-8054-7FA06B7FE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A3D7-9446-469B-8E5D-C68133648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FA9F-961A-41BC-9B8F-C46F12424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3593-E4A8-4740-A32E-AA5775D0F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7848-CA26-44AE-A795-EAA06B33F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EC47-E6BE-4B8F-BC2D-B7E474BDC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BD0C-662A-44B1-91B8-8766D5FF5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D4B1-42E5-4F77-BA68-75072D5B8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E3CD-F46E-4631-A74D-5FA9F2FC9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A912-E96E-42BF-9301-9AA05491D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5C8B-EF20-4943-B2E5-B4F357E1E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BA73-1283-4F70-931B-BC17B3391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E045-EC6F-4ADD-8B21-75D3C5CCB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0666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 (THANKS MARGI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63080" y="762120"/>
            <a:ext cx="8815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TES ARE THE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"/>
          <p:cNvPicPr/>
          <p:nvPr/>
        </p:nvPicPr>
        <p:blipFill>
          <a:blip r:embed="rId1"/>
          <a:stretch/>
        </p:blipFill>
        <p:spPr>
          <a:xfrm>
            <a:off x="1771560" y="2066760"/>
            <a:ext cx="5600880" cy="25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0060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779400" y="762120"/>
            <a:ext cx="7583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3 TYPES OF POSITION IN BASKETBALL ARE CENTER, FORWARD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486080" y="48006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722160" y="762120"/>
            <a:ext cx="7699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GYPTIAN HIEROGLYPH THAT IS PRONOUNCED   LIKE A "D" IS A PICTURE OF   WHAT PIECE OF THE BODY, WHOSE NAME ENDS IN "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006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380880" y="762120"/>
            <a:ext cx="83822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BOTH THE GOLDEN GLOBE NOMINATED ACTORS DIANE AND NATH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34800" y="480060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380880" y="771480"/>
            <a:ext cx="842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EKLY MAGAZINE HAS THE LARGEST CIRCUL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IA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781200" y="762120"/>
            <a:ext cx="7581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IT HAS A SOLO IN THE THIRD MOVEMENT, FRANZ LISZT'S PIANO CONCERTO NO. 1 IS NAMED FOR WHAT INSTRU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947880" y="762120"/>
            <a:ext cx="7248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6 FILM DOES ADAM SANDLER HAVE A REMOTE CONTROL THAT CONTROLS EVERYTH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600200" y="480060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HE  WEST)  W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811080" y="762120"/>
            <a:ext cx="7521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TITLE OF THE HIGHEST RATED POLITICAL DRAMA TV SERIES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09640" y="762120"/>
            <a:ext cx="7524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3 TYPES OF POSITION IN BASKETBALL ARE CENTER, FORWARD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873000" y="4815000"/>
            <a:ext cx="74296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635040" y="776160"/>
            <a:ext cx="79056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WORD BECOMES ITS OPPOSITE WHEN A "T" IS ADDED TO THE BEGINNING OF THE W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80880" y="4800600"/>
            <a:ext cx="83822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TES ARE THE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2" descr=""/>
          <p:cNvPicPr/>
          <p:nvPr/>
        </p:nvPicPr>
        <p:blipFill>
          <a:blip r:embed="rId1"/>
          <a:stretch/>
        </p:blipFill>
        <p:spPr>
          <a:xfrm>
            <a:off x="1876320" y="2133720"/>
            <a:ext cx="5391360" cy="24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427040" y="4800600"/>
            <a:ext cx="6288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RIGHT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11360" y="761760"/>
            <a:ext cx="7721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GYPTIAN HIEROGLYPH THAT IS PRONOUNCED   LIKE A "D" IS A PICTURE OF  WHAT PIECE OF THE BODY, WHOSE NAME ENDS IN "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33440" y="762120"/>
            <a:ext cx="8277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BOTH THE GOLDEN GLOBE NOMINATED ACTORS DIANE AND NATH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61800" y="762120"/>
            <a:ext cx="8420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EKLY MAGAZINE HAS THE LARGEST CIRCUL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6800" y="762120"/>
            <a:ext cx="7610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IT HAS A SOLO IN THE THIRD MOVEMENT, FRANZ LISZT'S PIANO CONCERTO NO. 1 IS NAMED FOR WHAT INSTRU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52400" y="761760"/>
            <a:ext cx="7639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6 FILM DOES ADAM SANDLER HAVE A REMOTE CONTROL THAT CONTROLS EVERYTH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9880" y="762120"/>
            <a:ext cx="7464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TITLE OF THE HIGHEST RATED POLITICAL DRAMA TV SERIES E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76360" y="762120"/>
            <a:ext cx="7989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WORD BECOMES ITS OPPOSITE WHEN A "T" IS ADDED TO THE BEGINNING OF THE WO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08-28T22:07:46Z</dcterms:modified>
  <cp:revision>462</cp:revision>
  <dc:subject/>
  <dc:title>Slide 1</dc:title>
</cp:coreProperties>
</file>