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D00E-7B93-46FD-BB15-ECA12B87C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D64F-17EE-424A-A7C3-7CC6965CD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54B7-6B1B-46E4-A461-8994961E9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E3A0-932E-41EC-A062-5C8C2C1A4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20C6-6CD8-456C-AA24-337F36B53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02AB-221D-4D0B-AA36-123E09D72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049F-5925-4DC6-A655-CC03898D4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9DDF-2737-4243-AEEA-203FA6553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B54E-EAB5-49CC-8AC3-C89E973E4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A2C1-CF14-4E24-A351-0F325EBAF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2627-944B-49E2-9985-F57CC22DF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B379-FD4D-46C4-9A77-D6DEBC3C5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74BF-AA2B-4194-864C-A143E48E8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84D3-E72B-4096-8D5F-AD7C9D8A3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210D-9BA1-430D-B7F2-54C3B7348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651C-E0F4-48E5-8C95-F2E27D266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2BC1-872E-41B4-8E0A-8BB5A70AD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ECC3-8470-480A-9FF3-B08970B68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A302-44C8-413C-91C4-2CC5F64B0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A8D9-B844-4B4C-8339-19B1F8577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6FC3-3843-4479-A61D-E451AEE16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EBEB-64C2-4116-BAF2-BE7662D0D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EC1D-82CD-4D59-AAC5-0E9C4D7E0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0666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63080" y="762120"/>
            <a:ext cx="8815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1771560" y="2066760"/>
            <a:ext cx="5600880" cy="25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006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779400" y="762120"/>
            <a:ext cx="7583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TYPES OF POSITION IN BASKETBALL ARE CENTER, FORWARD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722160" y="762120"/>
            <a:ext cx="769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GYPTIAN HIEROGLYPH THAT IS PRONOUNCED   LIKE A "D" IS A PICTURE OF   WHAT PIECE OF THE BODY, WHOSE NAME ENDS IN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BOTH THE GOLDEN GLOBE NOMINATED ACTORS DIANE AND NATH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3480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380880" y="771480"/>
            <a:ext cx="842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MAGAZINE HAS THE LARGEST CIRC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IT HAS A SOLO IN THE THIRD MOVEMENT, FRANZ LISZT'S PIANO CONCERTO NO. 1 IS NAMED FOR WHAT INSTRU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47880" y="762120"/>
            <a:ext cx="7248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6 FILM DOES ADAM SANDLER HAVE A REMOTE CONTROL THAT CONTROLS EVERY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  WEST)  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11080" y="762120"/>
            <a:ext cx="7521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HIGHEST RATED POLITICAL DRAMA TV SERIES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09640" y="762120"/>
            <a:ext cx="752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TYPES OF POSITION IN BASKETBALL ARE CENTER, FORWARD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873000" y="4815000"/>
            <a:ext cx="74296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635040" y="776160"/>
            <a:ext cx="7905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BECOMES ITS OPPOSITE WHEN A "T" IS ADDED TO THE BEGINNING OF THE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00600"/>
            <a:ext cx="8382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1876320" y="2133720"/>
            <a:ext cx="5391360" cy="24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427040" y="4800600"/>
            <a:ext cx="628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RIGH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11360" y="761760"/>
            <a:ext cx="772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GYPTIAN HIEROGLYPH THAT IS PRONOUNCED   LIKE A "D" IS A PICTURE OF  WHAT PIECE OF THE BODY, WHOSE NAME ENDS IN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33440" y="762120"/>
            <a:ext cx="82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BOTH THE GOLDEN GLOBE NOMINATED ACTORS DIANE AND NATH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MAGAZINE HAS THE LARGEST CIRC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6800" y="762120"/>
            <a:ext cx="7610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IT HAS A SOLO IN THE THIRD MOVEMENT, FRANZ LISZT'S PIANO CONCERTO NO. 1 IS NAMED FOR WHAT INSTRU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52400" y="761760"/>
            <a:ext cx="7639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6 FILM DOES ADAM SANDLER HAVE A REMOTE CONTROL THAT CONTROLS EVERYTH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9880" y="762120"/>
            <a:ext cx="7464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HIGHEST RATED POLITICAL DRAMA TV SERIES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6360" y="762120"/>
            <a:ext cx="7989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BECOMES ITS OPPOSITE WHEN A "T" IS ADDED TO THE BEGINNING OF THE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8-28T22:07:46Z</dcterms:modified>
  <cp:revision>462</cp:revision>
  <dc:subject/>
  <dc:title>Slide 1</dc:title>
</cp:coreProperties>
</file>