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474B-92AE-405F-BD27-48F5829CE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461D-6E66-4D4C-B3A5-C9846848B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E9B1-5546-4B4B-8F71-B82996217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2800-029D-4746-AA8B-D16800E55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FA05-1365-4501-B90C-F3BAE0242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A610-97E4-4B18-ACE5-A220DE6E1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0E9D-0488-4DB2-A020-B5DBBD734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9437-F2D1-4277-B7ED-F7F7DED6D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9928-7C63-40B5-B4BF-C3408A75F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DF33-A45A-4F33-9138-4FC39A4AF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BE6C-4408-46EE-90B1-FB4800230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6CF7-B9D3-456D-BA1D-B2781AA2A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0189-E59C-4ECF-A14D-4B94C8C25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BFAC-2DDF-49E5-BFF8-750C9264D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79F7-1015-4551-8969-9D4BEBCDF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FC59-E949-4D40-8B58-1AECA117F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16D8-754A-47D7-BC71-09C1B0CF3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5CCD-6B17-4B7D-87AF-54A531C7C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78A8-98B8-46AD-9D25-9F995B523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6D54-36A9-4860-8F27-C8D28F904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2FB1-DF2B-4556-92DE-6BD561F25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D49D-5C63-41B0-9938-E5CB5C03D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E829-7914-4B22-BBD4-5F1B7E07A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0666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63080" y="762120"/>
            <a:ext cx="8815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TES ARE THE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1"/>
          <a:stretch/>
        </p:blipFill>
        <p:spPr>
          <a:xfrm>
            <a:off x="1771560" y="2066760"/>
            <a:ext cx="5600880" cy="25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0060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779400" y="762120"/>
            <a:ext cx="7583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3 TYPES OF POSITION IN BASKETBALL ARE CENTER, FORWARD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486080" y="4800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722160" y="762120"/>
            <a:ext cx="769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GYPTIAN HIEROGLYPH THAT IS PRONOUNCED   LIKE A "D" IS A PICTURE OF   WHAT PIECE OF THE BODY, WHOSE NAME ENDS IN "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380880" y="762120"/>
            <a:ext cx="8382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BOTH THE GOLDEN GLOBE NOMINATED ACTORS DIANE AND NATH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3480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380880" y="771480"/>
            <a:ext cx="842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EKLY MAGAZINE HAS THE LARGEST CIRCU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781200" y="762120"/>
            <a:ext cx="7581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IT HAS A SOLO IN THE THIRD MOVEMENT, FRANZ LISZT'S PIANO CONCERTO NO. 1 IS NAMED FOR WHAT INSTRU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947880" y="762120"/>
            <a:ext cx="7248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6 FILM DOES ADAM SANDLER HAVE A REMOTE CONTROL THAT CONTROLS EVERY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600200" y="48006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HE  WEST)  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811080" y="762120"/>
            <a:ext cx="7521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HIGHEST RATED POLITICAL DRAMA TV SERIES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09640" y="762120"/>
            <a:ext cx="7524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3 TYPES OF POSITION IN BASKETBALL ARE CENTER, FORWARD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873000" y="4815000"/>
            <a:ext cx="74296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635040" y="776160"/>
            <a:ext cx="79056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BECOMES ITS OPPOSITE WHEN A "T" IS ADDED TO THE BEGINNING OF THE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00600"/>
            <a:ext cx="83822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TES ARE TH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1876320" y="2133720"/>
            <a:ext cx="5391360" cy="24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427040" y="4800600"/>
            <a:ext cx="628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RIGH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11360" y="761760"/>
            <a:ext cx="7721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GYPTIAN HIEROGLYPH THAT IS PRONOUNCED   LIKE A "D" IS A PICTURE OF  WHAT PIECE OF THE BODY, WHOSE NAME ENDS IN "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33440" y="762120"/>
            <a:ext cx="8277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BOTH THE GOLDEN GLOBE NOMINATED ACTORS DIANE AND NATH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EKLY MAGAZINE HAS THE LARGEST CIRCUL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6800" y="762120"/>
            <a:ext cx="7610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IT HAS A SOLO IN THE THIRD MOVEMENT, FRANZ LISZT'S PIANO CONCERTO NO. 1 IS NAMED FOR WHAT INSTRU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52400" y="761760"/>
            <a:ext cx="7639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6 FILM DOES ADAM SANDLER HAVE A REMOTE CONTROL THAT CONTROLS EVERYTH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9880" y="762120"/>
            <a:ext cx="7464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HIGHEST RATED POLITICAL DRAMA TV SERIES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6360" y="762120"/>
            <a:ext cx="7989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BECOMES ITS OPPOSITE WHEN A "T" IS ADDED TO THE BEGINNING OF THE 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8-28T22:07:46Z</dcterms:modified>
  <cp:revision>462</cp:revision>
  <dc:subject/>
  <dc:title>Slide 1</dc:title>
</cp:coreProperties>
</file>