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8E71-72D4-468C-937E-E7ADF67D3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D001-04EC-430F-977D-6B9951BF3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5DA2-29C4-4C74-9720-E9D229808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0AF6-6E13-41E4-AF74-8AB375E87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C665-005E-495F-AB4A-8A0A9E7BD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F4F5-7C84-4889-ABE4-F951ECAE9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07C3-F810-4014-A3C0-18D8FE732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5DF8-1F00-4459-B9FA-CA0F1B811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2957-9D31-4A08-999F-458FF759B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A873-0746-4D79-A778-1579911D2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3742-E9EB-4700-B973-29D89A000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1A2F-EB8B-48E1-ABE5-7A988ADE6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139E-BC2E-4843-8530-CE8416B2E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B134-17F8-4DEC-B481-0C2E4329B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E29F-C8C5-452E-84E5-1576E0DEA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CCFA-F404-46D4-897C-6EEDDCBC1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08E6-7F1B-4D01-9593-94BAFDD75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71AF-82AA-4FF3-965D-F40E7B75E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666B-C92B-4E28-91CC-2D366BF1D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24A9-6AC6-4760-B6F6-D572D6E1F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3604-0753-40E7-9050-8CE6F5ED7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55C5-E609-4A0E-A89B-78116785B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D4EA-463D-40D8-A6DF-ECA97DE51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SPORTS NICKNAME OF PENN STATE, LOYOLA MARYMOUNT, AND COLUMB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N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'S THEME SONG FOR ITS ANIMATED TV SPECIALS IS CALLED "LINUS AND LUC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LI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YTHOLOGY, WHAT PATRON OF EPIC POETRY DID OVID CALL THE "CHIEF OF ALL THE MUS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PH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028880" y="762120"/>
            <a:ext cx="7086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SYMBOL FOR THE REPUBLICAN PA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ROB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DUCT SUITE DID ADOBE INTRODUCE IN 1993 TO MANAGE ITS NEW PDF FILE FORMAT FOR DOCU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EE  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FIRST LINE OF A J.R.R. TOLKIEN POEM, WHAT DID SAURON MAKE "FOR THE ELVEN-KINGS UNDER THE SK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0" y="990720"/>
            <a:ext cx="3581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VOCETS ARE IN WHAT FAMILY OF BI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Pied_Avocet_Recurvirostra_avosetta.jpg"/>
          <p:cNvPicPr/>
          <p:nvPr/>
        </p:nvPicPr>
        <p:blipFill>
          <a:blip r:embed="rId1"/>
          <a:stretch/>
        </p:blipFill>
        <p:spPr>
          <a:xfrm>
            <a:off x="3733920" y="114300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ILEY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IRISH CREAM LIQU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'S THEME SONG FOR ITS ANIMATED TV SPECIALS IS CALLED "LINUS AND LUC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CL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TEPHEN KING'S NOVEL "IT", WHAT DOES "IT" USUALLY APPEAR TO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SPORTS NICKNAME OF PENN STATE, LOYOLA MARYMOUNT, AND COLUMB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19320" y="434340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HAVING  TO  DO  WITH  THE  CIR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YTHOLOGY, WHAT PATRON OF EPIC POETRY DID OVID CALL THE "CHIEF OF ALL THE MUS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SYMBOL FOR THE REPUBLICAN PA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DUCT SUITE DID ADOBE INTRODUCE IN 1993 TO MANAGE ITS NEW PDF FILE FORMAT FOR DOCU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FIRST LINE OF A J.R.R. TOLKIEN POEM, WHAT DID SAURON MAKE "FOR THE ELVEN-KINGS UNDER THE SK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-360" y="990360"/>
            <a:ext cx="3505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VOCETS ARE IN WHAT FAMILY OF BI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Pied_Avocet_Recurvirostra_avosetta.jpg"/>
          <p:cNvPicPr/>
          <p:nvPr/>
        </p:nvPicPr>
        <p:blipFill>
          <a:blip r:embed="rId1"/>
          <a:stretch/>
        </p:blipFill>
        <p:spPr>
          <a:xfrm>
            <a:off x="3733920" y="114300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IRISH CREAM LIQU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TEPHEN KING'S NOVEL "IT", WHAT DOES "IT" USUALLY APPEAR TO 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2T16:34:17Z</dcterms:created>
  <dc:creator>Jennifer Budzinski</dc:creator>
  <dc:description/>
  <dc:language>en-US</dc:language>
  <cp:lastModifiedBy>Erich Friedman</cp:lastModifiedBy>
  <dcterms:modified xsi:type="dcterms:W3CDTF">2020-08-28T22:47:07Z</dcterms:modified>
  <cp:revision>431</cp:revision>
  <dc:subject/>
  <dc:title>Slide 1</dc:title>
</cp:coreProperties>
</file>