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27EE-2B6C-4FB9-A5BF-17711202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A149-B9B1-4C0F-907C-209E4B13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D782-70D2-46DA-8BAD-FF24EE675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2126-1D2B-4512-8588-4C22797E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D84D-0B14-47A8-B32F-1411F71B7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18B-EA60-4D53-BC4C-60EEA90FE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3B80-4AF8-4304-B275-A5F52C9CF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BF9B-9372-4203-8E48-45119F414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93B0-C171-44B4-B071-7A8EE9C2E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41C1-0159-4CDD-9C6B-BFAEAE3FF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009F-B716-4F35-988C-1366A2B6A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9B9-5C47-4259-9694-8BBCF0691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324C-7BF1-4274-A653-900508C6E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B382-225D-41DC-AB93-2596AE00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FC97-D857-4BB0-851E-62521AB83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85B0-4354-433D-8AB3-4AD9417ED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BF9-3E14-4951-927E-E975D6B7D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5F85-5A3E-4729-A61E-B9E9588A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256A-AC62-4BDC-91A3-2F6115CEB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D16D-70A8-4A64-969C-81C9767AE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A76F-C12F-486F-84EF-F60201F4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C2F0-A559-4F52-B2F2-1BF7D8F5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AB1A-7A5E-4AAB-9842-A25796B4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PORTS NICKNAME OF PENN STATE, LOYOLA MARYMOUNT, AND COLUM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THEME SONG FOR ITS ANIMATED TV SPECIALS IS CALLED "LINUS AND LUC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I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YTHOLOGY, WHAT PATRON OF EPIC POETRY DID OVID CALL THE "CHIEF OF ALL THE MU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28880" y="76212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YMBOL FOR THE REPUBLICAN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RO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ITE DID ADOBE INTRODUCE IN 1993 TO MANAGE ITS NEW PDF FILE FORMAT FOR DOCU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A J.R.R. TOLKIEN POEM, WHAT DID SAURON MAKE "FOR THE ELVEN-KINGS UNDER THE SK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990720"/>
            <a:ext cx="358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OCETS ARE IN WHAT FAMILY OF BI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Pied_Avocet_Recurvirostra_avosetta.jpg"/>
          <p:cNvPicPr/>
          <p:nvPr/>
        </p:nvPicPr>
        <p:blipFill>
          <a:blip r:embed="rId1"/>
          <a:stretch/>
        </p:blipFill>
        <p:spPr>
          <a:xfrm>
            <a:off x="3733920" y="11430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ILE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RISH CREAM LIQU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THEME SONG FOR ITS ANIMATED TV SPECIALS IS CALLED "LINUS AND LUC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EPHEN KING'S NOVEL "IT", WHAT DOES "IT" USUALLY APPEAR TO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PORTS NICKNAME OF PENN STATE, LOYOLA MARYMOUNT, AND COLUM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HAVING  TO  DO  WITH  THE  CIR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YTHOLOGY, WHAT PATRON OF EPIC POETRY DID OVID CALL THE "CHIEF OF ALL THE MU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YMBOL FOR THE REPUBLICAN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ITE DID ADOBE INTRODUCE IN 1993 TO MANAGE ITS NEW PDF FILE FORMAT FOR DOCU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A J.R.R. TOLKIEN POEM, WHAT DID SAURON MAKE "FOR THE ELVEN-KINGS UNDER THE SK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OCETS ARE IN WHAT FAMILY OF BI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Pied_Avocet_Recurvirostra_avosetta.jpg"/>
          <p:cNvPicPr/>
          <p:nvPr/>
        </p:nvPicPr>
        <p:blipFill>
          <a:blip r:embed="rId1"/>
          <a:stretch/>
        </p:blipFill>
        <p:spPr>
          <a:xfrm>
            <a:off x="3733920" y="11430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RISH CREAM LIQU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EPHEN KING'S NOVEL "IT", WHAT DOES "IT" USUALLY APPEAR TO 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2T16:34:17Z</dcterms:created>
  <dc:creator>Jennifer Budzinski</dc:creator>
  <dc:description/>
  <dc:language>en-US</dc:language>
  <cp:lastModifiedBy>Erich Friedman</cp:lastModifiedBy>
  <dcterms:modified xsi:type="dcterms:W3CDTF">2020-08-28T22:47:07Z</dcterms:modified>
  <cp:revision>431</cp:revision>
  <dc:subject/>
  <dc:title>Slide 1</dc:title>
</cp:coreProperties>
</file>