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BDF6-06C2-4894-B376-7E5A36324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DC35-745C-40F4-9252-EE0035833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7D44-C3A4-4112-AC0E-3844FCDAA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C722-CBD5-4B76-84D0-B9962C0DF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7D48-869E-4A9E-8311-D980574B5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3D39-5DB6-4234-A616-EA2EB76AB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0E57-8917-4596-B9EA-E15DA4814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4C6F-A2FC-4E9A-A67C-6A1CCF013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A3C1-45A1-498B-A4D5-C9BC7E551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BAFD-A303-411E-9A6C-F16CADA13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C22C-311C-40D5-A440-1D920EC3F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7E87-4DBC-4CA4-9A6E-F4175235A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5AAE-04D9-4E2C-A20C-E4FC29953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D491-B866-4B50-ABF5-5A5D90D7E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5BC4-C58A-4823-A637-44A789B35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BA8E-7D28-4CD9-9570-FEEAA5A03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19A2-F02A-4857-8E93-ACBF1197A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9C80-D5CE-46B9-9E5F-1A3DE9367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4557-BBC5-43B5-86B9-771C7B692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FF2F-9AB7-4DF1-B727-3C7194C4B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22A0-C70D-4DB6-BF74-D22022F94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F03D-9B85-4314-AE01-0B4C5EE49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9F9C-E41D-422D-A7F1-5E0C7A863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THE SPORTS NICKNAME OF PENN STATE, LOYOLA MARYMOUNT, AND COLUMB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ANU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STRIP'S THEME SONG FOR ITS ANIMATED TV SPECIALS IS CALLED "LINUS AND LUC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LLI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YTHOLOGY, WHAT PATRON OF EPIC POETRY DID OVID CALL THE "CHIEF OF ALL THE MUS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PH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1028880" y="762120"/>
            <a:ext cx="7086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THE SYMBOL FOR THE REPUBLICAN PAR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CROB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DUCT SUITE DID ADOBE INTRODUCE IN 1993 TO MANAGE ITS NEW PDF FILE FORMAT FOR DOCU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REE  R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THE FIRST LINE OF A J.R.R. TOLKIEN POEM, WHAT DID SAURON MAKE "FOR THE ELVEN-KINGS UNDER THE SK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295280" y="4876920"/>
            <a:ext cx="6553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I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0" y="990720"/>
            <a:ext cx="3581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VOCETS ARE IN WHAT FAMILY OF BI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3" descr="Pied_Avocet_Recurvirostra_avosetta.jpg"/>
          <p:cNvPicPr/>
          <p:nvPr/>
        </p:nvPicPr>
        <p:blipFill>
          <a:blip r:embed="rId1"/>
          <a:stretch/>
        </p:blipFill>
        <p:spPr>
          <a:xfrm>
            <a:off x="3733920" y="1143000"/>
            <a:ext cx="502920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ILEY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81160" y="762120"/>
            <a:ext cx="67816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BRAND OF IRISH CREAM LIQU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STRIP'S THEME SONG FOR ITS ANIMATED TV SPECIALS IS CALLED "LINUS AND LUC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CL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STEPHEN KING'S NOVEL "IT", WHAT DOES "IT" USUALLY APPEAR TO B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THE SPORTS NICKNAME OF PENN STATE, LOYOLA MARYMOUNT, AND COLUMB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219320" y="4343400"/>
            <a:ext cx="670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HAVING  TO  DO  WITH  THE  CIR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YTHOLOGY, WHAT PATRON OF EPIC POETRY DID OVID CALL THE "CHIEF OF ALL THE MUS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90720" y="762120"/>
            <a:ext cx="7162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THE SYMBOL FOR THE REPUBLICAN PAR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DUCT SUITE DID ADOBE INTRODUCE IN 1993 TO MANAGE ITS NEW PDF FILE FORMAT FOR DOCUME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THE FIRST LINE OF A J.R.R. TOLKIEN POEM, WHAT DID SAURON MAKE "FOR THE ELVEN-KINGS UNDER THE SK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-360" y="990360"/>
            <a:ext cx="3505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VOCETS ARE IN WHAT FAMILY OF BI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2" descr="Pied_Avocet_Recurvirostra_avosetta.jpg"/>
          <p:cNvPicPr/>
          <p:nvPr/>
        </p:nvPicPr>
        <p:blipFill>
          <a:blip r:embed="rId1"/>
          <a:stretch/>
        </p:blipFill>
        <p:spPr>
          <a:xfrm>
            <a:off x="3733920" y="1143000"/>
            <a:ext cx="502920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BRAND OF IRISH CREAM LIQU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STEPHEN KING'S NOVEL "IT", WHAT DOES "IT" USUALLY APPEAR TO B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2T16:34:17Z</dcterms:created>
  <dc:creator>Jennifer Budzinski</dc:creator>
  <dc:description/>
  <dc:language>en-US</dc:language>
  <cp:lastModifiedBy>Erich Friedman</cp:lastModifiedBy>
  <dcterms:modified xsi:type="dcterms:W3CDTF">2020-08-28T22:47:07Z</dcterms:modified>
  <cp:revision>431</cp:revision>
  <dc:subject/>
  <dc:title>Slide 1</dc:title>
</cp:coreProperties>
</file>