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99DA-B252-42DF-8538-A7C8F843D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1684-531C-4F45-83E8-0335E77AB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9B03-1E80-4022-BCC9-979C788C0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4B6E-B7E0-43FE-BA62-3FFDCCD1F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39DD-5B3C-49E0-8E76-CCE9A3C0E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55D3-EDE0-4535-A2F1-E1DFF464D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0CF9-1123-4AD5-8CB0-24C15ADBF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E8CC-AE2E-4AE1-B80F-428DDED63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CD95-06B1-4597-B54D-2ADA43347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AEAF-7405-46A9-9342-6E7F3BE95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68B3-8D7F-4710-8DF7-9D1F83A1A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DB5E-8A93-4E27-AB08-BD9FEC35C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9D09-F4E8-40E4-896C-486C78C6A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3ED1-BE3B-4C7B-8AD5-F60CDAE4B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D285-703B-48A4-B7AC-CF939D974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ACF8-6F85-4E46-B03E-57C1826EC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5058-A678-4F9D-AD72-B1976051C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1603-1856-4BF4-BE5F-D0C08AC45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7C6A-81C4-4BC6-9276-2B349893B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DFED-6A7E-45E9-A598-AA216BA07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1397-EAB6-445E-9F7A-39A2A8F0B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AA6D-6D65-46B6-9548-F0C3D2670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1B6A-8B56-4CD0-B431-56F47D9F7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TO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11411951-1104492039873842.jpg"/>
          <p:cNvPicPr/>
          <p:nvPr/>
        </p:nvPicPr>
        <p:blipFill>
          <a:blip r:embed="rId1"/>
          <a:stretch/>
        </p:blipFill>
        <p:spPr>
          <a:xfrm>
            <a:off x="6095880" y="457200"/>
            <a:ext cx="26337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I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"THE CROCODILE HUN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COMEDY FILM STARRED ROWAN ATKINSON AS A CHARACTER HE PLAYED ON BRITISH TV FOR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KE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NATIONAL COLLEGE BASKETBALL TOURNAMENT IN 1991, 1992, 2001, 2010, AND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NG  SHEL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143000" y="75888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PIN-OFF OF "THE BIG BANG THE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  WAL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676520" y="758880"/>
            <a:ext cx="5790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GOVERNOR OF WISCONS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GARET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NE WITH THE WIND" WAS THE BEST-SELLING FILM EVER, CORRECTING FOR INFLATION.  WHO WROTE THE BOOK IT WAS BASED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PARD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HIEF NEWS ANCHOR AT FOX NE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"THE CROCODILE HUN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CON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125748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HEART OF DARK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76320" y="4876920"/>
            <a:ext cx="586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ETCH  ARMS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533520" y="914400"/>
            <a:ext cx="5257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T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11411951-1104492039873842.jpg"/>
          <p:cNvPicPr/>
          <p:nvPr/>
        </p:nvPicPr>
        <p:blipFill>
          <a:blip r:embed="rId1"/>
          <a:stretch/>
        </p:blipFill>
        <p:spPr>
          <a:xfrm>
            <a:off x="6095880" y="457200"/>
            <a:ext cx="263376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528480" y="4343400"/>
            <a:ext cx="8077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MEN  WHO  WALKED  ON  TH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COMEDY FILM STARRED ROWAN ATKINSON AS A CHARACTER HE PLAYED ON BRITISH TV FOR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NATIONAL COLLEGE BASKETBALL TOURNAMENT IN 1991, 1992, 2001, 2010, AND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PIN-OFF OF "THE BIG BANG THE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638360" y="762120"/>
            <a:ext cx="5867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GOVERNOR OF WISCONS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NE WITH THE WIND" WAS THE BEST-SELLING FILM EVER, CORRECTING FOR INFLATION.  WHO WROTE THE BOOK IT WAS BASED 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HIEF NEWS ANCHOR AT FOX NEW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HEART OF DARKN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4T16:16:23Z</dcterms:created>
  <dc:creator>Jennifer Budzinski</dc:creator>
  <dc:description/>
  <dc:language>en-US</dc:language>
  <cp:lastModifiedBy>Erich Friedman</cp:lastModifiedBy>
  <dcterms:modified xsi:type="dcterms:W3CDTF">2020-08-28T22:47:58Z</dcterms:modified>
  <cp:revision>436</cp:revision>
  <dc:subject/>
  <dc:title>Slide 1</dc:title>
</cp:coreProperties>
</file>