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98BB-F391-416C-9C42-D249A372A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4C2D-974D-45B8-9129-6AB0153FB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CF24-12D9-4ACA-BC04-427B7790E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29C8-B9DF-46D9-BE9B-A8B0071E1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1B20-442A-41E4-B4A0-83503C027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953-B666-41D6-BEC7-5F3905167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3332-0A72-4EA6-A4FF-2FF997C4E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0F1F-E441-457B-B4B4-82E52F9D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165B-D590-4BCE-AEC0-F8D11B56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E21B-0EFB-49EE-9250-435A8BBA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862A-DBA1-4C91-9CEE-867D584F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534E-B6DC-4E54-8A3C-7F4EE4F3A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1353A-9A25-4C9B-AD58-18FD70AC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8951-BD43-4008-BD29-94CB5AF9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3BF6-1E08-4697-82F0-CB38D1A2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40E6-B8FE-4DCA-B605-13F9D74AA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A56C-7E18-4FB4-A339-18C46D7E9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4D9C-31B4-4F26-BD4D-833B811E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2BDA-B7E2-47B0-909E-16B5A4903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3D33-66C3-465B-B0D9-0B9D47160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FE74-CFD6-4D60-94A8-C613548D6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AA5E-556E-4DF6-A534-374EC9975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434-8ADE-4F9D-B96E-A3E5FFF1C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1411951-1104492039873842.jpg"/>
          <p:cNvPicPr/>
          <p:nvPr/>
        </p:nvPicPr>
        <p:blipFill>
          <a:blip r:embed="rId1"/>
          <a:stretch/>
        </p:blipFill>
        <p:spPr>
          <a:xfrm>
            <a:off x="6095880" y="457200"/>
            <a:ext cx="2633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"THE CROCODILE HUN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IONAL COLLEGE BASKETBALL TOURNAMENT IN 1991, 1992, 2001, 2010, AND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  SHEL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588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N-OFF OF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676520" y="758880"/>
            <a:ext cx="5790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OVERNOR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WITH THE WIND" WAS THE BEST-SELLING FILM EVER, CORRECTING FOR INFLATION.  WHO WROTE THE BOOK IT WAS BAS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PARD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NEWS ANCHOR AT FOX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"THE CROCODILE HUN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76320" y="487692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914400"/>
            <a:ext cx="5257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11411951-1104492039873842.jpg"/>
          <p:cNvPicPr/>
          <p:nvPr/>
        </p:nvPicPr>
        <p:blipFill>
          <a:blip r:embed="rId1"/>
          <a:stretch/>
        </p:blipFill>
        <p:spPr>
          <a:xfrm>
            <a:off x="6095880" y="457200"/>
            <a:ext cx="263376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28480" y="434340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MEN  WHO  WALKED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COMEDY FILM STARRED ROWAN ATKINSON AS A CHARACTER HE PLAYED ON BRITISH TV F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IONAL COLLEGE BASKETBALL TOURNAMENT IN 1991, 1992, 2001, 2010, AND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IN-OFF OF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OVERNOR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WITH THE WIND" WAS THE BEST-SELLING FILM EVER, CORRECTING FOR INFLATION.  WHO WROTE THE BOOK IT WAS BAS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NEWS ANCHOR AT FOX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EART OF DARK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6:16:23Z</dcterms:created>
  <dc:creator>Jennifer Budzinski</dc:creator>
  <dc:description/>
  <dc:language>en-US</dc:language>
  <cp:lastModifiedBy>Erich Friedman</cp:lastModifiedBy>
  <dcterms:modified xsi:type="dcterms:W3CDTF">2020-08-28T22:47:58Z</dcterms:modified>
  <cp:revision>436</cp:revision>
  <dc:subject/>
  <dc:title>Slide 1</dc:title>
</cp:coreProperties>
</file>