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C37D-7A83-45BC-865C-7F221F9F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D7F2-E035-4FDB-AB70-C7A1DFC4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9C9C-1134-4765-8E2C-7AF8351E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2E66-FFCC-4CCA-B774-A6B4A809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045A-7CC4-4C33-A183-CF9BF7A6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ED59-4E24-4C5C-A602-1B09EB50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810-E9DA-48A8-8715-6BCB6309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FD1D-0EF8-464A-8B44-694E5E4F0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4E30-52D6-4328-B1CE-875F61A0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BDE4-CE27-49A1-B423-FE0C9A594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C3D1-9434-40D8-A545-93058144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4725-991F-4B28-9CE9-BB886070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4E1D-DBA2-436B-9CF0-5D1A3AE4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D26C-DFE2-4478-A860-ECFECEB01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8CD-390F-4A97-836A-5D3584AA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D08-C076-4EF3-8D6A-482CA7EB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3E4-26C4-43E3-85C8-6739D2FE2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06B0-535C-4C8A-B5FA-E519BE59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7E43-12EC-4198-9DBE-581889A8A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169-55E6-408F-B3A5-84E16B7D7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F7A9-6436-4FDB-8B93-E154B8AB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F6F7-01B9-420D-AD56-D03C1ADEF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1DD-212C-4BE4-A910-A2A89B69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1411951-1104492039873842.jpg"/>
          <p:cNvPicPr/>
          <p:nvPr/>
        </p:nvPicPr>
        <p:blipFill>
          <a:blip r:embed="rId1"/>
          <a:stretch/>
        </p:blipFill>
        <p:spPr>
          <a:xfrm>
            <a:off x="6095880" y="457200"/>
            <a:ext cx="2633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"THE CROCODILE HUN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IONAL COLLEGE BASKETBALL TOURNAMENT IN 1991, 1992, 2001, 2010, AND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  SHEL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588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N-OFF OF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676520" y="758880"/>
            <a:ext cx="5790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OVERNOR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WITH THE WIND" WAS THE BEST-SELLING FILM EVER, CORRECTING FOR INFLATION.  WHO WROTE THE BOOK IT WAS BAS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PARD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NEWS ANCHOR AT FOX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"THE CROCODILE HUN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76320" y="487692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914400"/>
            <a:ext cx="5257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11411951-1104492039873842.jpg"/>
          <p:cNvPicPr/>
          <p:nvPr/>
        </p:nvPicPr>
        <p:blipFill>
          <a:blip r:embed="rId1"/>
          <a:stretch/>
        </p:blipFill>
        <p:spPr>
          <a:xfrm>
            <a:off x="6095880" y="457200"/>
            <a:ext cx="26337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28480" y="434340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MEN  WHO  WALKED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IONAL COLLEGE BASKETBALL TOURNAMENT IN 1991, 1992, 2001, 2010, AND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N-OFF OF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OVERNOR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WITH THE WIND" WAS THE BEST-SELLING FILM EVER, CORRECTING FOR INFLATION.  WHO WROTE THE BOOK IT WAS BAS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NEWS ANCHOR AT FOX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EART OF DARK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6:16:23Z</dcterms:created>
  <dc:creator>Jennifer Budzinski</dc:creator>
  <dc:description/>
  <dc:language>en-US</dc:language>
  <cp:lastModifiedBy>Erich Friedman</cp:lastModifiedBy>
  <dcterms:modified xsi:type="dcterms:W3CDTF">2020-08-28T22:47:58Z</dcterms:modified>
  <cp:revision>436</cp:revision>
  <dc:subject/>
  <dc:title>Slide 1</dc:title>
</cp:coreProperties>
</file>