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B53A-D215-47EA-81C5-A18531A5B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E673-4552-427E-B338-53046FCAD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4CF6-8807-429E-96BA-39B153A67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352E-C31C-4A1F-9D3C-DA4E83D2D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2844-E84F-4948-A119-225202EFA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71FD-7722-4D35-A127-CC1BB2EC0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9DF5-2717-4EC4-AD61-F4D203505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3C8A-B040-4D51-8D42-59C8B1377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6447-EE5D-4DAF-ACEF-6DFB4EE9B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8BE0-56C0-4352-8DB1-118142AFE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E73C-72BF-4697-819B-DE00BB9B8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4776-C2C1-4E40-8AAE-E1F2CB9FA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A6B2-AED2-4B19-8A05-1DEC0729F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2802-E6F1-4528-9EFF-572CDA1FD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D08A-209B-42D0-AEC4-E0E2B64FF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E8BD-2176-43C0-8883-27D6D9286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3836-25B7-44B0-9FCF-3415AD4FE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CB0D-52BC-499F-A567-AB33DC85A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D5B4-E84D-4510-8ED1-29492EB67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8E5E-3205-4BFA-B3BD-1079F911B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DEAC-61D2-4FA9-8C7F-E8C22169A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CEBD-1E73-43BE-B8A9-B64CFE5BA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BE59-884E-4AF7-8AAD-498E06D3F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990360"/>
            <a:ext cx="7391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L IN THE BLANK 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OG DAY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TIME TRAVELER'S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REAKY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O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FOR MR. GOODB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57480" y="757080"/>
            <a:ext cx="6629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AST ____ AT RIDGEMONT HIG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T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676520" y="762120"/>
            <a:ext cx="5790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UTRAGEOUS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95280" y="4876920"/>
            <a:ext cx="655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JOY ____ CLUB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BAD ____ BEA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TIME TRAVELER'S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19320" y="762120"/>
            <a:ext cx="6629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N OF THE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52280" y="4876920"/>
            <a:ext cx="8839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FTERN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OG DAY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066680" y="4876920"/>
            <a:ext cx="701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GOO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REAKY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00280" y="762120"/>
            <a:ext cx="754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FOR MR. GOODB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295280" y="762120"/>
            <a:ext cx="6553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AST ____ AT RIDGEMONT HIG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638360" y="762120"/>
            <a:ext cx="5867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UTRAGEOUS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JOY ____ CLUB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BAD ____ BEA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N OF THE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4T16:45:23Z</dcterms:created>
  <dc:creator>Jennifer Budzinski</dc:creator>
  <dc:description/>
  <dc:language>en-US</dc:language>
  <cp:lastModifiedBy>Erich Friedman</cp:lastModifiedBy>
  <dcterms:modified xsi:type="dcterms:W3CDTF">2020-08-28T22:48:58Z</dcterms:modified>
  <cp:revision>437</cp:revision>
  <dc:subject/>
  <dc:title>Slide 1</dc:title>
</cp:coreProperties>
</file>