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7F6-4F52-476F-B4A3-7B7D2607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2C29-F896-4028-8970-75B4F2D8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654-7257-4846-9755-4313920D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279F-05A5-4AA3-9A1F-7B93BF67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47B0-A52C-4F6C-9532-332813236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F991-EEE6-424A-8896-AAACEE28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28D-A0E9-48D4-878D-1C50A51E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41A8-DB01-4DE6-9DDE-43BC07BE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F03E-F756-4AEE-94E1-600540CE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C768-1C7B-43D1-A36D-93855F9C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DAF9-5120-4286-A332-001F3F3CC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5B49-4703-4250-A303-76F05102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E465-0E1E-444C-ACB1-D0922C26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E37E-9828-4BE9-8921-E77D23CC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2926-026C-4FCB-8117-E9353984F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74E4-DF0A-49F2-8A88-4D0F1E300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D502-0084-4EB3-8E85-9BF3B468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44B4-D938-4805-AE5F-7A09B2B5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5A16-02F2-4962-8B42-1BFD8448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ACA1-E049-4082-934B-7C7CB6A66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7B9-77E4-4C49-9E04-B31A4279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4ACF-8E43-4A6A-A418-F05702D2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07E1-897A-418B-AE4B-EFCC2598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9903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G DAY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IME TRAVELER'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AKY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MR. GOODB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5708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AST ____ AT RIDGEMONT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62120"/>
            <a:ext cx="579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UTRAGEOU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Y ____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AD ____ BE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IME TRAVELER'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 OF 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280" y="48769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G DAY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GOO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AKY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MR. GOODB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AST ____ AT RIDGEMONT HIG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UTRAGEOU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Y ____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AD ____ B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 OF 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6:45:23Z</dcterms:created>
  <dc:creator>Jennifer Budzinski</dc:creator>
  <dc:description/>
  <dc:language>en-US</dc:language>
  <cp:lastModifiedBy>Erich Friedman</cp:lastModifiedBy>
  <dcterms:modified xsi:type="dcterms:W3CDTF">2020-08-28T22:48:58Z</dcterms:modified>
  <cp:revision>437</cp:revision>
  <dc:subject/>
  <dc:title>Slide 1</dc:title>
</cp:coreProperties>
</file>