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1583-3A2A-4417-B06C-2C81C24B5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2E35-237B-4480-918B-38CCEBEC2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D09F-CEB9-4310-834E-907F80E24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904F-329E-46CB-B69E-4400BB38D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B9B8-FC0C-46CF-BB41-167926433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E8EA-37B7-49B2-8B98-D8108C0C2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80D3-E057-46B6-A793-9E4B6063B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EFAE-0CF6-4DC6-AAAB-5688249E0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7657-5F1F-4EDA-A8E2-5DF04228D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2846-AD28-41BD-80E1-9E03925C6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8BC2-2CC5-4633-8AE0-BF98A5E85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C891-81A3-4E5F-9ACF-B68DD50A7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74F5-9B02-4CF6-8772-268EE0142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54A9-EC61-4939-8B89-252117CA0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8554-8F8A-4E72-8D1B-FA7700405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C5CC-8DB5-4823-9595-FB3E6C75B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2859-A736-4B08-887C-65DF841CE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495C-0063-4210-8C8B-D10B5F093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55E8-5B15-4067-8E78-8A33F2994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855A-5A43-4F6F-87A8-348D738F5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D7E0-F714-468B-82FA-E8BE09EA3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448E-234A-48CE-B815-37E3B2A41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0D78-1B86-4EA1-AF06-1BA7DCB82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9903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G DAY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TIME TRAVELER'S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REAKY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FOR MR. GOODB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57480" y="75708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AST ____ AT RIDGEMONT HI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76520" y="762120"/>
            <a:ext cx="5790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UTRAGEOUS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JOY ____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BAD ____ BEA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TIME TRAVELER'S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N OF TH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52280" y="487692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TER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G DAY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66680" y="48769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GOO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REAKY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FOR MR. GOODB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AST ____ AT RIDGEMONT HIG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UTRAGEOUS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JOY ____ CLU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BAD ____ BEA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N OF TH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16:45:23Z</dcterms:created>
  <dc:creator>Jennifer Budzinski</dc:creator>
  <dc:description/>
  <dc:language>en-US</dc:language>
  <cp:lastModifiedBy>Erich Friedman</cp:lastModifiedBy>
  <dcterms:modified xsi:type="dcterms:W3CDTF">2020-08-28T22:48:58Z</dcterms:modified>
  <cp:revision>437</cp:revision>
  <dc:subject/>
  <dc:title>Slide 1</dc:title>
</cp:coreProperties>
</file>