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CA4E3-9259-4D8E-9B02-831B27F12A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B44CB-7054-400C-B6EC-EC8254D3CC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1A289-F7C1-4CC0-A317-2489BF178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783DA-22AE-456C-B321-DFE9E3BB0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0ACD3-83AC-4E11-A563-0059DB2B72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B0E21-BE88-4163-8510-033BC35CD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D776C-B42C-4728-8C0C-989A4291CD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C928D-CF7C-4796-A087-DF39E4E61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49449-C62D-4D9E-95FD-1D34D0942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8B683-A98D-4596-AD00-5CB0BF732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396B8-3917-4238-A2DE-A20CA402C3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BC800-28C2-4427-B5AE-323219619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9167C-4554-44B5-AF14-168DADAB5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6EB8E-2E26-4017-B2EE-19666195B4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56E7A-4002-48F9-A5E0-4FD1485F4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46870-89E3-4CB1-81A9-75BA6B957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3CBFE-A8B9-4E13-ACE1-976C9C87E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C5ED5-29C5-4FAD-B1E5-E4007188F2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F0DEB-B50F-4303-B512-807A782C54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B42FB-E3FF-4772-9BB2-A8F5D067E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4B597-0776-45B6-AECB-FCBCD8F5CE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67B02-5CDF-4990-A1AD-A4372BEF5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794FB-B8B8-4F61-BD23-E8B0B2E79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523880" y="1523880"/>
            <a:ext cx="6096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4 DIFFERENT LAST NAMES OF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AND  7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U.S. PRESIDEN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41904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KLIN  (PIERCE)  (ROOSEVEL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66720" y="762120"/>
            <a:ext cx="7810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BOTH THE 1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ND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RESIDENTS OF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ROBERT)  DUV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57160" y="762120"/>
            <a:ext cx="74296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OR WHO PLAYED MAJOR FRANK BURNS IN THE FILM "M*A*S*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L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52560" y="762120"/>
            <a:ext cx="72388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MILY IS THE RICHEST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9744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SSA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162080" y="773280"/>
            <a:ext cx="6819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AND COMMERCIAL CENTER OF THE BAHAM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X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23800" y="762120"/>
            <a:ext cx="8096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EST-KNOWN SONG TO HAVE COME OUT OF BLACKFACE MINSTRELS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UL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71640" y="762120"/>
            <a:ext cx="720072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IL COMPANY MERGED WITH STANDARD OIL OF CALIFORNIA IN 1985 TO FORM CHEVR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MIL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419120" y="762120"/>
            <a:ext cx="6305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LAY RECEIVED  A RECORD 16 TONY NOMINATIONS IN 201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76440" y="762120"/>
            <a:ext cx="7791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BOTH THE 1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ND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RESIDENTS OF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7168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LUMB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47640" y="762120"/>
            <a:ext cx="7848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IVY LEAGUE UNIVERSITY WAS KNOWN AS KING'S COLLEGE BEFORE THE REVOLUTIONARY W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34340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SHINGTON,  JEFFERSON,  MADISON,  AND  JACK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76240" y="762120"/>
            <a:ext cx="7391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4 DIFFERENT LAST NAMES OF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AND  7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U.S. PRESIDEN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814320" y="4876920"/>
            <a:ext cx="75153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UNTIES  IN  NORTH  FLORI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8002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OR WHO PLAYED MAJOR FRANK BURNS IN THE FILM "M*A*S*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71640" y="762120"/>
            <a:ext cx="7200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MILY IS THE RICHEST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085760" y="762120"/>
            <a:ext cx="6972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AND COMMERCIAL CENTER OF THE BAHAM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EST-KNOWN SONG TO HAVE COME OUT OF BLACKFACE MINSTRELS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933480" y="761760"/>
            <a:ext cx="7277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IL COMPANY MERGED WITH STANDARD OIL OF CALIFORNIA IN 1985 TO FORM CHEVR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338120" y="762120"/>
            <a:ext cx="6467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LAY RECEIVED  A RECORD 16 TONY NOMINATIONS IN 201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19200" y="762120"/>
            <a:ext cx="7905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IVY LEAGUE UNIVERSITY WAS KNOWN AS KING'S COLLEGE BEFORE THE REVOLUTIONARY W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13:38:10Z</dcterms:created>
  <dc:creator>Jennifer Budzinski</dc:creator>
  <dc:description/>
  <dc:language>en-US</dc:language>
  <cp:lastModifiedBy>Erich Friedman</cp:lastModifiedBy>
  <dcterms:modified xsi:type="dcterms:W3CDTF">2020-08-28T22:49:41Z</dcterms:modified>
  <cp:revision>439</cp:revision>
  <dc:subject/>
  <dc:title>Slide 1</dc:title>
</cp:coreProperties>
</file>