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086F-252C-446B-A9FA-3E6F9D81E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F467-641F-4421-AA56-1DED29926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DBE2-1BE0-47F3-A9F7-E0014EE7A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FE1A-1BCB-4C31-AF71-35C72D34A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4252-043E-4A52-A29A-0588E390F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EF8F-B5EE-49AD-9E2C-7D6D9B3CB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399B-1BB7-482B-9B80-3485F29BD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80B7-CF23-4B78-B4C1-0D00FC107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0520-C4FC-4B6D-873D-7F4A1BC4F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B6B1-A93E-4D9F-AAC0-E47649FDD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5893-E70C-4099-AADD-80B19E292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ABCD-2A08-4138-A37C-BE10CCACF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C0A5-44F0-408E-8E95-D1157B42C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4554-B195-4DFA-822E-BBF2F833A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E1EE-4EC4-4C09-B29C-065C823C5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AD75-E628-4418-81FE-0C7128AAE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B141-96C5-4DA5-B9AA-F60AD6597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9E81-C34B-4BCB-9406-50C29B758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98B6-D73F-4FA1-AFB3-A3E0D6CD1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3D00-FBED-453A-96E9-61D90DDBF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1E8C-45D9-4B22-B26A-C8A0C1BA8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4C9B-9566-4EE6-88BB-0C5C98D82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F4A4-7CE9-4909-ABBC-78E621E78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4 DIFFERENT LAST NAMES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 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PRESID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LIN  (PIERCE)  (ROOSEVEL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BOTH THE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S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ROBERT)  DUV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57160" y="762120"/>
            <a:ext cx="742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MAJOR FRANK BURNS IN THE FILM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IS THE RICHEST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SS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62080" y="773280"/>
            <a:ext cx="681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AND COMMERCIAL CENTER OF THE BAHAM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X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23800" y="762120"/>
            <a:ext cx="8096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KNOWN SONG TO HAVE COME OUT OF BLACKFACE MINSTRELS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71640" y="762120"/>
            <a:ext cx="72007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IL COMPANY MERGED WITH STANDARD OIL OF CALIFORNIA IN 1985 TO FORM CHEVR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MI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19120" y="762120"/>
            <a:ext cx="6305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Y RECEIVED  A RECORD 16 TONY NOMINATIONS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BOTH THE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S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UM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VY LEAGUE UNIVERSITY WAS KNOWN AS KING'S COLLEGE BEFORE THE REVOLUTIONARY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3434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SHINGTON,  JEFFERSON,  MADISON,  AND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4 DIFFERENT LAST NAMES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 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PRESID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14320" y="4876920"/>
            <a:ext cx="7515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NTIES  IN  NORTH  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MAJOR FRANK BURNS IN THE FILM "M*A*S*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71640" y="762120"/>
            <a:ext cx="7200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IS THE RICHEST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AND COMMERCIAL CENTER OF THE BAHAM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KNOWN SONG TO HAVE COME OUT OF BLACKFACE MINSTRELS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IL COMPANY MERGED WITH STANDARD OIL OF CALIFORNIA IN 1985 TO FORM CHEVR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338120" y="762120"/>
            <a:ext cx="6467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Y RECEIVED  A RECORD 16 TONY NOMINATIONS IN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19200" y="762120"/>
            <a:ext cx="7905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VY LEAGUE UNIVERSITY WAS KNOWN AS KING'S COLLEGE BEFORE THE REVOLUTIONARY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8-28T22:49:41Z</dcterms:modified>
  <cp:revision>439</cp:revision>
  <dc:subject/>
  <dc:title>Slide 1</dc:title>
</cp:coreProperties>
</file>