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9DA3-20CD-4A73-8BAF-478511AF9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67AD-C059-4C1E-B29D-F302CA2FC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E63D-3B09-4F53-AD97-B0695B45B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8CF9-8080-47D4-B5D5-4D4644C64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9382-3175-4885-8A47-DB82128FB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F76A-0918-43F2-8697-7770BF39B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0D41-70FC-4542-AE7F-652D4F7E0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8F99-C77B-4465-AEFD-AB5B06549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3E75-07CF-4799-A2CE-6664D8603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BE82-9A77-4463-BF7E-2FDEDE1DE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FE41-2425-4911-9DCA-84B3FEB00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47A9-674A-4B93-82AF-7ED7B64B9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B575-BB5B-40A0-9E32-2004876D5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72F3-6A76-4FF9-B7A0-113AE2E1E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1230-E9A9-4953-80C5-8BCBF54C3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E5FB-0675-40A5-A0C4-2328E7AD7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7B53-B386-4418-8DCA-20FD50436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E948-D745-4BBF-AE8C-B86CD334D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8DF3-C08A-426F-9040-7698FC94C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1843-EDFD-48AB-915D-2CE11E72A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DEF3-9662-4C96-BAC0-512A3442A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BD0E-637A-4A4D-B64F-02327B130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8325-0A9A-4037-A78F-3B641B208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4 DIFFERENT LAST NAMES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LIN  (PIERCE)  (ROOSEVEL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BOTH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S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ROBERT)  DUV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MAJOR FRANK BURNS IN THE FILM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IS THE RICHEST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SS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62080" y="773280"/>
            <a:ext cx="681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AND COMMERCIAL CENTER OF THE BAHAM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X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23800" y="762120"/>
            <a:ext cx="8096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SONG TO HAVE COME OUT OF BLACKFACE MINSTRELS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71640" y="762120"/>
            <a:ext cx="72007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IL COMPANY MERGED WITH STANDARD OIL OF CALIFORNIA IN 1985 TO FORM CHEVR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MI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19120" y="762120"/>
            <a:ext cx="6305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 RECEIVED  A RECORD 16 TONY NOMINATIONS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BOTH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3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S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UM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VY LEAGUE UNIVERSITY WAS KNOWN AS KING'S COLLEGE BEFORE THE REVOLUTIONARY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3434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,  JEFFERSON,  MADISON,  AND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4 DIFFERENT LAST NAMES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14320" y="4876920"/>
            <a:ext cx="7515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IES  IN  NORTH  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MAJOR FRANK BURNS IN THE FILM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71640" y="762120"/>
            <a:ext cx="7200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IS THE RICHEST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AND COMMERCIAL CENTER OF THE BAHAM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SONG TO HAVE COME OUT OF BLACKFACE MINSTRELS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IL COMPANY MERGED WITH STANDARD OIL OF CALIFORNIA IN 1985 TO FORM CHEVR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38120" y="762120"/>
            <a:ext cx="6467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 RECEIVED  A RECORD 16 TONY NOMINATIONS IN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19200" y="762120"/>
            <a:ext cx="7905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VY LEAGUE UNIVERSITY WAS KNOWN AS KING'S COLLEGE BEFORE THE REVOLUTIONARY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8-28T22:49:41Z</dcterms:modified>
  <cp:revision>439</cp:revision>
  <dc:subject/>
  <dc:title>Slide 1</dc:title>
</cp:coreProperties>
</file>