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D2B-C7A8-44E0-99F3-B0B7CFA12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BB36-AEDB-4ECD-AC9E-C42408FB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E2D0-25D5-45AF-B313-5BB13384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D28-8192-4491-9C06-F3ACDA97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BAB7-E064-4819-9DB9-3DD8232B7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5FBC-3AFD-4020-AF5C-0887087B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CF1-42DE-488B-98B3-F5DC06F9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4EB-AC8E-4171-8FF1-680743E6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0570-C1DD-4CFE-AB8A-2D018B15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E992-BFF6-4103-8C7C-E2F8931A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2E69-967F-43E8-A81B-4A57E6764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4AE-3C00-4F19-8993-49792038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AFC-C28B-4492-AB32-2711A336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FE16-EEAC-497D-9E69-95086A2C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DF3-9BED-407F-BC8D-94FDEC28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912F-B701-4D3B-B247-7F561D1F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B73C-8409-490A-8029-390BFC0D1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6BF0-0159-4AEE-98C9-9B0B7A974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343B-71B7-4791-B7B0-E41FF73A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74BC-5168-4350-9BBA-092D7B13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E65-63AB-4CDF-813E-08496C77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ED1-F84D-4115-AE0A-F79C23B7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E83E-59AE-4E5B-B1A8-0BF4C6EB3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TUBE HAVE MORE OF THAN PEOPLE ON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14480" y="762120"/>
            <a:ext cx="89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DID BAYER TRADEMARK IN 1895 AS A COUGH SUPPRESSANT, NAMING IT FOR THE EUPHORIC, POWERFUL FEELING IT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HALL OF FAMERS INCLUDE DAVE BING, BERNARD KING, AND YAO 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TS 3.78 CM FARTHER FROM THE EAR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ETHOVEN'S PROFESSION BEFORE HE BECAME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$30,000 ADDITION DO MORE HOUSES IN ARIZONA, FLORIDA, AND NEVADA HAVE THAN ANY OTHER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95288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280" y="106668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TABLE LOOKS LIKE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762px-Craps.svg.png"/>
          <p:cNvPicPr/>
          <p:nvPr/>
        </p:nvPicPr>
        <p:blipFill>
          <a:blip r:embed="rId1"/>
          <a:stretch/>
        </p:blipFill>
        <p:spPr>
          <a:xfrm>
            <a:off x="3505320" y="914400"/>
            <a:ext cx="53658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9528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04920" y="91440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beatles-revolver.jpg"/>
          <p:cNvPicPr/>
          <p:nvPr/>
        </p:nvPicPr>
        <p:blipFill>
          <a:blip r:embed="rId1"/>
          <a:stretch/>
        </p:blipFill>
        <p:spPr>
          <a:xfrm>
            <a:off x="3809880" y="45720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899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DID BAYER TRADEMARK IN 1895 AS A COUGH SUPPRESSANT, NAMING IT FOR THE EUPHORIC, POWERFUL FEELING IT PRODU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ESSE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MOVIE STARRED WOODY HARRELSON AS AN ARMY CAPTAIN ASSIGNED TO NOTIFY FAMILIES OF FALLEN SOLD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TUBE HAVE MORE OF THAN PEOPLE ON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219320" y="4876920"/>
            <a:ext cx="6705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HALL OF FAMERS INCLUDE DAVE BING, BERNARD KING, AND YAO 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TS 3.78 CM FARTHER FROM THE EAR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ETHOVEN'S PROFESSION BEFORE HE BECAME FAMOUS FOR COMPO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$30,000 ADDITION DO MORE HOUSES IN ARIZONA, FLORIDA, AND NEVADA HAVE THAN ANY OTHER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TABLE LOOKS LIKE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762px-Craps.svg.png"/>
          <p:cNvPicPr/>
          <p:nvPr/>
        </p:nvPicPr>
        <p:blipFill>
          <a:blip r:embed="rId1"/>
          <a:stretch/>
        </p:blipFill>
        <p:spPr>
          <a:xfrm>
            <a:off x="3505320" y="914400"/>
            <a:ext cx="5365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047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beatles-revolver.jpg"/>
          <p:cNvPicPr/>
          <p:nvPr/>
        </p:nvPicPr>
        <p:blipFill>
          <a:blip r:embed="rId1"/>
          <a:stretch/>
        </p:blipFill>
        <p:spPr>
          <a:xfrm>
            <a:off x="3809880" y="45720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MOVIE STARRED WOODY HARRELSON AS AN ARMY CAPTAIN ASSIGNED TO NOTIFY FAMILIES OF FALLEN SOLD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4:20:29Z</dcterms:created>
  <dc:creator>Jennifer Budzinski</dc:creator>
  <dc:description/>
  <dc:language>en-US</dc:language>
  <cp:lastModifiedBy>Erich Friedman</cp:lastModifiedBy>
  <dcterms:modified xsi:type="dcterms:W3CDTF">2020-08-29T14:22:31Z</dcterms:modified>
  <cp:revision>420</cp:revision>
  <dc:subject/>
  <dc:title>Slide 1</dc:title>
</cp:coreProperties>
</file>