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2C79-D4BB-43EE-8AA9-4272228B9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3B21-D815-425A-8284-97EA0052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8483-1F9F-40EB-ADE1-99F95051A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B7D0-3958-4EB1-8589-6546CA824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9A65-90D7-4BFE-8176-0C675FBC1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B60D-7D1E-43F2-A8C9-5FFBC1A06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0FD2-59AC-4A80-99D9-CF216F1C4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2913-1817-443D-8690-09D1C5A4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2406-A59A-4046-B523-4E355EAD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C305-B124-4B34-919A-E2642F2E5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F67C-3E3A-4339-805A-468807E36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A3D1-2C52-48A7-841F-4703F2ACB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AA7B-3F00-4707-8DB9-0791FBCB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AA0A-050E-4EC3-B40A-0D57EF01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A562-9F4A-4FCE-AFBB-42848080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6718-C46B-43EF-968E-A47621129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110F-EC18-4B48-8543-B79E6C5FA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34B3-E968-41CC-8339-BB571F2E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5EB9-0FE5-4093-9822-D47F8153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D026-0EDA-4D27-A415-07DFDE341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3A60-87B4-47FA-AF83-E825C9031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164B-5BCA-4272-B6E3-5CF3EC0EC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4AD6-A7F9-474B-8416-AE3AB9D5A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YOUTUBE HAVE MORE OF THAN PEOPLE ON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14480" y="762120"/>
            <a:ext cx="8915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DID BAYER TRADEMARK IN 1895 AS A COUGH SUPPRESSANT, NAMING IT FOR THE EUPHORIC, POWERFUL FEELING IT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HALL OF FAMERS INCLUDE DAVE BING, BERNARD KING, AND YAO 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TS 3.78 CM FARTHER FROM THE EARTH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ANO  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EETHOVEN'S PROFESSION BEFORE HE BECAME FAMOUS FOR COMPO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$30,000 ADDITION DO MORE HOUSES IN ARIZONA, FLORIDA, AND NEVADA HAVE THAN ANY OTHER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95288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280" y="1066680"/>
            <a:ext cx="32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TABLE LOOKS LIKE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762px-Craps.svg.png"/>
          <p:cNvPicPr/>
          <p:nvPr/>
        </p:nvPicPr>
        <p:blipFill>
          <a:blip r:embed="rId1"/>
          <a:stretch/>
        </p:blipFill>
        <p:spPr>
          <a:xfrm>
            <a:off x="3505320" y="914400"/>
            <a:ext cx="53658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533520" y="4952880"/>
            <a:ext cx="289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04920" y="91440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beatles-revolver.jpg"/>
          <p:cNvPicPr/>
          <p:nvPr/>
        </p:nvPicPr>
        <p:blipFill>
          <a:blip r:embed="rId1"/>
          <a:stretch/>
        </p:blipFill>
        <p:spPr>
          <a:xfrm>
            <a:off x="3809880" y="457200"/>
            <a:ext cx="495324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8991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DID BAYER TRADEMARK IN 1895 AS A COUGH SUPPRESSANT, NAMING IT FOR THE EUPHORIC, POWERFUL FEELING IT PRODU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ESSE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MOVIE STARRED WOODY HARRELSON AS AN ARMY CAPTAIN ASSIGNED TO NOTIFY FAMILIES OF FALLEN SOLD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YOUTUBE HAVE MORE OF THAN PEOPLE ON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219320" y="4876920"/>
            <a:ext cx="6705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SH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HALL OF FAMERS INCLUDE DAVE BING, BERNARD KING, AND YAO 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TS 3.78 CM FARTHER FROM THE EARTH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EETHOVEN'S PROFESSION BEFORE HE BECAME FAMOUS FOR COMPO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$30,000 ADDITION DO MORE HOUSES IN ARIZONA, FLORIDA, AND NEVADA HAVE THAN ANY OTHER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TABLE LOOKS LIKE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762px-Craps.svg.png"/>
          <p:cNvPicPr/>
          <p:nvPr/>
        </p:nvPicPr>
        <p:blipFill>
          <a:blip r:embed="rId1"/>
          <a:stretch/>
        </p:blipFill>
        <p:spPr>
          <a:xfrm>
            <a:off x="3505320" y="914400"/>
            <a:ext cx="53658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3047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beatles-revolver.jpg"/>
          <p:cNvPicPr/>
          <p:nvPr/>
        </p:nvPicPr>
        <p:blipFill>
          <a:blip r:embed="rId1"/>
          <a:stretch/>
        </p:blipFill>
        <p:spPr>
          <a:xfrm>
            <a:off x="3809880" y="457200"/>
            <a:ext cx="49532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MOVIE STARRED WOODY HARRELSON AS AN ARMY CAPTAIN ASSIGNED TO NOTIFY FAMILIES OF FALLEN SOLDI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4:20:29Z</dcterms:created>
  <dc:creator>Jennifer Budzinski</dc:creator>
  <dc:description/>
  <dc:language>en-US</dc:language>
  <cp:lastModifiedBy>Erich Friedman</cp:lastModifiedBy>
  <dcterms:modified xsi:type="dcterms:W3CDTF">2020-08-29T14:22:31Z</dcterms:modified>
  <cp:revision>420</cp:revision>
  <dc:subject/>
  <dc:title>Slide 1</dc:title>
</cp:coreProperties>
</file>