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748F-437E-43A0-B934-64EABE13F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7DE9-9901-4034-8063-872E0D800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1084-36D5-433E-9CA4-9767EEC3C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E244-9FC2-49D2-85AC-E8BA45D9B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B75F-818C-42D2-849C-99E060973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27EC-B871-4F2B-A948-201639594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4EDB-2258-4819-A978-6D1815C20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D0C-6D57-4F0F-A5C1-5ECD845F8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9C7E-51B0-423C-9007-9B2523BEE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FA69-0ED1-4B18-BAA6-401D345B3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9517-51CF-4F9E-BB45-78E1F4C61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2147-B357-4B67-AF14-96E9C37EC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2807-11A3-42FC-831B-F0D541ADA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B571-F04F-4D64-A107-7F4EE7C70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ADB7-D4F3-4D3E-BE5C-F0E186969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A673-F31A-47F3-8046-E7BB3A2D1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B648-46D5-4222-A636-46E29E1E3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AB12-58EA-432D-BCBD-63E7544F7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6876-E60D-4B74-98D1-6F7C8C104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A6C4-78E8-47EF-8782-EB8BF9ADA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FFE6-A680-49BB-BC3D-3AD86BA5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A5E2-5D6D-4F29-9E4C-1A4EBAF7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0DCB-CDC0-4D56-BF2D-E387BA7F6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YOUTUBE HAVE MORE OF THAN PEOPLE ON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114480" y="762120"/>
            <a:ext cx="89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DID BAYER TRADEMARK IN 1895 AS A COUGH SUPPRESSANT, NAMING IT FOR THE EUPHORIC, POWERFUL FEELING IT PRODU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KET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HALL OF FAMERS INCLUDE DAVE BING, BERNARD KING, AND YAO 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TS 3.78 CM FARTHER FROM THE EARTH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ANO  PL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ETHOVEN'S PROFESSION BEFORE HE BECAME FAMOUS FOR COMPO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$30,000 ADDITION DO MORE HOUSES IN ARIZONA, FLORIDA, AND NEVADA HAVE THAN ANY OTHER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95288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2280" y="1066680"/>
            <a:ext cx="327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TABLE LOOKS LIKE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762px-Craps.svg.png"/>
          <p:cNvPicPr/>
          <p:nvPr/>
        </p:nvPicPr>
        <p:blipFill>
          <a:blip r:embed="rId1"/>
          <a:stretch/>
        </p:blipFill>
        <p:spPr>
          <a:xfrm>
            <a:off x="3505320" y="914400"/>
            <a:ext cx="536580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533520" y="4952880"/>
            <a:ext cx="289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304920" y="91440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beatles-revolver.jpg"/>
          <p:cNvPicPr/>
          <p:nvPr/>
        </p:nvPicPr>
        <p:blipFill>
          <a:blip r:embed="rId1"/>
          <a:stretch/>
        </p:blipFill>
        <p:spPr>
          <a:xfrm>
            <a:off x="3809880" y="457200"/>
            <a:ext cx="495324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320" y="762120"/>
            <a:ext cx="8991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G DID BAYER TRADEMARK IN 1895 AS A COUGH SUPPRESSANT, NAMING IT FOR THE EUPHORIC, POWERFUL FEELING IT PRODU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8769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ESSE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MOVIE STARRED WOODY HARRELSON AS AN ARMY CAPTAIN ASSIGNED TO NOTIFY FAMILIES OF FALLEN SOLDI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YOUTUBE HAVE MORE OF THAN PEOPLE ON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219320" y="4876920"/>
            <a:ext cx="6705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YOU  CAN  SH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ORT'S HALL OF FAMERS INCLUDE DAVE BING, BERNARD KING, AND YAO 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ETS 3.78 CM FARTHER FROM THE EARTH EVERY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EETHOVEN'S PROFESSION BEFORE HE BECAME FAMOUS FOR COMPOS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$30,000 ADDITION DO MORE HOUSES IN ARIZONA, FLORIDA, AND NEVADA HAVE THAN ANY OTHER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-360" y="990720"/>
            <a:ext cx="3429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INO TABLE LOOKS LIKE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762px-Craps.svg.png"/>
          <p:cNvPicPr/>
          <p:nvPr/>
        </p:nvPicPr>
        <p:blipFill>
          <a:blip r:embed="rId1"/>
          <a:stretch/>
        </p:blipFill>
        <p:spPr>
          <a:xfrm>
            <a:off x="3505320" y="914400"/>
            <a:ext cx="53658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3047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beatles-revolver.jpg"/>
          <p:cNvPicPr/>
          <p:nvPr/>
        </p:nvPicPr>
        <p:blipFill>
          <a:blip r:embed="rId1"/>
          <a:stretch/>
        </p:blipFill>
        <p:spPr>
          <a:xfrm>
            <a:off x="3809880" y="457200"/>
            <a:ext cx="495324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MOVIE STARRED WOODY HARRELSON AS AN ARMY CAPTAIN ASSIGNED TO NOTIFY FAMILIES OF FALLEN SOLDI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7T14:20:29Z</dcterms:created>
  <dc:creator>Jennifer Budzinski</dc:creator>
  <dc:description/>
  <dc:language>en-US</dc:language>
  <cp:lastModifiedBy>Erich Friedman</cp:lastModifiedBy>
  <dcterms:modified xsi:type="dcterms:W3CDTF">2020-08-29T14:22:31Z</dcterms:modified>
  <cp:revision>420</cp:revision>
  <dc:subject/>
  <dc:title>Slide 1</dc:title>
</cp:coreProperties>
</file>