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393-1096-4B3C-96A4-C995E2C22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E9A7-0262-4568-A77D-C28B80FF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E5A-F5BC-4B46-80C8-3DE13E79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D63-0D71-4F20-A3C0-2480B6CAC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E715-7E12-4E18-A73B-6CAF1267D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4CF1-2735-4135-BC51-A83B6414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CDC-DBAA-42FF-A827-0679B6BE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593-D6D3-4029-92D7-0B2AAD9E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591A-44E5-460B-978F-C737BF73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BFD-F3EF-4E4D-9998-6F74C4F6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8BB-DACB-4AC2-9491-50C097BC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E4A5-C405-4F0B-90D9-96924D08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77E-C6AC-4444-820A-EEE207A4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C3E-E34A-42EE-AC71-80A800A3F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2BB9-F89B-4D64-B22E-037A3532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255-D94A-4E3C-B220-0EE740B5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821C-76A7-4767-A9EF-1449CD22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E40-7004-43DE-85F5-4626EBB2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779-BC78-496A-9C9A-974A8C8A2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8D3-0C16-45C9-A80F-AF60996E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0F7-4F34-4213-AA1A-3956A479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E7D-B3D5-4506-A53A-3BA7879D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800-CF51-414D-80D3-FD40B2AD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ER'S 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R  AND  PRESENT  D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A HIJACKED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5888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  WAS  IN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     A HIJACKED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3:32:15Z</dcterms:created>
  <dc:creator>Jennifer Budzinski</dc:creator>
  <dc:description/>
  <dc:language>en-US</dc:language>
  <cp:lastModifiedBy>Erich Friedman</cp:lastModifiedBy>
  <dcterms:modified xsi:type="dcterms:W3CDTF">2020-08-24T13:00:18Z</dcterms:modified>
  <cp:revision>341</cp:revision>
  <dc:subject/>
  <dc:title>Slide 1</dc:title>
</cp:coreProperties>
</file>