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652A-60CD-4351-B210-488287B77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8840-EEE5-41CB-8553-BBE4694DB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3347-E770-4162-9EEB-16559E3EA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8F25-BCA5-481B-9E8D-DF1187EF3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B471-509C-46CB-A0EE-299AAF471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A29D-BF92-4403-A3D4-3EE5F2B89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8356-683A-49D0-A2CE-6D4F55656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F4AB-A7B7-4743-9CB0-D5FA25318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609A-647D-4E47-9E22-EB2B9F9FF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E820-0565-4123-A3B2-5BCD2F75E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206A-082E-4C00-A515-AF00E0748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9193-228A-46C9-A5FC-C5F4D3D06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BBD3-C4E2-45E9-90F2-769EEE4D3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AF38-38D0-487D-BAE6-4C0D98463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56A5-D63B-401A-8BDD-5BB845FC7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A769-8FDA-4FE6-938A-EFB73A5B2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48B2-A5B6-4295-8D28-68E105779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81F5-AAFA-42E3-9F9B-BAC346212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CA63-4E90-4B49-8BC4-765B9C1C7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3FC3-B918-45F6-86C5-1518467CC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5720-D4D3-4796-AE71-62274113B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C8B1-9181-408D-BB42-09FA69B6C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9860-1994-4B59-A879-5057DAB65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THE MARVEL COMICS UNIVERSE, WHAT FILM FRANCHISE HAS MADE THE MOST MO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OV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DER'S  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SCI-FI FILM WAS BASED ON A BOOK BY THE SAME NAME BY ORSON SCOTT C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DE  RU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523880" y="762120"/>
            <a:ext cx="6096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SCI-FI CULT FILM MOTIVATED A SEQUEL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UG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409760" y="76212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ACTION FILM WAS BASED ON A 1963-1967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IS ABOUT PROTECTING AN AMISH BOY WHO SAW A MU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BR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IS A REMAKE OF A 1954 FILM STARRING HUMPHREY BOGART AND AUDREY HEPBU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AR  AND  PRESENT  D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BASED ON A TOM CLANCY NOVEL ABOUT JACK RYAN FOLLOWED "THE HUNT FOR RED OCTOBER" AND "PATRIOT GAM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  FORCE 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FEATURED THE U.S. PRESIDENT RETAKING A HIJACKED PL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3 SCI-FI FILM WAS BASED ON A BOOK BY THE SAME NAME BY ORSON SCOTT C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IDERS  OF  THE  LOST  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52600" y="758880"/>
            <a:ext cx="8038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1981'S TOP GROSSING FILM, WHICH LEAD TO 3 SEQUELS, THE LAST OF WHICH WAS MADE IN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W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THE MARVEL COMICS UNIVERSE, WHAT FILM FRANCHISE HAS MADE THE MOST MO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ISON  FORD  WAS  IN  T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OV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2 SCI-FI CULT FILM MOTIVATED A SEQUEL IN 20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ACTION FILM WAS BASED ON A 1963-1967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IS ABOUT PROTECTING AN AMISH BOY WHO SAW A MU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5 FILM IS A REMAKE OF A 1954 FILM STARRING HUMPHREY BOGART AND AUDREY HEPBU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 FILM BASED ON A TOM CLANCY NOVEL ABOUT JACK RYAN FOLLOWED "THE HUNT FOR RED OCTOBER" AND "PATRIOT GAM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44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7 FILM FEATURED THE U.S. PRESIDENT RETAKING      A HIJACKED PL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1981'S TOP GROSSING FILM, WHICH LEAD TO 3 SEQUELS, THE LAST OF WHICH WAS MADE IN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1T13:32:15Z</dcterms:created>
  <dc:creator>Jennifer Budzinski</dc:creator>
  <dc:description/>
  <dc:language>en-US</dc:language>
  <cp:lastModifiedBy>Erich Friedman</cp:lastModifiedBy>
  <dcterms:modified xsi:type="dcterms:W3CDTF">2020-08-24T13:00:18Z</dcterms:modified>
  <cp:revision>341</cp:revision>
  <dc:subject/>
  <dc:title>Slide 1</dc:title>
</cp:coreProperties>
</file>