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FDE-383C-4D81-9105-B5F09339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F28-CCF5-4328-A5B0-D6905437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406-1710-43F9-A2F7-2100859C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1B5-1748-4B07-9BEC-58C36B35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0EF-A9CF-4D16-80E1-C12B6E83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4307-0632-4740-8EAD-D820E315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A24B-FE9F-4874-83F1-A19E5DAD7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848-E2CD-4897-8FF9-0B62AF87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1E1-E465-4F37-8EBB-AB9B29BA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785-2907-4F3A-87D9-C0D80F430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3C8-B19E-477B-B8CD-4117C111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79B3-898A-4A4E-B6D1-273E0BCA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190-E1B7-4ECD-B325-41AA54DF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3E6-0874-4FF0-90B2-91310DBD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32A-ACAE-44E7-B4E8-7B018F2B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ADC-B3C5-47D6-A7CC-E4E41118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B9D-CE3C-4320-AF23-8A108CB2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A93-8A61-4151-B284-2530DBB5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E9B-E626-4AD8-985A-B6BADBF5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BEC-F646-41FA-A6CC-D3AD1997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F12-33B8-4836-B546-07143734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EE2-1163-4387-8EFF-196C116F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1E9E-3ADC-493F-A8EC-541117F2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ER'S 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R  AND  PRESENT  D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A HIJACKED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5888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  WAS  IN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     A HIJACKED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3:32:15Z</dcterms:created>
  <dc:creator>Jennifer Budzinski</dc:creator>
  <dc:description/>
  <dc:language>en-US</dc:language>
  <cp:lastModifiedBy>Erich Friedman</cp:lastModifiedBy>
  <dcterms:modified xsi:type="dcterms:W3CDTF">2020-08-24T13:00:18Z</dcterms:modified>
  <cp:revision>341</cp:revision>
  <dc:subject/>
  <dc:title>Slide 1</dc:title>
</cp:coreProperties>
</file>