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A99-6200-440D-B0DB-43FF120A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8316-F6BC-4242-9B66-430F06F74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4046-9F55-48DF-932B-17887F1F5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86D7-31C9-4C1C-92BD-1FC735DB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E32-0D61-457A-BB13-5A4C98A79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DDDC-008B-4021-8249-3B2A2CC23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2D618-4C0F-4123-8661-E69ED3754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F124-9756-4773-B412-873A0FACC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D38B-B883-48B4-B954-7CFBE401A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1E09-8F03-44B9-9022-DF2EC558F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A032-1F4E-4C36-9D1F-8E3FBCF2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CC49-D931-4CA6-B98F-4A757D70E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4BC7-8991-4B6E-9918-49F7E7A0D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98A3-BD8D-448F-8D83-4AAED9FB3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8EDE-4717-4C69-9C4F-B315BEC6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FEEA-EBF2-4B54-8CB7-F56832E6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07D7-1976-4FD2-B44D-F52F73C39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F65A-28C3-401E-B038-F733E1A91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E188-03E9-4A5F-B0B4-C2457221A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2816-778E-430A-BC0C-189C91199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16A2-9065-4D7A-9DDF-BEC140617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2641-B563-41EF-A3A4-A99BE1D3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7868-285C-4159-8C9F-AE008DC0D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UROPEAN 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RESTAURANT IN EUROPE, "PIWNICA SWIDNICKA", IS LOCATE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 (BESIDES BEING LOCATED IN EUROP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LIFE EXPECTANCY IN THE WRLD FOR 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VISITED MORE OFTEN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H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60% OF ITS POPULATION LIVING BELOW SEA LE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ERE PHYSICIST NEILS BOHR AND PHILOSOPHER SØREN KIERKEGAARD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XEMBO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THE LARGEST MINIMUM SALARY AND THE LOWEST UNEMPLOYMEN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RUSSELS AS IT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ARNOLD SCHWARZENEGGER AND WOLFGANG AMADEUS MOZART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LIFE EXPECTANCY IN THE WORLD FOR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ZECH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PRAGUE AS IT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RESTAURANT IN EUROPE, "PIWNICA SWIDNICKA",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BORDER 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 (BESIDES BEING LOCATED IN EUROP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VISITED MORE OFTEN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60% OF ITS POPULATION LIVING BELOW SEA LE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WERE PHYSICIST NEILS BOHR AND PHILOSOPHER SØREN KIERKEGAARD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THE LARGEST MINIMUM SALARY AND THE LOWEST UNEMPLOYMENT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RUSSELS AS IT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ARNOLD SCHWARZENEGGER AND WOLFGANG AMADEUS MOZART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PRAGUE AS IT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8:32:00Z</dcterms:created>
  <dc:creator>Jennifer Budzinski</dc:creator>
  <dc:description/>
  <dc:language>en-US</dc:language>
  <cp:lastModifiedBy>Erich Friedman</cp:lastModifiedBy>
  <dcterms:modified xsi:type="dcterms:W3CDTF">2020-08-29T14:23:06Z</dcterms:modified>
  <cp:revision>408</cp:revision>
  <dc:subject/>
  <dc:title>Slide 1</dc:title>
</cp:coreProperties>
</file>