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F611-7E9D-49A9-87B1-6F2225AAE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2DC7-479E-400B-8C9C-6D001160C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42CB-F830-493F-94DF-8803ECE1A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8765-78E8-43DA-9FA2-5F066AC15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3C74-C7A7-46D9-84EA-349F76FF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C0E3-527B-4FC3-B45D-188EECD35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875E-90DB-483A-9101-EE63AB0E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8988-A477-4089-B942-1A0B932B7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51D8-BDB3-4607-842D-66C1D86A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9197-BA59-4A6E-8373-65FBA9A68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24EA-C017-4E4F-8907-3168C4C8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DEB6-9F1A-45FC-9E47-125574D7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87D5-F981-47BC-95F0-53F305936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CD29-7363-476A-A5BA-3A610E38B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D6A9-4DE9-4180-A6F1-813D9D9D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3AA1-B4A4-4983-9C89-3A720A4C2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FD02-172A-4B2F-92FC-11EA0BFD3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EC31-FFFF-478D-AF3B-0110B22AA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5D9A-FA5E-46C6-B185-71935732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5DC5-CDC4-42CD-8964-8F1E98C7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EED2-F525-41BF-9C86-A9AFF8A1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1C19-0697-4FE8-9740-E37B1D923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5462-CA54-4B5B-A523-5D4D0FD0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UROPEAN 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RESTAURANT IN EUROPE, "PIWNICA SWIDNICKA", IS LOCATE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 (BESIDES BEING LOCATED IN EUROP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LIFE EXPECTANCY IN THE WRLD FOR 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VISITED MORE OFTEN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HER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60% OF ITS POPULATION LIVING BELOW SEA LE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ERE PHYSICIST NEILS BOHR AND PHILOSOPHER SØREN KIERKEGAARD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XEMBO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THE LARGEST MINIMUM SALARY AND THE LOWEST UNEMPLOYMEN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RUSSELS AS ITS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ARNOLD SCHWARZENEGGER AND WOLFGANG AMADEUS MOZART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LIFE EXPECTANCY IN THE WORLD FOR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ZECH 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PRAGUE AS ITS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RESTAURANT IN EUROPE, "PIWNICA SWIDNICKA",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BORDER 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 (BESIDES BEING LOCATED IN EUROP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VISITED MORE OFTEN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60% OF ITS POPULATION LIVING BELOW SEA LE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ERE PHYSICIST NEILS BOHR AND PHILOSOPHER SØREN KIERKEGAARD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THE LARGEST MINIMUM SALARY AND THE LOWEST UNEMPLOYMENT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RUSSELS AS IT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ARNOLD SCHWARZENEGGER AND WOLFGANG AMADEUS MOZART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PRAGUE AS IT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8:32:00Z</dcterms:created>
  <dc:creator>Jennifer Budzinski</dc:creator>
  <dc:description/>
  <dc:language>en-US</dc:language>
  <cp:lastModifiedBy>Erich Friedman</cp:lastModifiedBy>
  <dcterms:modified xsi:type="dcterms:W3CDTF">2020-08-29T14:23:06Z</dcterms:modified>
  <cp:revision>408</cp:revision>
  <dc:subject/>
  <dc:title>Slide 1</dc:title>
</cp:coreProperties>
</file>