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BE42-E906-44C0-8159-E334B738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3CE4-A7A2-437C-869B-E3902502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5C24-44C8-4C4B-A9F6-BBE6F582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860B-C96D-4E7B-9DB3-217E8884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D435-A07C-41DB-B52F-419EF77A1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DAB6-62B1-4AF9-BC0B-4716EDD8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2744-75E3-47D0-979A-D288BDFE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41D-E0A3-44BC-A571-DD692F08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A4A-072C-4D1B-BBF4-BD9A7DB4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C59F-BA09-4753-9AC0-BCFA6DCE2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B0D1-3B5B-406A-BB35-C586FAB2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894E-BEB9-4193-9725-F82DE0E3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94D-2699-4E4F-BF40-9D733897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57F4-B8A6-4360-8CC5-6A0A27778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978C-C24F-4217-9FA5-333F60BF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D5E9-D404-4B3D-B161-F5B3E364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F2C-7272-4E65-A90F-61372B78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7BAF-532F-437C-91D6-156C4507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2956-5BC2-4798-95ED-1A6F79C37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E0A-2527-42BA-BD92-520C77C4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F78F-9EE7-4D78-BEC3-D66B94504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FEA5-691F-4B13-94ED-73DC372C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9F7B-63CA-45EE-A9F0-1F405811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UROPEAN 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RESTAURANT IN EUROPE, "PIWNICA SWIDNICKA", IS LOCATE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 (BESIDES BEING LOCATED IN EUROP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LIFE EXPECTANCY IN THE WRLD FOR 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VISITED MORE OFTEN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H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60% OF ITS POPULATION LIVING BELOW SEA LE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ERE PHYSICIST NEILS BOHR AND PHILOSOPHER SØREN KIERKEGAARD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XEMBO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THE LARGEST MINIMUM SALARY AND THE LOWEST UNEMPLOYMEN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RUSSELS AS IT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ARNOLD SCHWARZENEGGER AND WOLFGANG AMADEUS MOZART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LIFE EXPECTANCY IN THE WORLD FOR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ZECH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PRAGUE AS IT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RESTAURANT IN EUROPE, "PIWNICA SWIDNICKA",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BORDER 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 (BESIDES BEING LOCATED IN EUROP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VISITED MORE OFTEN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60% OF ITS POPULATION LIVING BELOW SEA LE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ERE PHYSICIST NEILS BOHR AND PHILOSOPHER SØREN KIERKEGAARD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THE LARGEST MINIMUM SALARY AND THE LOWEST UNEMPLOYMENT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RUSSELS AS IT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ARNOLD SCHWARZENEGGER AND WOLFGANG AMADEUS MOZART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PRAGUE AS IT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8:32:00Z</dcterms:created>
  <dc:creator>Jennifer Budzinski</dc:creator>
  <dc:description/>
  <dc:language>en-US</dc:language>
  <cp:lastModifiedBy>Erich Friedman</cp:lastModifiedBy>
  <dcterms:modified xsi:type="dcterms:W3CDTF">2020-08-29T14:23:06Z</dcterms:modified>
  <cp:revision>408</cp:revision>
  <dc:subject/>
  <dc:title>Slide 1</dc:title>
</cp:coreProperties>
</file>