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48F9-DE7B-43B3-BAF1-E966474CB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3B96-2739-4458-98DA-DF1E8E2B7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04FB-0B2D-4803-A5AB-6F42208CA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5D9E-86EF-4262-9786-98B2000DB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185-3246-4505-ADA3-E257CAAA4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4AEB-7FB3-4870-BA0A-F5E8A9992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3D1C-C1E2-4ED3-865F-4A801CD6C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0299-3CEF-40C8-B3D8-735C61DD7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B14DB-94D2-4B14-B36F-ECC6C7341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ABBE-F8B1-4D3F-84DD-690FAA74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AA77-6C20-4E64-8FB8-ED374C191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73F6-0730-4065-87BE-5C0194BA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03E4-766F-4D38-AD3F-59642CBD9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EF20-B07B-4B56-87C6-D24FB6BD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541D-2485-449F-8470-0743E84B2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DD36-3167-4FCF-8B02-C341A637B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13CD-218F-45B4-AF55-589C58916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EAD8-5A18-41AA-B7FF-3B0ECBEFB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B4E2-A741-48AD-8150-0C2C14562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1FBB-6E43-4273-BE7F-FC55A179F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8C37-994F-499C-8543-FB2E0A9AF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4ABA-6724-4A85-9585-D9B337DA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ED96-9275-4AA3-82AB-7ACA6E8A4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LLOWS "84" IN THE NAME OF THE NATION’S LARGEST PRIVATELY HELD SUPPLIER OF BUILDING MATER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9072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TRIANGLE APPEARS ON THE FLAG OF THE BAHA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90440" y="762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TV SERIES STARRED ROBBIE COLTRANE AS THE CRIMINAL PSYCHOLOGIST DR. EDWARD FITZGERA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E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CIFIC COAST CITY, TODAY THE HOME OF A POPULAR JAZZ FESTIVAL, WAS THE PROVINCIAL CAPITAL OF MEXICA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762120" y="68580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LASSIC UNIVERSAL STUDIOS MONSTER, AKA LAWRENCE TALBOT, DID BENICIO DEL TORO PLAY IN A 2010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6032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YMBOL "U" MEAN IN MATHEMA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523880" y="48769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ACCOUNTS FOR HALF OF THE INTERNATIONAL DECIDUOUS FRUIT TREE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762120"/>
            <a:ext cx="5791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TER GABRIEL'S FIRST 4 ALBUMS WERE EPONYMOUS, SO HI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S KNOWN AS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Car1-560x560.jpg"/>
          <p:cNvPicPr/>
          <p:nvPr/>
        </p:nvPicPr>
        <p:blipFill>
          <a:blip r:embed="rId1"/>
          <a:stretch/>
        </p:blipFill>
        <p:spPr>
          <a:xfrm>
            <a:off x="5943600" y="13716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TRIANGLE APPEARS ON THE FLAG OF THE BAHA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8480" y="762120"/>
            <a:ext cx="7010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MARK TWAIN STORY,   A CALAVERAS COUNTY FROG NAMED DAN'L WEBSTER IS A CHAMPION AT WHAT AC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LLOWS "84" IN THE NAME OF THE NATION’S LARGEST PRIVATELY HELD SUPPLIER OF BUILDING MATER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19320" y="4343400"/>
            <a:ext cx="670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THAT  CAN  BE  FOLLOWED  BY  "J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TV SERIES STARRED ROBBIE COLTRANE AS THE CRIMINAL PSYCHOLOGIST DR. EDWARD FITZGERA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CIFIC COAST CITY, TODAY THE HOME OF A POPULAR JAZZ FESTIVAL, WAS THE PROVINCIAL CAPITAL OF MEXICAN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LASSIC UNIVERSAL STUDIOS MONSTER, AKA LAWRENCE TALBOT, DID BENICIO DEL TORO PLAY IN A 2010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YMBOL "U" MEAN IN MATHEMAT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ACCOUNTS FOR HALF OF THE INTERNATIONAL DECIDUOUS FRUIT TREE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-360" y="838080"/>
            <a:ext cx="5638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TER GABRIEL'S FIRST 4 ALBUMS WERE EPONYMOUS, SO HI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S KNOWN AS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Car1-560x560.jpg"/>
          <p:cNvPicPr/>
          <p:nvPr/>
        </p:nvPicPr>
        <p:blipFill>
          <a:blip r:embed="rId1"/>
          <a:stretch/>
        </p:blipFill>
        <p:spPr>
          <a:xfrm>
            <a:off x="5943600" y="1600200"/>
            <a:ext cx="28954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MARK TWAIN STORY,  A CALAVERAS COUNTY FROG NAMED DAN'L WEBSTER IS A CHAMPION AT WHAT AC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6:20:39Z</dcterms:created>
  <dc:creator>Jennifer Budzinski</dc:creator>
  <dc:description/>
  <dc:language>en-US</dc:language>
  <cp:lastModifiedBy>Erich Friedman</cp:lastModifiedBy>
  <dcterms:modified xsi:type="dcterms:W3CDTF">2020-08-29T14:24:27Z</dcterms:modified>
  <cp:revision>422</cp:revision>
  <dc:subject/>
  <dc:title>Slide 1</dc:title>
</cp:coreProperties>
</file>