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5E2E-7BCC-430F-B948-9AEC83D9D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BD94-0BE6-4072-9101-F01408972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4AC8-5DAB-4F00-A3E0-91A52CBEE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D3C5-2995-447C-A2AC-8CA679610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C383-3720-4D53-B74A-805DA6F4A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82EA-2C2B-478A-81C6-A4AD195C1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5B48-ABB5-431B-B768-5A44E97D5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DFCF-CCD9-4474-8688-EB23F17E5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67C7-B8BE-4AC6-AA66-4CBBABFEA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C4C6-4F5B-4A9C-8D08-D432D0D44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CA99-D47D-4240-A7D9-3C2B08C3E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78A8-B3AB-4939-AA36-B692FB3F9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C6AF-7ECA-49FA-BE6B-21FFC8612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2AF2-0057-4BA3-B3C9-A3812B99D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C655-5C82-4712-AD5A-55704ED29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7F8C-A10B-46D1-B025-4519BE45E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AA8B-1973-4BAD-83C9-EDD05BD6E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E2EA-D2AC-4163-8F8A-6FA965530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5605-7000-4778-A472-2BAE1F0D2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CF56-25DD-4DE7-8118-C0325C6F3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7032-1F1F-4892-B4D3-F480AB721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1B9B-C548-4D57-B42A-0F526BAB5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9233-4A76-460F-B4F1-4D3DFAA3E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FOLLOWS "84" IN THE NAME OF THE NATION’S LARGEST PRIVATELY HELD SUPPLIER OF BUILDING MATERI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9072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TRIANGLE APPEARS ON THE FLAG OF THE BAHAM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90440" y="7621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TV SERIES STARRED ROBBIE COLTRANE AS THE CRIMINAL PSYCHOLOGIST DR. EDWARD FITZGERA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E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CIFIC COAST CITY, TODAY THE HOME OF A POPULAR JAZZ FESTIVAL, WAS THE PROVINCIAL CAPITAL OF MEXICAN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62120" y="68580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LASSIC UNIVERSAL STUDIOS MONSTER, AKA LAWRENCE TALBOT, DID BENICIO DEL TORO PLAY IN A 2010 MOV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62120" y="76032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YMBOL "U" MEAN IN MATHEMAT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523880" y="487692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ACCOUNTS FOR HALF OF THE INTERNATIONAL DECIDUOUS FRUIT TREE PROD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0" y="762120"/>
            <a:ext cx="5791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TER GABRIEL'S FIRST 4 ALBUMS WERE EPONYMOUS, SO HI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IS KNOWN A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Car1-560x560.jpg"/>
          <p:cNvPicPr/>
          <p:nvPr/>
        </p:nvPicPr>
        <p:blipFill>
          <a:blip r:embed="rId1"/>
          <a:stretch/>
        </p:blipFill>
        <p:spPr>
          <a:xfrm>
            <a:off x="5943600" y="13716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TRIANGLE APPEARS ON THE FLAG OF THE BAHAM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8480" y="762120"/>
            <a:ext cx="7010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MARK TWAIN STORY,   A CALAVERAS COUNTY FROG NAMED DAN'L WEBSTER IS A CHAMPION AT WHAT AC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FOLLOWS "84" IN THE NAME OF THE NATION’S LARGEST PRIVATELY HELD SUPPLIER OF BUILDING MATERI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19320" y="434340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THAT  CAN  BE  FOLLOWED  BY  "JA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TV SERIES STARRED ROBBIE COLTRANE AS THE CRIMINAL PSYCHOLOGIST DR. EDWARD FITZGERA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CIFIC COAST CITY, TODAY THE HOME OF A POPULAR JAZZ FESTIVAL, WAS THE PROVINCIAL CAPITAL OF MEXICAN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LASSIC UNIVERSAL STUDIOS MONSTER, AKA LAWRENCE TALBOT, DID BENICIO DEL TORO PLAY IN A 2010 MOV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YMBOL "U" MEAN IN MATHEMAT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ACCOUNTS FOR HALF OF THE INTERNATIONAL DECIDUOUS FRUIT TREE PRODU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-360" y="838080"/>
            <a:ext cx="5638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TER GABRIEL'S FIRST 4 ALBUMS WERE EPONYMOUS, SO HI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IS KNOWN AS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Car1-560x560.jpg"/>
          <p:cNvPicPr/>
          <p:nvPr/>
        </p:nvPicPr>
        <p:blipFill>
          <a:blip r:embed="rId1"/>
          <a:stretch/>
        </p:blipFill>
        <p:spPr>
          <a:xfrm>
            <a:off x="5943600" y="16002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MARK TWAIN STORY,  A CALAVERAS COUNTY FROG NAMED DAN'L WEBSTER IS A CHAMPION AT WHAT AC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16:20:39Z</dcterms:created>
  <dc:creator>Jennifer Budzinski</dc:creator>
  <dc:description/>
  <dc:language>en-US</dc:language>
  <cp:lastModifiedBy>Erich Friedman</cp:lastModifiedBy>
  <dcterms:modified xsi:type="dcterms:W3CDTF">2020-08-29T14:24:27Z</dcterms:modified>
  <cp:revision>422</cp:revision>
  <dc:subject/>
  <dc:title>Slide 1</dc:title>
</cp:coreProperties>
</file>