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B2E8-214F-40DD-93B8-7323F86EF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838A-2C8C-4CC0-8EE8-8F39307EC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654E-0C42-453D-AE49-247DAA1A5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0AFC-8A36-4E41-84E3-3056CBB35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F2DB-887C-48D5-87A7-4E834753D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C0EB-214E-4FC2-9232-AEAC78C74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7776-1DA0-4CF9-BA8A-3787F9E5B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F214-139E-4C04-A6AC-69DC85255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9C07-8A4F-4B13-8F94-2A1B4ED01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8958-D096-48FD-B09D-89D2F6DE0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C306-408B-443E-81BA-06B2D97EF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69CB-0776-4D30-A1CA-D652D38F8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2139-525C-4730-B1D3-EF1B7B36A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3D2A-7A80-4330-A82A-EA0EC4471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21AB-9121-4E84-97AD-71B585FD5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141C-AD90-41A5-9E5F-E85592AB3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5F36-B58D-4360-BECC-1AFAF1DF7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96BE-8871-45DA-A4F6-53B3BE51B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BEBD-558E-4DBA-85AE-0ED07B431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2A32-D8E2-4FB3-B1D8-70389CE07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CDFC-A707-424D-9CFC-E25D92FFB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F177-FB13-41CA-8F47-80FE4AAB6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A7DE-8E8D-427F-87CE-EE5F48477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FOLLOWS "84" IN THE NAME OF THE NATION’S LARGEST PRIVATELY HELD SUPPLIER OF BUILDING MATERI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99072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TRIANGLE APPEARS ON THE FLAG OF THE BAHAM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90440" y="7621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TV SERIES STARRED ROBBIE COLTRANE AS THE CRIMINAL PSYCHOLOGIST DR. EDWARD FITZGERA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TE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CIFIC COAST CITY, TODAY THE HOME OF A POPULAR JAZZ FESTIVAL, WAS THE PROVINCIAL CAPITAL OF MEXICAN CALIFOR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LF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762120" y="68580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LASSIC UNIVERSAL STUDIOS MONSTER, AKA LAWRENCE TALBOT, DID BENICIO DEL TORO PLAY IN A 2010 MOV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762120" y="760320"/>
            <a:ext cx="76197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SYMBOL "U" MEAN IN MATHEMAT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523880" y="4876920"/>
            <a:ext cx="6096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ACCOUNTS FOR HALF OF THE INTERNATIONAL DECIDUOUS FRUIT TREE PRODU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0" y="762120"/>
            <a:ext cx="5791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TER GABRIEL'S FIRST 4 ALBUMS WERE EPONYMOUS, SO HI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IS KNOWN AS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5" descr="Car1-560x560.jpg"/>
          <p:cNvPicPr/>
          <p:nvPr/>
        </p:nvPicPr>
        <p:blipFill>
          <a:blip r:embed="rId1"/>
          <a:stretch/>
        </p:blipFill>
        <p:spPr>
          <a:xfrm>
            <a:off x="5943600" y="13716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TRIANGLE APPEARS ON THE FLAG OF THE BAHAM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M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68480" y="762120"/>
            <a:ext cx="7010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MARK TWAIN STORY,   A CALAVERAS COUNTY FROG NAMED DAN'L WEBSTER IS A CHAMPION AT WHAT ACTI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FOLLOWS "84" IN THE NAME OF THE NATION’S LARGEST PRIVATELY HELD SUPPLIER OF BUILDING MATERI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219320" y="4343400"/>
            <a:ext cx="670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S  THAT  CAN  BE  FOLLOWED  BY  "JACK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TV SERIES STARRED ROBBIE COLTRANE AS THE CRIMINAL PSYCHOLOGIST DR. EDWARD FITZGERA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CIFIC COAST CITY, TODAY THE HOME OF A POPULAR JAZZ FESTIVAL, WAS THE PROVINCIAL CAPITAL OF MEXICAN CALIFOR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LASSIC UNIVERSAL STUDIOS MONSTER, AKA LAWRENCE TALBOT, DID BENICIO DEL TORO PLAY IN A 2010 MOV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SYMBOL "U" MEAN IN MATHEMAT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ACCOUNTS FOR HALF OF THE INTERNATIONAL DECIDUOUS FRUIT TREE PRODU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-360" y="838080"/>
            <a:ext cx="5638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TER GABRIEL'S FIRST 4 ALBUMS WERE EPONYMOUS, SO HI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IS KNOWN AS WHA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Car1-560x560.jpg"/>
          <p:cNvPicPr/>
          <p:nvPr/>
        </p:nvPicPr>
        <p:blipFill>
          <a:blip r:embed="rId1"/>
          <a:stretch/>
        </p:blipFill>
        <p:spPr>
          <a:xfrm>
            <a:off x="5943600" y="16002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MARK TWAIN STORY,  A CALAVERAS COUNTY FROG NAMED DAN'L WEBSTER IS A CHAMPION AT WHAT ACTIV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7T16:20:39Z</dcterms:created>
  <dc:creator>Jennifer Budzinski</dc:creator>
  <dc:description/>
  <dc:language>en-US</dc:language>
  <cp:lastModifiedBy>Erich Friedman</cp:lastModifiedBy>
  <dcterms:modified xsi:type="dcterms:W3CDTF">2020-08-29T14:24:27Z</dcterms:modified>
  <cp:revision>422</cp:revision>
  <dc:subject/>
  <dc:title>Slide 1</dc:title>
</cp:coreProperties>
</file>