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DAC7-CE9D-496A-ADDA-503318698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0066-6F44-4F56-A521-FBC67F93F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2E66-4A3E-4454-A9DD-6CB763F00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0EBE-9A5C-4FE1-B0BF-4C30C5A4E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ACC8-CD9F-462A-A782-EF0DFA1C7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98EA-CE1A-4F1A-A0CB-80210B45A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3529-6A4C-4B74-B7E4-FE8924295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2DAD-34D7-495F-B3E7-0AE91A061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134C-DB46-435F-B41E-15057E9B7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004E-9364-41FC-8FE8-DF6E3B0FF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7EE4-B07E-4618-B40D-1A6E9B626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F435-69B6-4389-99EC-B1EB32B5A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9C54-54A7-4275-9704-F863508A7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9455-6FCE-4278-9963-6C6A4E5A2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1DA0-8E2B-4A18-BCCD-E9DA76F3B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A7BA-C04D-4D6C-8F90-FA694D8DB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169D-6331-4897-84D7-5CE496BF5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F92A-3D82-4B82-A363-72427E421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FE4E-9C3A-40E8-A7A8-6CFC830E1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C68B-587E-44FF-A4AE-392E3F6AB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3427-13CB-46ED-919D-6FA192628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80E0-D3AB-44D6-85FC-7CA749A0B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2838-DB23-4571-B038-8B75A7B35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3 FILM STARRED TOM HANKS AS WALT DISN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T  SHO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FILM BASED ON AN ELMORE LEONARD NOVEL STARRED JOHN TRAVOLTA, GENE HACKMAN, RENE RUSSO, AND DANNY DEVI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838080" y="4419720"/>
            <a:ext cx="7467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IFE  AQUATIC  WITH  STEVE  ZISS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FILM STARRED BILL MURRAY AS AN ECCENTRIC OCEANOGRAPHER BENT ON REVENGE AGAINST A SH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L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FILM STARRING TIM ROBBINS WON GOLDEN GLOBE AWARDS FOR BEST MOTION PICTURE (IN A COMEDY) AND BEST ACTOR (IN A COMEDY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AP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FILM BASED ON THE NON-FICTION BOOK "THE ORCHID THIEF" STARRED NICOLAS CAGE AND MERYL STREE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RT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BLACK AND WHITE, MOSTLY SILENT FILM WON THE OSCAR FOR BEST PICTUR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NGIN'  IN  THE  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00280" y="723960"/>
            <a:ext cx="75438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2 GENE KELLY FILM WAS NOT ORIGINALLY A HIT, BUT IS NOW WIDELY REGARDED AS THE BEST MUSICAL EVER MAD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876920"/>
            <a:ext cx="518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WFI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04840" y="76212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SATIRICAL COMEDY FILM STARRED STEVE MARTIN AND EDDIE MURP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FILM BASED ON AN ELMORE LEONARD NOVEL STARRED JOHN TRAVOLTA, GENE HACKMAN, RENE RUSSO, AND DANNY DEVI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8 FILM STARRED SALLY FIELD, ADAM WEST, AND  BURT REYNOLDS AS "THE GREATEST STUNTMAN ALI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VING  MR.  B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3 FILM STARRED TOM HANKS AS WALT DISN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487692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ABOUT  MAKING  MOV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FILM STARRED BILL MURRAY AS AN ECCENTRIC OCEANOGRAPHER BENT ON REVENGE AGAINST A SHA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FILM STARRING TIM ROBBINS WON GOLDEN GLOBE AWARDS FOR BEST MOTION PICTURE (IN A COMEDY) AND BEST ACTOR (IN A COMEDY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FILM BASED ON THE NON-FICTION BOOK "THE ORCHID THIEF" STARRED NICOLAS CAGE AND MERYL STREE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BLACK AND WHITE, MOSTLY SILENT FILM WON THE OSCAR FOR BEST PICTUR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2 GENE KELLY FILM WAS NOT ORIGINALLY A HIT, BUT IS NOW WIDELY REGARDED AS THE BEST MUSICAL EVER MAD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SATIRICAL COMEDY FILM STARRED STEVE MARTIN AND EDDIE MURPH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8 FILM STARRED SALLY FIELD, ADAM WEST, AND BURT REYNOLDS AS "THE GREATEST STUNTMAN ALI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2T13:32:36Z</dcterms:created>
  <dc:creator>Jennifer Budzinski</dc:creator>
  <dc:description/>
  <dc:language>en-US</dc:language>
  <cp:lastModifiedBy>Erich Friedman</cp:lastModifiedBy>
  <dcterms:modified xsi:type="dcterms:W3CDTF">2020-08-29T14:25:34Z</dcterms:modified>
  <cp:revision>353</cp:revision>
  <dc:subject/>
  <dc:title>Slide 1</dc:title>
</cp:coreProperties>
</file>