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407-1678-42C9-A324-3F061EFF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11D1-CF4C-45DA-A54F-811C8987A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DDB-7B5F-4452-8F95-A3C352B9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F34-DC3E-4AC3-B211-E95A4D0A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BD9-019D-4C1D-8E6B-A39E52D4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2CD-371C-40A4-B4C3-E2CCE8F5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E16-4493-4AEB-8A3C-308684B4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A43-BE29-4ABB-A72C-AB1FE6B6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8137-5DAF-428B-957C-FA3C1B75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3B3-C025-49E2-8609-7A78621FA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95A-E899-4D33-B3CE-D0636C95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1D4-3080-4BB8-B3E0-51C05E8C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E71-27C7-47D6-938A-C4FF4820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8A38-3A61-4E0B-8911-4AC37181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B78-800F-414B-B023-91AE86BD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2210-7487-491B-8AA6-51FBEED3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2CE-07F4-43C2-8014-00653D0D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5DEB-F140-4B85-BCE7-7987AF5AC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7910-A523-4528-82EF-5BD8F9F1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2FA-3C0D-4ACF-B6CE-2843A95BC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BBE-875A-44C3-85B8-A4F54E9B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AFC-6646-48F1-9DFC-D0A761FC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8E7E-7E81-4348-852E-C718A487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T  SH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FE  AQUATIC  WITH  STEVE  ZISS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R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IN'  IN  TH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 BURT REYNOLDS AS "THE GREATEST STUNTMAN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MR.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BOUT  MAKIN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BURT REYNOLDS AS "THE GREATEST STUNTMAN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3:32:36Z</dcterms:created>
  <dc:creator>Jennifer Budzinski</dc:creator>
  <dc:description/>
  <dc:language>en-US</dc:language>
  <cp:lastModifiedBy>Erich Friedman</cp:lastModifiedBy>
  <dcterms:modified xsi:type="dcterms:W3CDTF">2020-08-29T14:25:34Z</dcterms:modified>
  <cp:revision>353</cp:revision>
  <dc:subject/>
  <dc:title>Slide 1</dc:title>
</cp:coreProperties>
</file>