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7DCE5-20F3-4ABB-9360-5D194EE731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639D2-53BD-42D6-9589-86B4F4B992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620F6-9312-414C-B66F-E5F13691E9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7B186-B11E-40B8-8E92-9CAC9732BD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FBC8C-2DDD-4B75-A917-1D813535B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74F39-D0D9-44CD-960A-FB2A83B418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6A62D-441A-4123-8592-A17097CE7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D4738-0612-4BAE-A541-F652F7C51B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44078-8F53-4672-9289-03BAD5336B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6134B-DEA3-49C6-8BDB-5DF89D2300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243F4-30B1-445A-87C9-18DD21ECFF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EC659-6BD7-4932-BE0D-16ADBF8F7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BBA26-9917-439A-8743-A36AFF94BB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CE301-B67A-43E8-A2A9-88AE8AE773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9067D-A9B3-4AD8-8127-5617A48693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563D9-15F7-4CA9-80A6-B9A8B80922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F1776-54EE-4291-9579-EF7FF5D85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84A05-CCF1-4D7C-A0EF-01BDE088F3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AC6AE-9416-447A-86C3-F6930AF496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A69F2-9E14-4B9E-90DC-B3AE69BEB2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597F4-00FE-4F63-B7FF-464F39C26D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76E16-7C4F-4087-AFC4-5ACEB72044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9B213-DC41-4DFC-86D1-16009CB06C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LM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3 FILM STARRED TOM HANKS AS WALT DISNE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FILM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T  SHOR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533520" y="762120"/>
            <a:ext cx="80769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5 FILM BASED ON AN ELMORE LEONARD NOVEL STARRED JOHN TRAVOLTA, GENE HACKMAN, RENE RUSSO, AND DANNY DEVIT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838080" y="4419720"/>
            <a:ext cx="74678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LIFE  AQUATIC  WITH  STEVE  ZISS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71680" y="762120"/>
            <a:ext cx="80010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4 FILM STARRED BILL MURRAY AS AN ECCENTRIC OCEANOGRAPHER BENT ON REVENGE AGAINST A SHA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PLAY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343080" y="7621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2 FILM STARRING TIM ROBBINS WON GOLDEN GLOBE AWARDS FOR BEST MOTION PICTURE (IN A COMEDY) AND BEST ACTOR (IN A COMEDY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828800" y="4876920"/>
            <a:ext cx="5638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DAP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90720" y="76212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2 FILM BASED ON THE NON-FICTION BOOK "THE ORCHID THIEF" STARRED NICOLAS CAGE AND MERYL STREE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ART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380880" y="762120"/>
            <a:ext cx="8382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1 BLACK AND WHITE, MOSTLY SILENT FILM WON THE OSCAR FOR BEST PICTUR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NGIN'  IN  THE  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00280" y="723960"/>
            <a:ext cx="75438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2 GENE KELLY FILM WAS NOT ORIGINALLY A HIT, BUT IS NOW WIDELY REGARDED AS THE BEST MUSICAL EVER MAD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981080" y="4876920"/>
            <a:ext cx="5181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WFIN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104840" y="762120"/>
            <a:ext cx="69343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9 SATIRICAL COMEDY FILM STARRED STEVE MARTIN AND EDDIE MURPH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5 FILM BASED ON AN ELMORE LEONARD NOVEL STARRED JOHN TRAVOLTA, GENE HACKMAN, RENE RUSSO, AND DANNY DEVIT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O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19040" y="762120"/>
            <a:ext cx="8305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8 FILM STARRED SALLY FIELD, ADAM WEST, AND  BURT REYNOLDS AS "THE GREATEST STUNTMAN ALIV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22860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VING  MR.  BAN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71680" y="762120"/>
            <a:ext cx="80010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3 FILM STARRED TOM HANKS AS WALT DISNE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04920" y="4876920"/>
            <a:ext cx="8534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ARE  ABOUT  MAKING  MOV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FILM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4 FILM STARRED BILL MURRAY AS AN ECCENTRIC OCEANOGRAPHER BENT ON REVENGE AGAINST A SHAR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80880" y="762120"/>
            <a:ext cx="8382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2 FILM STARRING TIM ROBBINS WON GOLDEN GLOBE AWARDS FOR BEST MOTION PICTURE (IN A COMEDY) AND BEST ACTOR (IN A COMEDY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2 FILM BASED ON THE NON-FICTION BOOK "THE ORCHID THIEF" STARRED NICOLAS CAGE AND MERYL STREEP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1 BLACK AND WHITE, MOSTLY SILENT FILM WON THE OSCAR FOR BEST PICTURE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2 GENE KELLY FILM WAS NOT ORIGINALLY A HIT, BUT IS NOW WIDELY REGARDED AS THE BEST MUSICAL EVER MADE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9 SATIRICAL COMEDY FILM STARRED STEVE MARTIN AND EDDIE MURPH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8 FILM STARRED SALLY FIELD, ADAM WEST, AND BURT REYNOLDS AS "THE GREATEST STUNTMAN ALIV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2T13:32:36Z</dcterms:created>
  <dc:creator>Jennifer Budzinski</dc:creator>
  <dc:description/>
  <dc:language>en-US</dc:language>
  <cp:lastModifiedBy>Erich Friedman</cp:lastModifiedBy>
  <dcterms:modified xsi:type="dcterms:W3CDTF">2020-08-29T14:25:34Z</dcterms:modified>
  <cp:revision>353</cp:revision>
  <dc:subject/>
  <dc:title>Slide 1</dc:title>
</cp:coreProperties>
</file>