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5F03-11E7-435A-B557-C27B4CA3E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8DA0-CC22-43B0-B5E3-8D4F06EEE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A60C-916D-4C65-A652-5F481FAE9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C709-9D4F-459A-BD89-87D21DCF0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4444-84BC-43E6-BD86-D534F5F6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3FC7-0A58-4742-BB15-FC714673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89C91-9A78-4B2B-9393-23E0D491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94B2-E90B-4F9B-9D11-2F9D456F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9DAE-E290-45F5-9618-7C7C872C2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E820-D7A9-4DF3-8892-5E0B0AC39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D1F-C670-46F0-BF0E-07A555B5C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9D60-5CDA-4C67-A59A-0AF6C6293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5C8A-EA27-4664-B859-C3F75091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2126-97CE-4E7E-9BC6-C8F29B0F4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C13-C13E-4C39-ACF9-0ECA729F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AE8A-A490-4321-8B6F-3191F126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F05-3D5E-41F5-9CDB-601DFC5E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D122-7F34-4816-8A05-19ABAFE7C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3D3A-9665-4FB4-8530-1DC5B3799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5B9B-461A-4AE3-9970-5599D9CA7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FD53-0A34-4979-962D-3361C31DE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5223-EC87-423E-B9DA-3D9562F8A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595E-2EAE-495C-B7D7-A7337F81A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WOMAN TO RUN A MAJOR TV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DER) 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BILLY JOEL SONG, OR THE LAST WORD OF THE TITLE OF A QUEEN AND DAVID BOWI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  (TO  THE  HE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MICKEY ROURKE / TUPAC SHAKIR FILM, 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SYLVESTER STALLONE / CHRISTIAN SLAT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RLIN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219320" y="4800600"/>
            <a:ext cx="670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OST ON THIS WEBSIT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App-Pinterest-icon-with-out-background.jpg"/>
          <p:cNvPicPr/>
          <p:nvPr/>
        </p:nvPicPr>
        <p:blipFill>
          <a:blip r:embed="rId1"/>
          <a:stretch/>
        </p:blipFill>
        <p:spPr>
          <a:xfrm>
            <a:off x="3581280" y="26668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NCENT)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RROR FILM ACTOR WHO  CAN BE HEARD ON MICHAEL JACKSON'S "THRILL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CONTAINS THE LYRICS "SAVIOR OF THE UNIVERSE" AND "HE'LL SAVE EVERY ONE OF U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0060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P)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50 CENT / VAL KILMER FILM, OR THE LAST WORD OF THE TITLE OF A TOM CRUISE / TIM ROBBINS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BILLY JOEL SONG, OR THE LAST WORD OF THE TITLE OF A QUEEN AND DAVID BOWI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E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KNITTING", "SPACE", OR "P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CILLE)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WOMAN TO RUN A MAJOR TV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267080"/>
            <a:ext cx="65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POIN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MICKEY ROURKE / TUPAC SHAKIR FILM, OR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SYLVESTER STALLONE / CHRISTIAN SLAT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BERLIN FROM WARS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OST ON THIS WEBSIT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App-Pinterest-icon-with-out-background.jpg"/>
          <p:cNvPicPr/>
          <p:nvPr/>
        </p:nvPicPr>
        <p:blipFill>
          <a:blip r:embed="rId1"/>
          <a:stretch/>
        </p:blipFill>
        <p:spPr>
          <a:xfrm>
            <a:off x="3429000" y="2743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RROR FILM ACTOR WHO  CAN BE HEARD ON MICHAEL JACKSON'S "THRILL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CONTAINS THE LYRICS "SAVIOR OF THE UNIVERSE" AND "HE'LL SAVE EVERY ONE OF U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A 50 CENT / VAL KILMER FILM, OR THE LAST WORD OF THE TITLE OF A TOM CRUISE / TIM ROBBINS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KNITTING", "SPACE", OR "P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9T20:06:41Z</dcterms:created>
  <dc:creator>Jennifer Budzinski</dc:creator>
  <dc:description/>
  <dc:language>en-US</dc:language>
  <cp:lastModifiedBy>Erich Friedman</cp:lastModifiedBy>
  <dcterms:modified xsi:type="dcterms:W3CDTF">2020-08-29T14:27:10Z</dcterms:modified>
  <cp:revision>356</cp:revision>
  <dc:subject/>
  <dc:title>Slide 1</dc:title>
</cp:coreProperties>
</file>