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D508-7C41-4F19-8FA0-7FEAE0604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6982-2D61-4316-89C7-14A90440A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2B1A-D48C-443B-ABE2-6A8129328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80EC-E980-4999-9256-6C53B77A2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9B44-E7BB-42B8-98B1-DA2965F43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5201-9C5F-4481-94E2-FCD62CA2A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E1D4-1EC7-4475-A8B8-345506442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D203-1A0A-4494-B26F-996D25F8B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750D-331C-4CEB-A55E-CC49BE343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CFE3-4399-4FDE-B588-FAD543C9C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82C6-D1A3-49FF-9B5B-95EB65E61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B5B4-8E95-4D26-896F-40067A35C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953E-AD08-4058-B99A-580BD76F7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AED9-7DFC-45F8-9E4F-186545767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EBCA-C461-49FA-A27F-A37A284B1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5267-0B9F-4290-8A27-8D23A51EA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19AB-B432-472A-BF1C-B23947E57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0245-286B-4184-84C3-0F2A035AE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0A5B-242F-42BD-B3D5-105CDA247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213F-7A22-4C83-A434-6BEE18D56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5D92-27E0-438D-BD37-68904F71C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99A7-D89B-4BED-8938-54DA45032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01E2-AB0F-46C7-B960-95261F08C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WOMAN TO RUN A MAJOR TV STUD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UNDER) 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81160" y="762120"/>
            <a:ext cx="6781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BILLY JOEL SONG, OR THE LAST WORD OF THE TITLE OF A QUEEN AND DAVID BOWI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838080" y="480060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ET  (TO  THE  HEA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MICKEY ROURKE / TUPAC SHAKIR FILM, OR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A SYLVESTER STALLONE / CHRISTIAN SLATE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BERLIN FROM WARS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219320" y="4800600"/>
            <a:ext cx="6705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POST ON THIS WEBSIT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App-Pinterest-icon-with-out-background.jpg"/>
          <p:cNvPicPr/>
          <p:nvPr/>
        </p:nvPicPr>
        <p:blipFill>
          <a:blip r:embed="rId1"/>
          <a:stretch/>
        </p:blipFill>
        <p:spPr>
          <a:xfrm>
            <a:off x="3581280" y="2666880"/>
            <a:ext cx="198144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006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VINCENT) 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RROR FILM ACTOR WHO  CAN BE HEARD ON MICHAEL JACKSON'S "THRILLER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SONG CONTAINS THE LYRICS "SAVIOR OF THE UNIVERSE" AND "HE'LL SAVE EVERY ONE OF U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981080" y="480060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OP)  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50 CENT / VAL KILMER FILM, OR THE LAST WORD OF THE TITLE OF A TOM CRUISE / TIM ROBBINS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BILLY JOEL SONG, OR THE LAST WORD OF THE TITLE OF A QUEEN AND DAVID BOWI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E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KNITTING", "SPACE", OR "P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006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UCILLE)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WOMAN TO RUN A MAJOR TV STUD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95280" y="4267080"/>
            <a:ext cx="6553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POIN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MICKEY ROURKE / TUPAC SHAKIR FILM, OR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A SYLVESTER STALLONE / CHRISTIAN SLATE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BERLIN FROM WARS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POST ON THIS WEBSIT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App-Pinterest-icon-with-out-background.jpg"/>
          <p:cNvPicPr/>
          <p:nvPr/>
        </p:nvPicPr>
        <p:blipFill>
          <a:blip r:embed="rId1"/>
          <a:stretch/>
        </p:blipFill>
        <p:spPr>
          <a:xfrm>
            <a:off x="3429000" y="2743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RROR FILM ACTOR WHO  CAN BE HEARD ON MICHAEL JACKSON'S "THRILLER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SONG CONTAINS THE LYRICS "SAVIOR OF THE UNIVERSE" AND "HE'LL SAVE EVERY ONE OF U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50 CENT / VAL KILMER FILM, OR THE LAST WORD OF THE TITLE OF A TOM CRUISE / TIM ROBBINS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KNITTING", "SPACE", OR "P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9T20:06:41Z</dcterms:created>
  <dc:creator>Jennifer Budzinski</dc:creator>
  <dc:description/>
  <dc:language>en-US</dc:language>
  <cp:lastModifiedBy>Erich Friedman</cp:lastModifiedBy>
  <dcterms:modified xsi:type="dcterms:W3CDTF">2020-08-29T14:27:10Z</dcterms:modified>
  <cp:revision>356</cp:revision>
  <dc:subject/>
  <dc:title>Slide 1</dc:title>
</cp:coreProperties>
</file>