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A666-7D7E-4D40-9332-EDD77EA2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A35C-E3D2-4B4C-B655-0B2871514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EF31-A850-405E-B1D8-D2CCA52AC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35C5-04F1-49F2-BE7F-2E184DBEF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ACD4-3E70-41CC-AFA4-42B6AD7B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E4DD-5C0E-4F19-A2E3-1FFE91F25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B0E3-2CB0-4ACB-8C0A-2E3F65DB1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F124-F8AD-4931-B697-A6C5AA98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E8BD-6C6A-4B8F-AACD-3B84A679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1CFE-8FDE-4E99-B395-87B24D52C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EF59-3F14-4659-B4CA-6777C8E98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2F4B-9CD7-4A99-A70A-7FE224C7F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6564-9211-4EFB-B4D2-C1F2AD126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099A-3CF3-434A-B10F-2EAA3F8B9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F75B-2787-4644-9334-CFC4661F7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32B1-6CA0-490D-8CED-FED5DEF4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9824-3124-44C8-80EC-1457AD14E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74D7-4E36-453A-B30D-F5595BAE6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CDEE-9383-466B-8E7D-791BDDDDA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0799-9487-41CC-980B-93E3DCEBD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B6E9-7DBF-48EF-B320-6EC79447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98BE-5439-4DBC-A1CF-179A35DD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C982-6740-4E3F-9E31-77D212C7F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WOMAN TO RUN A MAJOR TV STU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UNDER) 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BILLY JOEL SONG, OR THE LAST WORD OF THE TITLE OF A QUEEN AND DAVID BOWI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0060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ET  (TO  THE  HE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MICKEY ROURKE / TUPAC SHAKIR FILM, OR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SYLVESTER STALLONE / CHRISTIAN SLAT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RLIN FROM WARS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219320" y="4800600"/>
            <a:ext cx="6705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OST ON THIS WEBSIT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App-Pinterest-icon-with-out-background.jpg"/>
          <p:cNvPicPr/>
          <p:nvPr/>
        </p:nvPicPr>
        <p:blipFill>
          <a:blip r:embed="rId1"/>
          <a:stretch/>
        </p:blipFill>
        <p:spPr>
          <a:xfrm>
            <a:off x="3581280" y="266688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VINCENT) 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RROR FILM ACTOR WHO  CAN BE HEARD ON MICHAEL JACKSON'S "THRILLER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CONTAINS THE LYRICS "SAVIOR OF THE UNIVERSE" AND "HE'LL SAVE EVERY ONE OF U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0060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OP)  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50 CENT / VAL KILMER FILM, OR THE LAST WORD OF THE TITLE OF A TOM CRUISE / TIM ROBBINS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BILLY JOEL SONG, OR THE LAST WORD OF THE TITLE OF A QUEEN AND DAVID BOWI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E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KNITTING", "SPACE", OR "P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UCILLE)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WOMAN TO RUN A MAJOR TV STU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267080"/>
            <a:ext cx="65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POIN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MICKEY ROURKE / TUPAC SHAKIR FILM, OR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SYLVESTER STALLONE / CHRISTIAN SLAT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RLIN FROM WARS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OST ON THIS WEBSIT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App-Pinterest-icon-with-out-background.jpg"/>
          <p:cNvPicPr/>
          <p:nvPr/>
        </p:nvPicPr>
        <p:blipFill>
          <a:blip r:embed="rId1"/>
          <a:stretch/>
        </p:blipFill>
        <p:spPr>
          <a:xfrm>
            <a:off x="3429000" y="2743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RROR FILM ACTOR WHO  CAN BE HEARD ON MICHAEL JACKSON'S "THRILLER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CONTAINS THE LYRICS "SAVIOR OF THE UNIVERSE" AND "HE'LL SAVE EVERY ONE OF U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50 CENT / VAL KILMER FILM, OR THE LAST WORD OF THE TITLE OF A TOM CRUISE / TIM ROBBINS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KNITTING", "SPACE", OR "P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9T20:06:41Z</dcterms:created>
  <dc:creator>Jennifer Budzinski</dc:creator>
  <dc:description/>
  <dc:language>en-US</dc:language>
  <cp:lastModifiedBy>Erich Friedman</cp:lastModifiedBy>
  <dcterms:modified xsi:type="dcterms:W3CDTF">2020-08-29T14:27:10Z</dcterms:modified>
  <cp:revision>356</cp:revision>
  <dc:subject/>
  <dc:title>Slide 1</dc:title>
</cp:coreProperties>
</file>