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8E03-14FC-4E1F-916D-B69D0BE7E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3831-E2DA-40F9-8569-6CCFC10A8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B959-3C96-435C-A383-6AF927C7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EC87-26B1-45FB-8B6A-32E21D2F1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BA84-E208-4F45-8958-36C2BBF22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FE1A-C129-4D2F-A2B9-226ADFA23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1428-D965-4596-8B57-F195DB679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8D74-9928-4739-A376-C6335DBA9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6F01-4F93-413E-A2A2-DD71DD4E8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AE4E-D910-4501-BE01-5338435CD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10F0-550F-4796-8F3C-592172C23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1894-F9B6-4AD5-91DE-8175F4F96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5DAF-5D6C-41BE-A7FC-1646E34C6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8358-1686-4FBF-953B-8CB70218C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26CC-7816-409E-89D7-4DAFB495B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59BF-6554-42D3-87CB-2B540C638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3E1F-716F-4540-9161-6C9E16A7E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39FF-66B0-49B8-BB1B-5BD0C20CC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92A0-D637-4A2B-A72A-466B35E53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F02F-81A5-4E38-93A3-6C29F6B9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8A18-15AA-4CBF-AE74-D34132F3A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FB7C-EE86-4148-9271-8C899983F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FD27-09B1-462D-84C3-9248B2950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PANAMANIAN RULER NORIEG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DIN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PHILIPPINES' PRESIDENT 1965-1986, THE HUSBAND OF IMELDA MARC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A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8264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GAME IS SIMILAR TO TEXAS HOLD'EM BUT PLAYERS ARE DEALT 4 CARDS EACH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006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UT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N OPPOSING SPORTS TEAM FAILS TO SCORE AT ALL, WHAT IS THA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06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AR  KHAYY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PERSIAN ASTRONOMER IS ALSO KNOWN FOR HIS POE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  EMIN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STANDARD OF ADDRESS FOR A CARDINAL OR P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K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WASHINGTON STATE, AFTER SEAT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HA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ONLY U.S. PRESIDENT NEVER TO MARRY, SERVING RIGHT BEFORE LINCOL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PHILIPPINES' PRESIDENT 1965-1986, THE HUSBAND OF IMELDA MARC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068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GRAM, NAMED AFTER THE GREEK AND ROMAN GOD OF MUSIC AND ART, RESULTED IN 6 MANNED LUNAR LAND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24000" y="762120"/>
            <a:ext cx="84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PANAMANIAN RULER NORIEG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19000" y="4343400"/>
            <a:ext cx="7506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HORSES  THAT  WON  THE  KENTUCKY  DER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GAME IS SIMILAR TO TEXAS HOLD'EM BUT PLAYERS ARE DEALT 4 CARDS EACH INST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N OPPOSING SPORTS TEAM FAILS TO SCORE AT ALL, WHAT IS THA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PERSIAN ASTRONOMER IS ALSO KNOWN FOR HIS POE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STANDARD OF ADDRESS FOR A CARDINAL OR P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WASHINGTON STATE, AFTER SEAT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ONLY U.S. PRESIDENT NEVER TO MARRY, SERVING RIGHT BEFORE LINCOL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GRAM, NAMED AFTER THE GREEK AND ROMAN GOD OF MUSIC AND ART, RESULTED IN 6 MANNED LUNAR LAND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7:34:40Z</dcterms:created>
  <dc:creator>Jennifer Budzinski</dc:creator>
  <dc:description/>
  <dc:language>en-US</dc:language>
  <cp:lastModifiedBy>Erich Friedman</cp:lastModifiedBy>
  <dcterms:modified xsi:type="dcterms:W3CDTF">2020-08-29T14:27:59Z</dcterms:modified>
  <cp:revision>372</cp:revision>
  <dc:subject/>
  <dc:title>Slide 1</dc:title>
</cp:coreProperties>
</file>