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5A56-5237-46E1-B1EE-171C0195A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9AB9-D96F-4565-8C95-4E93AB99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1414-7378-449A-AC46-83AA706D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D94C-5FE6-42B8-BD55-71D05A700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85EF-3789-4693-B17D-FAA3A92D5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FDC0-C44F-473B-A896-503D0C83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23B8-33A4-4E63-AD98-BAFC91D06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2BB-7087-4F3D-9468-568F9F57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F9F-BB45-465B-B95E-CD8DC6E24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A7BB-B5A2-4B68-9E90-382D7DE43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29E-6B49-4005-9995-830EC1AC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34FD-AD49-403D-932F-C61321E91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061B-64B4-426D-BC79-1E05773CC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912C-DB17-4499-977B-80A5CE4F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5FCA-2215-463A-928C-06F2E11F8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FE87-EBB6-4619-AA44-8B5AE80ED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871F-1534-4CF8-A7BC-805ED704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0ADC-EA9E-47C8-A572-31BF5FB1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ADCD-598E-40B7-BA60-F12A5EF2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AC07-101E-4FAC-989E-C4EDFC43E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543C-8EF3-4A75-9DE8-F8459140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182F-08D9-48EF-9F02-1453282C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05DA-817B-48D4-AE48-F02EEB97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PANAMANIAN RULER NORIEG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HILIPPINES' PRESIDENT 1965-1986, THE HUSBAND OF IMELDA MARC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8264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GAME IS SIMILAR TO TEXAS HOLD'EM BUT PLAYERS ARE DEALT 4 CARDS EACH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06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UT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N OPPOSING SPORTS TEAM FAILS TO SCORE AT ALL, WHAT IS TH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R  KHAYY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ERSIAN ASTRONOMER IS ALSO KNOWN FOR HIS PO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  EMIN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TANDARD OF ADDRESS FOR A CARDINAL OR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K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WASHINGTON STATE, AFTER SEAT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U.S. PRESIDENT NEVER TO MARRY, SERVING RIGHT BEFORE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HILIPPINES' PRESIDENT 1965-1986, THE HUSBAND OF IMELDA MARC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06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GRAM, NAMED AFTER THE GREEK AND ROMAN GOD OF MUSIC AND ART, RESULTED IN 6 MANNED LUNAR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U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PANAMANIAN RULER NORIEG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19000" y="4343400"/>
            <a:ext cx="750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ORSES  THAT  WON  THE  KENTUCKY  DER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GAME IS SIMILAR TO TEXAS HOLD'EM BUT PLAYERS ARE DEALT 4 CARDS EACH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N OPPOSING SPORTS TEAM FAILS TO SCORE AT ALL, WHAT IS TH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ERSIAN ASTRONOMER IS ALSO KNOWN FOR HIS PO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STANDARD OF ADDRESS FOR A CARDINAL OR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WASHINGTON STATE, AFTER SEAT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U.S. PRESIDENT NEVER TO MARRY, SERVING RIGHT BEFORE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GRAM, NAMED AFTER THE GREEK AND ROMAN GOD OF MUSIC AND ART, RESULTED IN 6 MANNED LUNAR LAND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7:34:40Z</dcterms:created>
  <dc:creator>Jennifer Budzinski</dc:creator>
  <dc:description/>
  <dc:language>en-US</dc:language>
  <cp:lastModifiedBy>Erich Friedman</cp:lastModifiedBy>
  <dcterms:modified xsi:type="dcterms:W3CDTF">2020-08-29T14:27:59Z</dcterms:modified>
  <cp:revision>372</cp:revision>
  <dc:subject/>
  <dc:title>Slide 1</dc:title>
</cp:coreProperties>
</file>