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15F4-0785-4D97-BFA6-B8E5C6E0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BA7-6CA5-4E2F-80EA-E9CF12B9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7A86-8DB5-4082-9E1F-9CC8B66B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085E-7DF8-42EB-B68F-CF309C91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706-9533-4C93-9522-AE344282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5D2-C8B8-40B2-9854-385561B87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2BE-F82C-40A7-9533-6B27C601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B16-7FE3-43DC-AD4D-95C9E2A78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DC56-E323-4D5C-80A4-9BB3FA19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B02-AB26-4A4D-B1AF-5A90E36A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1ECF-A7A8-4A1F-B17F-750D449C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FD69-FB8D-401F-8D79-3373A9C7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F7B3-D342-4041-8246-43E892B9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4FE1-92B8-4ED5-B7C0-E914BAC9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2A2-CF95-45FB-8DD1-2454D3D2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540-8169-4EB5-AE06-C7D4AA2E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BA99-4219-4FA6-9223-CE944D1F7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0124-32D1-4D1E-A078-41FBB8A9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E8B7-9966-4DA4-AA40-29AC9C97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2438-2D32-4B6F-A7DE-41958517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5A21-E2D8-4449-8C7A-3DF96B73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D3C-0E09-4C31-BB4F-6A552A86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469-5A44-4F60-A321-C70AD5A5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PANAMANIAN RULER NORIEG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HILIPPINES' PRESIDENT 1965-1986, THE HUSBAND OF IMELDA MARC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8264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GAME IS SIMILAR TO TEXAS HOLD'EM BUT PLAYERS ARE DEALT 4 CARDS EACH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06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UT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N OPPOSING SPORTS TEAM FAILS TO SCORE AT ALL, WHAT IS TH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R  KHAYY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ERSIAN ASTRONOMER IS ALSO KNOWN FOR HIS PO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EM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TANDARD OF ADDRESS FOR A CARDINAL OR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WASHINGTON STATE, AFTER SEAT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U.S. PRESIDENT NEVER TO MARRY, SERVING RIGHT BEFORE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HILIPPINES' PRESIDENT 1965-1986, THE HUSBAND OF IMELDA MARC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06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GRAM, NAMED AFTER THE GREEK AND ROMAN GOD OF MUSIC AND ART, RESULTED IN 6 MANNED LUNAR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PANAMANIAN RULER NORIEG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19000" y="4343400"/>
            <a:ext cx="750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ORSES  THAT  WON  THE  KENTUCKY  DER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GAME IS SIMILAR TO TEXAS HOLD'EM BUT PLAYERS ARE DEALT 4 CARDS EACH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N OPPOSING SPORTS TEAM FAILS TO SCORE AT ALL, WHAT IS TH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ERSIAN ASTRONOMER IS ALSO KNOWN FOR HIS PO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TANDARD OF ADDRESS FOR A CARDINAL OR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WASHINGTON STATE, AFTER SEA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U.S. PRESIDENT NEVER TO MARRY, SERVING RIGHT BEFORE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GRAM, NAMED AFTER THE GREEK AND ROMAN GOD OF MUSIC AND ART, RESULTED IN 6 MANNED LUNAR LAND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7:34:40Z</dcterms:created>
  <dc:creator>Jennifer Budzinski</dc:creator>
  <dc:description/>
  <dc:language>en-US</dc:language>
  <cp:lastModifiedBy>Erich Friedman</cp:lastModifiedBy>
  <dcterms:modified xsi:type="dcterms:W3CDTF">2020-08-29T14:27:59Z</dcterms:modified>
  <cp:revision>372</cp:revision>
  <dc:subject/>
  <dc:title>Slide 1</dc:title>
</cp:coreProperties>
</file>