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3287C-6592-4D9B-BE9B-CC3044ECC1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6FDF7-E10F-4D13-BFD1-FB54F25E12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8A165-15CB-40FA-B550-FAD2C87542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74BA1-3D71-4822-95D8-75452D0BAA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7417B-1877-4DA6-9012-9B3E2B743E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BF581-005C-44C7-869A-77B307F8CA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99F46-3AA9-49F0-8D85-5921F12D08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7809B-58F0-4274-96E9-8ACA4F3B28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E2F6A-68F6-4CC5-BC47-636A367428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C939B-9403-4B23-B7D4-D020789E57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51F66-1B95-42AF-B3E4-054EEBB0AA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53265-B11E-4291-A56C-86242E476D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AF621-CE26-4310-AD02-6EB706194F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882C6-BF35-4805-AE95-673B90F600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DF85C-778F-4620-A4C6-22BBEE0510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4E0A2-947B-4AD7-B800-7D8B772790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92E64-4056-4DC2-A195-1715BBB779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3B3E5-6961-4AAD-A584-983732EC07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45B36-888B-41E4-8292-4F0C764944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8CCEF-CAC3-4377-8876-DFB0E8F6D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DAFA0-7A7E-4CD9-92E6-3893D78EA8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14948-1105-4635-BCA4-85539B2394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26CBA-5CB7-4776-B18A-5F638C3460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295280" y="990360"/>
            <a:ext cx="6553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USINESS  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, OWNED BY COCA-COLA, IS THE WORLD'S LARGEST MARKETER OF FRUIT JUICES AND DRINK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533520" y="4876920"/>
            <a:ext cx="8076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OGRESS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09480" y="762120"/>
            <a:ext cx="7925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EPHANIE COURTNEY, WHO APPEARED IN SEASON 1 OF "MAD MEN", IS NOW BETTER KNOWN AS "FLO" IN ADS FOR WHAT INSURA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T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181160" y="762120"/>
            <a:ext cx="67816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BLUE MEWS" AND "RED RUFF" ARE THE CAT AND DOG IN THE LOGO OF WHAT RETAIL CHA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I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571680" y="762120"/>
            <a:ext cx="8001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NK WAS THE LARGEST COMPANY IN THE WORLD UNTIL THE 2008 FINANCIAL CRAS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SMOKEY AND THE BANDIT", BURT REYNOLDS IS SMUGGLING A TRUCKLOAD OF WHAT WESTERN BEER EAST TO ATLANT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OPIC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AND HAS CASINOS IN LAS VEGAS, ATLANTIC CITY, AND EVANSVILLE, IN, AND IS NOT OWNED BY AN ORANGE JUICE COMPAN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333440" y="4876920"/>
            <a:ext cx="6477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ARG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62120" y="762120"/>
            <a:ext cx="76197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 U.S. DEPARTMENT STORE RETAILER, AFTER WALMAR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38360" y="48769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T&amp;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380880" y="762120"/>
            <a:ext cx="8382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WORLD'S LARGEST TELECOMMUNICATIONS COMPAN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EPHANIE COURTNEY, WHO APPEARED IN SEASON 1 OF "MAD MEN", IS NOW BETTER KNOWN AS "FLO" IN ADS FOR WHAT INSURAN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PMORGAN  CH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BANK IN THE U.S., WITH OVER $2.6 TRILLION IN ASSE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NUTE  MA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, OWNED BY COCA-COLA, IS THE WORLD'S LARGEST MARKETER OF FRUIT JUICES AND DRINK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990720" y="4343400"/>
            <a:ext cx="71625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HAVE  MLB  STADIUMS  NAMED  AFTER  TH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181160" y="761760"/>
            <a:ext cx="6781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BLUE MEWS" AND "RED RUFF" ARE THE CAT AND DOG IN THE LOGO OF WHAT RETAIL CHA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00280" y="762120"/>
            <a:ext cx="7543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NK WAS THE LARGEST COMPANY IN THE WORLD UNTIL THE 2008 FINANCIAL CRAS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SMOKEY AND THE BANDIT", BURT REYNOLDS IS SMUGGLING A TRUCKLOAD OF WHAT WESTERN BEER EAST TO ATLANT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AND HAS CASINOS IN LAS VEGAS, ATLANTIC CITY, AND EVANSVILLE, IN, AND IS NOT OWNED BY AN ORANGE JUICE COMPAN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 U.S. DEPARTMENT STORE RETAILER, AFTER WALMAR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WORLD'S LARGEST TELECOMMUNICATIONS COMPAN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BANK IN THE U.S., WITH OVER $2.6 TRILLION IN ASSE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5T16:06:38Z</dcterms:created>
  <dc:creator>Jennifer Budzinski</dc:creator>
  <dc:description/>
  <dc:language>en-US</dc:language>
  <cp:lastModifiedBy>Erich Friedman</cp:lastModifiedBy>
  <dcterms:modified xsi:type="dcterms:W3CDTF">2020-08-29T14:28:39Z</dcterms:modified>
  <cp:revision>442</cp:revision>
  <dc:subject/>
  <dc:title>Slide 1</dc:title>
</cp:coreProperties>
</file>