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852E-5FBD-4578-9DB7-85AEEAE69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3BA3-5249-4696-8059-FBDC94F7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E0A-DB77-4E54-BDAB-6CBC4DDF9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FF2C-C8B9-4857-98B2-FECED5EE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A81E-8081-46F4-9070-D9EA3DF5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75B-0A5A-4657-85D6-BFFAA0B87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8F78-2BD9-4F5D-9C3D-1290136BF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147C-5D99-4505-B8BF-1CCC0935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6A8A-B1E7-458D-A653-59F05A463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3314-5B05-47CC-876D-6C66D1EB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063B-48CD-4108-8503-B3BFF279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CC6E-6434-4918-BC8D-139398009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D428-861B-4B00-BE53-1304CD45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62A9-0722-4AD5-9C33-7A9407AF3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3D67-CCA0-4031-936F-4CA8DE3E1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773F-1381-4E41-B604-3A796940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121F-F7FB-43D3-BE51-29A9AF28C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5D96-D1E0-4247-A39B-A76624C2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D59A-CD17-43C2-BF56-A53321A8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49B4-EDE7-4B2B-BF46-469FC95F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7F8B-472C-4269-98A7-1E035DA75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858C-505A-4A47-BE59-B2742880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E068-843C-455F-9ED6-0CC42E9D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INESS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, OWNED BY COCA-COLA, IS THE WORLD'S LARGEST MARKETER OF FRUIT JUICES AND DRI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GR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HANIE COURTNEY, WHO APPEARED IN SEASON 1 OF "MAD MEN", IS NOW BETTER KNOWN AS "FLO" IN ADS FOR WHAT INSU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MEWS" AND "RED RUFF" ARE THE CAT AND DOG IN THE LOGO OF WHAT RETAIL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WAS THE LARGEST COMPANY IN THE WORLD UNTIL THE 2008 FINANCIAL CR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MOKEY AND THE BANDIT", BURT REYNOLDS IS SMUGGLING A TRUCKLOAD OF WHAT WESTERN BEER EAST TO ATLA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PIC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CASINOS IN LAS VEGAS, ATLANTIC CITY, AND EVANSVILLE, IN, AND IS NOT OWNED BY AN ORANGE JUICE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DEPARTMENT STORE RETAILER, AFTER WALM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TELECOMMUNICATIONS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HANIE COURTNEY, WHO APPEARED IN SEASON 1 OF "MAD MEN", IS NOW BETTER KNOWN AS "FLO" IN ADS FOR WHAT INSU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PMORGAN  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ANK IN THE U.S., WITH OVER $2.6 TRILLION IN ASS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UTE  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, OWNED BY COCA-COLA, IS THE WORLD'S LARGEST MARKETER OF FRUIT JUICES AND DRI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MLB  STADIUMS  NAMED  AFTER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MEWS" AND "RED RUFF" ARE THE CAT AND DOG IN THE LOGO OF WHAT RETAIL CH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WAS THE LARGEST COMPANY IN THE WORLD UNTIL THE 2008 FINANCIAL CR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MOKEY AND THE BANDIT", BURT REYNOLDS IS SMUGGLING A TRUCKLOAD OF WHAT WESTERN BEER EAST TO ATLAN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CASINOS IN LAS VEGAS, ATLANTIC CITY, AND EVANSVILLE, IN, AND IS NOT OWNED BY AN ORANGE JUICE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DEPARTMENT STORE RETAILER, AFTER WALM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TELECOMMUNICATIONS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ANK IN THE U.S., WITH OVER $2.6 TRILLION IN ASS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6:06:38Z</dcterms:created>
  <dc:creator>Jennifer Budzinski</dc:creator>
  <dc:description/>
  <dc:language>en-US</dc:language>
  <cp:lastModifiedBy>Erich Friedman</cp:lastModifiedBy>
  <dcterms:modified xsi:type="dcterms:W3CDTF">2020-08-29T14:28:39Z</dcterms:modified>
  <cp:revision>442</cp:revision>
  <dc:subject/>
  <dc:title>Slide 1</dc:title>
</cp:coreProperties>
</file>