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1B49-3D4F-4995-962D-D76A2C9F5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6998-C68F-4F72-A6FC-BDD1EB8A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066B-8A93-4871-9B75-CA0EA0804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6CF0-A931-43C9-A426-1DB99FF3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44E6-9DBB-407F-8F87-BE955A5DC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DC8F-E85F-45FB-994C-AE20A1E4A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BB95-3A66-473A-B040-3F66D1FD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83AB-866C-4A9F-A2ED-637F501CB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93A0-AE03-443E-8D69-D55D4E4D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F799-C353-4C49-8522-C5D0A85BA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2E16-D8A3-43DF-B825-9390FE99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27CD-8649-4899-9503-EF908270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50E6-9422-4769-A6AB-63216A2A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86CB-7DC0-49DA-B4FE-B876FC48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C175-E23F-4E7A-A2EA-9B7B0540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286-E3D4-4A2A-BFEF-A355CB8B4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08A2-20D5-46DC-85B1-7A02BF6AA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3303-2C43-4C40-BF28-8EF8236D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E6B0-150B-4DFB-96CD-C02895B2B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84DD-107A-4966-AD44-563CF7A91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C11-190C-42BB-8EB8-8BAFA305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07CC-0AB5-499D-BECA-DAFB0E0E5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8A94-C62F-4BC6-AB65-EC993DA01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INESS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, OWNED BY COCA-COLA, IS THE WORLD'S LARGEST MARKETER OF FRUIT JUICES AND DRI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GR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HANIE COURTNEY, WHO APPEARED IN SEASON 1 OF "MAD MEN", IS NOW BETTER KNOWN AS "FLO" IN ADS FOR WHAT INSU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MEWS" AND "RED RUFF" ARE THE CAT AND DOG IN THE LOGO OF WHAT RETAIL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WAS THE LARGEST COMPANY IN THE WORLD UNTIL THE 2008 FINANCIAL CR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MOKEY AND THE BANDIT", BURT REYNOLDS IS SMUGGLING A TRUCKLOAD OF WHAT WESTERN BEER EAST TO ATLA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PIC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CASINOS IN LAS VEGAS, ATLANTIC CITY, AND EVANSVILLE, IN, AND IS NOT OWNED BY AN ORANGE JUICE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DEPARTMENT STORE RETAILER, AFTER WALM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TELECOMMUNICATIONS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HANIE COURTNEY, WHO APPEARED IN SEASON 1 OF "MAD MEN", IS NOW BETTER KNOWN AS "FLO" IN ADS FOR WHAT INSU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PMORGAN  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ANK IN THE U.S., WITH OVER $2.6 TRILLION IN ASS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UTE  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, OWNED BY COCA-COLA, IS THE WORLD'S LARGEST MARKETER OF FRUIT JUICES AND DRI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MLB  STADIUMS  NAMED  AFTER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MEWS" AND "RED RUFF" ARE THE CAT AND DOG IN THE LOGO OF WHAT RETAIL CH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WAS THE LARGEST COMPANY IN THE WORLD UNTIL THE 2008 FINANCIAL CR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MOKEY AND THE BANDIT", BURT REYNOLDS IS SMUGGLING A TRUCKLOAD OF WHAT WESTERN BEER EAST TO ATLAN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CASINOS IN LAS VEGAS, ATLANTIC CITY, AND EVANSVILLE, IN, AND IS NOT OWNED BY AN ORANGE JUICE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DEPARTMENT STORE RETAILER, AFTER WALM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TELECOMMUNICATIONS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ANK IN THE U.S., WITH OVER $2.6 TRILLION IN ASS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6:06:38Z</dcterms:created>
  <dc:creator>Jennifer Budzinski</dc:creator>
  <dc:description/>
  <dc:language>en-US</dc:language>
  <cp:lastModifiedBy>Erich Friedman</cp:lastModifiedBy>
  <dcterms:modified xsi:type="dcterms:W3CDTF">2020-08-29T14:28:39Z</dcterms:modified>
  <cp:revision>442</cp:revision>
  <dc:subject/>
  <dc:title>Slide 1</dc:title>
</cp:coreProperties>
</file>