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3565-3DF5-4717-A24B-D29E23052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3CD0-CE82-49C8-8547-4E8902D3F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884-C09D-4A90-B799-18ABD25C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C7BB-98F6-4631-B854-4B39F497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71E9-5C54-4103-9E00-70939EE2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593-AC48-4065-BE84-E7706A4A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45C-D282-466E-B19D-8D55F5A2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B97-7900-4177-ABA4-AABB70CB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0E4-C830-47F4-A7FD-A88013B7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2827-41F4-40AD-B1F7-E42A84D1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9B6-7DCB-4672-BED8-C43DADB2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642-5125-4421-B069-EB846EAB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6D35-B4F3-4C0A-90B6-B10E28B8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AE4-C6F3-4F24-A176-D54862DC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5426-C68A-4817-8A43-209F09A5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E98C-BC2A-4381-9407-FCD85E69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6A0-1A7F-4639-99E9-374D24DE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49D-C5C9-41FF-BD54-973BD7BE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D8F3-F460-4259-B71A-1181254C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593-3D85-482D-84B0-C859E38A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60CB-80FC-4ACF-8ED8-BD2831F5C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CCEB-DC35-4DB4-89F0-B20D8069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743-52CC-4686-9CA3-37CED759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NT–GA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952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IM)  C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6:25:34Z</dcterms:created>
  <dc:creator>Jennifer Budzinski</dc:creator>
  <dc:description/>
  <dc:language>en-US</dc:language>
  <cp:lastModifiedBy>Erich Friedman</cp:lastModifiedBy>
  <dcterms:modified xsi:type="dcterms:W3CDTF">2020-08-29T14:39:46Z</dcterms:modified>
  <cp:revision>463</cp:revision>
  <dc:subject/>
  <dc:title>Slide 1</dc:title>
</cp:coreProperties>
</file>