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CCB1-25C9-4398-929F-D37D69DB9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6201-35CF-4910-939F-EBB72AB90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0D75-B06E-45DE-8209-A8974254F5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2271-9BC3-4B6B-9908-662A6839B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BF592-E223-4D30-BD97-E3CEA2661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E7DF4-237B-4E9E-A89B-3ACCF55E3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8A25-2C0F-4DF7-8505-16193E52A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7E8A1-D435-4F08-9050-7E8001C76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CF0F3-7C1C-4620-9588-9691DDF5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7BBD-CA8F-4B51-A056-CBDB3E89C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85AF0-67EC-43E2-A186-EA6A74691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F1418-B92A-4306-BDF7-96F65220FC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59B9-1513-4D5B-A360-E29D4C377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3740D-0B21-4C89-93F7-7852653C0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DEE8-30DB-419C-AAD7-EA422499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606A-5840-4B4C-A7BB-9A6702F04A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C9EE-D0F7-425A-A00D-7EA6A9C72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B550-F389-4DD6-8CC3-B700329D8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821A-F8C8-4DB7-93F0-F020BD078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437E-04A7-4DD6-9D7E-D2CFA15E5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53082-1CEF-43FE-A86C-1F8CFDCBD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44F63-396E-4542-AAA6-B2DCAB8530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F69E-5D05-4FE7-B56D-1F9B8B47D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5238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YOUNGEST U.S. MALE TENNIS PLAYER TO REACH THE FINALS OF ALL 4 GRAND SLAM TOURNAMEN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I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23920" y="762120"/>
            <a:ext cx="68961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523880" y="4876920"/>
            <a:ext cx="6096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SONG WAS MADE FAMOUS BY RAY CHAR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76920"/>
            <a:ext cx="83059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NTREAL'S MAJOR LEAGUE SOCCER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VANT–GAR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588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FRENCH TERM IS USED TO DESCRIBE RADICAL OR UNORTHODOX PEOPLE OR WORKS OF A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N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DESPICABLIMP" IS A GIANT YELLOW AIRSHIP DESIGNED TO RESEMBLE WHAT TYPE    OF CARTOON CREA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333440" y="4876920"/>
            <a:ext cx="6477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TH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TV SERIES ADDED "MASTERS OF SEX" ACTOR NICHOLAS D'AGOSTO TO ITS CAST, AS FUTURE DISTRICT ATTORNEY HARVEY 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638360" y="4876920"/>
            <a:ext cx="5867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PYR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IANGULAR NILE REED DID THE ANCIENT EGYPTIANS USE TO MAKE SCRO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71640" y="761760"/>
            <a:ext cx="7200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"THE LITTLE MERMAI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NEW  YORK)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9520" y="762120"/>
            <a:ext cx="6934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STAND FOR IN "NY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JIM)  COUR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YOUNGEST U.S. MALE TENNIS PLAYER TO REACH THE FINALS OF ALL 4 GRAND SLAM TOURNA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714680" y="487692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FO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TE'S OFFICIAL SONG WAS MADE FAMOUS BY RAY CHAR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ONTREAL'S MAJOR LEAGUE SOCCER TEAM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WO-WORD FRENCH TERM IS USED TO DESCRIBE RADICAL OR UNORTHODOX PEOPLE OR WORKS OF A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DESPICABLIMP" IS A GIANT YELLOW AIRSHIP DESIGNED TO RESEMBLE WHAT TYPE    OF CARTOON CREATU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OX TV SERIES ADDED "MASTERS OF SEX" ACTOR NICHOLAS D'AGOSTO TO ITS CAST, AS FUTURE DISTRICT ATTORNEY HARVEY 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RIANGULAR NILE REED DID THE ANCIENT EGYPTIANS USE TO MAKE SCROL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066680" y="76212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T" STAND FOR IN "NY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1T16:25:34Z</dcterms:created>
  <dc:creator>Jennifer Budzinski</dc:creator>
  <dc:description/>
  <dc:language>en-US</dc:language>
  <cp:lastModifiedBy>Erich Friedman</cp:lastModifiedBy>
  <dcterms:modified xsi:type="dcterms:W3CDTF">2020-08-29T14:39:46Z</dcterms:modified>
  <cp:revision>463</cp:revision>
  <dc:subject/>
  <dc:title>Slide 1</dc:title>
</cp:coreProperties>
</file>