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16F0-182A-4B16-B5E0-68DADFD0C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B6CF-518D-44E4-A718-A209C0A0B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A1F4-547D-483A-8DF8-C6BE9F923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E1FE-F1B2-417F-97C9-45E77CC29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091A-F0E2-4C9C-B7AE-5907B2745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3020-DD91-45F4-905C-A50CAA5D8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B1D2-E21E-45CD-BFC4-210D324D9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4E10-318A-48D6-BA83-3BD8BADEF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183A-D0D5-4159-8D5F-9093A7D0A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C47E-7E39-4243-8E43-E3CF8E65F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58AD-8D51-4E59-BFC4-ABD4AA56B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FAAF-3D35-410F-A2AC-8FECED9A8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D30A-9E9E-4073-B6AB-7E7E95006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DDF6-AD30-4F38-89B4-47410E3B7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7F2D-C579-41FC-B3F8-3C313831C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1B26-5991-48DE-8D45-D6462AB21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C09B-894F-4AEB-A1A9-C9CDD2172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3DDD-62E3-4DCC-B180-318350F84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0C12-2FB4-4399-B92A-DBFEEBD9B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0A5C-90E2-496A-A4D5-A5C6EFB32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9285-D569-4CF0-9D5E-5046C2137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2605-8A7E-48DE-859D-309794A77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3A7C-D0D5-4521-9472-D6884B39F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YOUNGEST U.S. MALE TENNIS PLAYER TO REACH THE FINALS OF ALL 4 GRAND SLAM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23920" y="762120"/>
            <a:ext cx="68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LITTLE MER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OFFICIAL SONG WAS MADE FAMOUS BY RAY CHAR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ONTREAL'S MAJOR LEAGUE SOCCER TEAM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ANT–GA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58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FRENCH TERM IS USED TO DESCRIBE RADICAL OR UNORTHODOX PEOPLE OR WORKS OF 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DESPICABLIMP" IS A GIANT YELLOW AIRSHIP DESIGNED TO RESEMBLE WHAT TYPE    OF CARTOON CRE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T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TV SERIES ADDED "MASTERS OF SEX" ACTOR NICHOLAS D'AGOSTO TO ITS CAST, AS FUTURE DISTRICT ATTORNEY HARVEY 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IANGULAR NILE REED DID THE ANCIENT EGYPTIANS USE TO MAKE SCR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LITTLE MER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EW  YORK) 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952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T" STAND FOR IN "NY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IM)  COU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YOUNGEST U.S. MALE TENNIS PLAYER TO REACH THE FINALS OF ALL 4 GRAND SLAM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8769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O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OFFICIAL SONG WAS MADE FAMOUS BY RAY CHAR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ONTREAL'S MAJOR LEAGUE SOCCER TEAM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FRENCH TERM IS USED TO DESCRIBE RADICAL OR UNORTHODOX PEOPLE OR WORKS OF 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DESPICABLIMP" IS A GIANT YELLOW AIRSHIP DESIGNED TO RESEMBLE WHAT TYPE    OF CARTOON CRE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TV SERIES ADDED "MASTERS OF SEX" ACTOR NICHOLAS D'AGOSTO TO ITS CAST, AS FUTURE DISTRICT ATTORNEY HARVEY 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IANGULAR NILE REED DID THE ANCIENT EGYPTIANS USE TO MAKE SCRO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T" STAND FOR IN "NY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1T16:25:34Z</dcterms:created>
  <dc:creator>Jennifer Budzinski</dc:creator>
  <dc:description/>
  <dc:language>en-US</dc:language>
  <cp:lastModifiedBy>Erich Friedman</cp:lastModifiedBy>
  <dcterms:modified xsi:type="dcterms:W3CDTF">2020-08-29T14:39:46Z</dcterms:modified>
  <cp:revision>463</cp:revision>
  <dc:subject/>
  <dc:title>Slide 1</dc:title>
</cp:coreProperties>
</file>