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4767-65CE-44C0-B955-DC9071B3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B24-178A-4228-9461-7B1271BF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2AC5-6D59-4A91-BD39-0EA0F9EB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F3E0-DD91-4453-8F81-2074F79A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2CA5-8D72-48A5-BEB3-637AC907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5F2-ED3F-4EEB-B927-D13F548A2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580-53B0-4CC1-B70E-46D30E7C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560-FED9-42AE-879F-8FD1B809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65E9-F713-498B-B064-AD525614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14B-4590-4880-A647-A3A75A97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0D8-38EB-49E0-929F-C493D7BE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BEBB-92F2-42A9-9333-4FF943DC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2096-A10E-42E5-85C7-4F795D3C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2791-FBC2-47C0-A792-866052BA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B4F-C234-4742-844C-D20EC0A2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C46-AB8E-4878-9099-72458D28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E65-A0E0-4DB9-A767-23EFB0E9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C5E4-6C5C-46D4-A62C-564DC45C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555D-5BD7-4155-95ED-D8EF9EC21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00C5-A2E5-4572-94C1-A7A148F0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A5F-C4DF-45C0-9801-EF88985F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6CE-8984-4166-8DFE-27D91295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E631-4B99-4DFF-8847-41B4E5A7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330px-Atlantic_blue_marlin.jpg"/>
          <p:cNvPicPr/>
          <p:nvPr/>
        </p:nvPicPr>
        <p:blipFill>
          <a:blip r:embed="rId1"/>
          <a:stretch/>
        </p:blipFill>
        <p:spPr>
          <a:xfrm>
            <a:off x="2587680" y="1905120"/>
            <a:ext cx="3968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03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 AND AL PACINO FIRST ACTED TOGETHER IN WHAT 199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)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384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  SPORTS  TEAM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330px-Atlantic_blue_marlin.jpg"/>
          <p:cNvPicPr/>
          <p:nvPr/>
        </p:nvPicPr>
        <p:blipFill>
          <a:blip r:embed="rId1"/>
          <a:stretch/>
        </p:blipFill>
        <p:spPr>
          <a:xfrm>
            <a:off x="2629080" y="2057400"/>
            <a:ext cx="3886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AND AL PACINO FIRST ACTED TOGETHER IN WHAT 199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0:29:49Z</dcterms:created>
  <dc:creator>Jennifer Budzinski</dc:creator>
  <dc:description/>
  <dc:language>en-US</dc:language>
  <cp:lastModifiedBy>Erich Friedman</cp:lastModifiedBy>
  <dcterms:modified xsi:type="dcterms:W3CDTF">2020-08-29T14:40:18Z</dcterms:modified>
  <cp:revision>459</cp:revision>
  <dc:subject/>
  <dc:title>Slide 1</dc:title>
</cp:coreProperties>
</file>