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ABBB-9FB7-4632-AACC-C85A6DE3E4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A930-8E24-44DD-ABED-36F1D5026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1C8E-7673-48E2-B945-D880A21C8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8788-6F19-4CE2-9167-04AF29616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7C44-06F7-4D40-A6A3-28DD59A63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F8A6-56F4-4853-BEDD-22BF2A94A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27A6-B5B4-4B74-A9DB-DBEF05444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D2EF-D27B-4467-A7C7-614D30F88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D072-A792-4F67-87E2-79EC3FE6E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697E-8786-4C2F-A3C1-6DC70B8F1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7BB4-989A-4F2C-9343-35D5F935E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FAA6-A4B0-42CE-97A5-6B8ABBC86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AA53-DA5A-4C5C-A553-1B84AFA88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1858-F26B-4067-AD49-5AE47A035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18C1-386E-4A5A-BF54-D3CD2104E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8497-B278-4270-8FD5-B2E00B914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A827-06D4-4FF7-AEFB-BBD79BBAF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60B3-DAD9-4A23-B65C-031DA62C0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CE0F-AF95-4329-8AEE-55B43CD5D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7198-0B5E-474D-A81B-FCDEFBD9A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C165A-B5CD-4AF4-A014-8AE5822DF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8282-2B1C-48F2-93CC-DE11EDFC6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ABAA-18F5-4038-9BC3-F24F747F0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, LINES WITH TWO ENDPOINTS ARE CALLED SEGMENTS.  WHAT ARE LINES WITH ONLY ONE ENDPOIN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CAN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BRETHREN OF THE COAST" WERE A LOOSE COALITION OF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PIRATES AND PRIVATEERS COMMONLY KNOWN AS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FISH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330px-Atlantic_blue_marlin.jpg"/>
          <p:cNvPicPr/>
          <p:nvPr/>
        </p:nvPicPr>
        <p:blipFill>
          <a:blip r:embed="rId1"/>
          <a:stretch/>
        </p:blipFill>
        <p:spPr>
          <a:xfrm>
            <a:off x="2587680" y="1905120"/>
            <a:ext cx="396864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PH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ANIMAL WERE SUSIE, KATHY, AND CLOWN, WHO ALL PLAYED THE TITLE CHARACTER ON "FLIPP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03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THEY SHARED NO SCENES IN "THE GODFATHER PART II", ROBERT DE NIRO    AND AL PACINO FIRST ACTED TOGETHER IN WHAT 1995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GU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UNGLE CATS ARE THE LARGEST FELINES NATIVE TO THE AMERIC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COLDPLAY HIT FEATURES CHINESE ACTRESS ZHANG ZIYI AS THE AMAZING CECILE IN ITS VIDE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GHT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52600" y="762120"/>
            <a:ext cx="803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JAMIN FRANKLIN'S INVENTION "UPRIGHT RODS OF IRON MADE SHARP AS AN IRON" ATTRACTE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BRETHREN OF THE COAST" WERE A LOOSE COALITION OF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PIRATES AND PRIVATEERS COMMONLY KNOWN AS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BLACK)  PAN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384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2018 FILM SET IN WAKAN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, LINES WITH TWO ENDPOINTS ARE CALLED SEGMENTS.  WHAT ARE LINES WITH ONLY ONE ENDPOI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  SPORTS  TEAMS  IN  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FISH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2" descr="330px-Atlantic_blue_marlin.jpg"/>
          <p:cNvPicPr/>
          <p:nvPr/>
        </p:nvPicPr>
        <p:blipFill>
          <a:blip r:embed="rId1"/>
          <a:stretch/>
        </p:blipFill>
        <p:spPr>
          <a:xfrm>
            <a:off x="2629080" y="2057400"/>
            <a:ext cx="3886200" cy="283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ANIMAL WERE SUSIE, KATHY, AND CLOWN, WHO ALL PLAYED THE TITLE CHARACTER ON "FLIPP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THEY SHARED NO SCENES IN "THE GODFATHER PART II", ROBERT DE NIRO   AND AL PACINO FIRST ACTED TOGETHER IN WHAT 1995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UNGLE CATS ARE THE LARGEST FELINES NATIVE TO THE AMERIC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COLDPLAY HIT FEATURES CHINESE ACTRESS ZHANG ZIYI AS THE AMAZING CECILE IN ITS VIDE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NJAMIN FRANKLIN'S INVENTION "UPRIGHT RODS OF IRON MADE SHARP AS AN IRON" ATTRACT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TITLE OF THE 2018 FILM SET IN WAKAN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1T10:29:49Z</dcterms:created>
  <dc:creator>Jennifer Budzinski</dc:creator>
  <dc:description/>
  <dc:language>en-US</dc:language>
  <cp:lastModifiedBy>Erich Friedman</cp:lastModifiedBy>
  <dcterms:modified xsi:type="dcterms:W3CDTF">2020-08-29T14:40:18Z</dcterms:modified>
  <cp:revision>459</cp:revision>
  <dc:subject/>
  <dc:title>Slide 1</dc:title>
</cp:coreProperties>
</file>