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1B3F-6290-4303-8430-1B16D54D8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0DC3-5535-4751-989A-56A5A68EA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8D1A-C726-415E-9171-78E62F39E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9EA8-05F6-46EF-A2AD-B47694A3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6484-CBC5-4D75-AAD4-9528D99D2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5071-E54E-46A0-AAAA-774AC4DFB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F13F-D583-4DC1-BCC6-B13DCC4C4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DFC5-1791-411B-9F5F-FE34DCD9B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2EF9-E800-4BA5-A84D-B1D6BD7B9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A977-F038-47F5-8361-0D6A3A722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2A7A-FAE1-478D-91B0-6319088A0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CCAE-522F-4DE2-8BB6-0342F1CE7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7E4F-B510-4E7D-B780-FD605474A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78F1-71A2-4721-BF57-3BDADD9A3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3B57-DEAF-4A9A-AFB5-08B9A5F4B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7FE9-8E03-4D10-A6F7-F1B38FEB7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F607-AD52-41B6-974A-424C7F6F4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9DE2-1E7B-491D-850E-155A3D31A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C68E-1531-401F-B255-FFB7A789E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E369-31E2-4F91-B56B-302DD36C5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FC59-1F1A-447E-A871-33406D888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144B-3F36-465E-A051-D4F8CDD43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6302-8C7F-493C-B03C-7B659C753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, LINES WITH TWO ENDPOINTS ARE CALLED SEGMENTS.  WHAT ARE LINES WITH ONLY ONE ENDPOI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CAN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RETHREN OF THE COAST" WERE A LOOSE COALITION OF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IRATES AND PRIVATEERS COMMONLY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ISH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330px-Atlantic_blue_marlin.jpg"/>
          <p:cNvPicPr/>
          <p:nvPr/>
        </p:nvPicPr>
        <p:blipFill>
          <a:blip r:embed="rId1"/>
          <a:stretch/>
        </p:blipFill>
        <p:spPr>
          <a:xfrm>
            <a:off x="2587680" y="1905120"/>
            <a:ext cx="39686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PH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ERE SUSIE, KATHY, AND CLOWN, WHO ALL PLAYED THE TITLE CHARACTER ON "FLI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03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SHARED NO SCENES IN "THE GODFATHER PART II", ROBERT DE NIRO    AND AL PACINO FIRST ACTED TOGETHER IN WHAT 199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U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NGLE CATS ARE THE LARGEST FELINES NATIVE TO THE AMERI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OLDPLAY HIT FEATURES CHINESE ACTRESS ZHANG ZIYI AS THE AMAZING CECILE IN ITS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JAMIN FRANKLIN'S INVENTION "UPRIGHT RODS OF IRON MADE SHARP AS AN IRON" ATTRACT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RETHREN OF THE COAST" WERE A LOOSE COALITION OF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IRATES AND PRIVATEERS COMMONLY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LACK)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384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2018 FILM SET IN WAKAN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, LINES WITH TWO ENDPOINTS ARE CALLED SEGMENTS.  WHAT ARE LINES WITH ONLY ONE END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  SPORTS  TEAMS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ISH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330px-Atlantic_blue_marlin.jpg"/>
          <p:cNvPicPr/>
          <p:nvPr/>
        </p:nvPicPr>
        <p:blipFill>
          <a:blip r:embed="rId1"/>
          <a:stretch/>
        </p:blipFill>
        <p:spPr>
          <a:xfrm>
            <a:off x="2629080" y="2057400"/>
            <a:ext cx="388620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ERE SUSIE, KATHY, AND CLOWN, WHO ALL PLAYED THE TITLE CHARACTER ON "FLI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SHARED NO SCENES IN "THE GODFATHER PART II", ROBERT DE NIRO   AND AL PACINO FIRST ACTED TOGETHER IN WHAT 199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NGLE CATS ARE THE LARGEST FELINES NATIVE TO THE AMERIC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OLDPLAY HIT FEATURES CHINESE ACTRESS ZHANG ZIYI AS THE AMAZING CECILE IN ITS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JAMIN FRANKLIN'S INVENTION "UPRIGHT RODS OF IRON MADE SHARP AS AN IRON" ATTRACT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2018 FILM SET IN WAKAN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0:29:49Z</dcterms:created>
  <dc:creator>Jennifer Budzinski</dc:creator>
  <dc:description/>
  <dc:language>en-US</dc:language>
  <cp:lastModifiedBy>Erich Friedman</cp:lastModifiedBy>
  <dcterms:modified xsi:type="dcterms:W3CDTF">2020-08-29T14:40:18Z</dcterms:modified>
  <cp:revision>459</cp:revision>
  <dc:subject/>
  <dc:title>Slide 1</dc:title>
</cp:coreProperties>
</file>