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BCC1-AC05-4876-9CB4-F5DBD0B4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5EEC-68E3-46AB-B059-B3EEF3117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DB3-80E8-45D7-B6A7-F1E1C4FA9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25A6-0464-49DA-B6DE-ED6558060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5B24-60FF-49D8-A919-867059076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80E0-C597-4F81-8A43-504FC4DD6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D563-9B4C-461F-AC75-246B913C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89DA-B80D-4310-B04D-153BE656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7C0F-97BF-481E-897B-D32E89F01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EC26-9C4C-4661-8510-8C548E7D8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36A0-41B6-4246-BF5E-90532DB22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0E9D-B2EA-467C-A7EB-5885E866C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78B7-D05A-4624-983E-DDF4808C3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E071-21D5-47E3-87C7-99CAB74FA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FBBA-85A7-421B-B6AA-D5805B4DB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BA50-8E23-4ACF-8A31-BAAD00DFE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D4C8-F34E-4B42-BB00-3336611B3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A3E9-FC6F-45E5-BCB9-A0C337CB9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580E-A270-4204-AF33-3C9BBAAAF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510F-116A-42AD-9482-749B4C667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1E3D-9892-4649-ADAC-67192D110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014B-6E5A-4120-814D-E66D836C7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CB0D-56B4-401D-9CCB-830D545C8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CCUPIED BY ISRAEL SINCE 1967        IS INTERNATIONALLY RECOGNIZED AS SYR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MO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FOUNDED IMPRESSIONISM, THAT TERM BEING DERIVED FROM HIS WORK "IMPRESSION, SUNR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AT 1976 SATIRICAL FILM DID PETER FINCH WIN BEST ACTOR, FAYE DUNAWAY WIN BEST ACTRESS, AND BEATRICE STRAIGHT WIN BEST SUPPORTING ACTR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MEMORY  OF  ELIZABETH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LLMAN BROTHERS INSTRUMENTAL'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EVIEW SAID IT "JUST GOES AND GOES FOR A STUPENDOUS AND UNNOTICED 7 MINUTE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03440" y="762120"/>
            <a:ext cx="773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THAT STARTS WITH THE LETTER "Q" IS USED TO TREAT MALAR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5784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NAME CONTAINS TWO CONSECUTIVE E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FOU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DISCOVERED THE GREENHOUSE EFFECT, AND HAS A SERIES, TRANSFORM, AND LAW NAMED AFTER HI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US  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E SERVED THE LONGEST, FROM 1846 TO 18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FOUNDED IMPRESSIONISM, THAT TERM BEING DERIVED FROM HIS WORK "IMPRESSION, SUNR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VEN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BECAME THE GOVERNOR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447920" y="487692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AN 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RITORY OCCUPIED BY ISRAEL SINCE 1967       IS INTERNATIONALLY RECOGNIZED AS SYR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3434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SPELLED  NUMBERS (1, 2, 3, 9, 10, 4, 6, 7,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WHAT 1976 SATIRICAL FILM DID PETER FINCH WIN BEST ACTOR, FAYE DUNAWAY WIN BEST ACTRESS, AND BEATRICE STRAIGHT WIN BEST SUPPORTING ACTR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0440" y="7621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LLMAN BROTHERS INSTRUMENTAL'S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REVIEW SAID IT "JUST GOES AND GOES FOR A STUPENDOUS AND UNNOTICED 7 MINUTES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THAT STARTS WITH THE LETTER "Q" IS USED TO TREAT MALARI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U.S. STATE WHOSE NAME CONTAINS TWO CONSECUTIVE E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DISCOVERED THE GREENHOUSE EFFECT, AND HAS A SERIES, TRANSFORM, AND LAW NAMED AFTER HI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E SERVED THE LONGEST, FROM 1846 TO 18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BECAME THE GOVERNOR OF MINNESO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23:39:42Z</dcterms:created>
  <dc:creator>Jennifer Budzinski</dc:creator>
  <dc:description/>
  <dc:language>en-US</dc:language>
  <cp:lastModifiedBy>Erich Friedman</cp:lastModifiedBy>
  <dcterms:modified xsi:type="dcterms:W3CDTF">2020-08-29T14:41:31Z</dcterms:modified>
  <cp:revision>410</cp:revision>
  <dc:subject/>
  <dc:title>Slide 1</dc:title>
</cp:coreProperties>
</file>