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A87E-8BC3-41E8-B55A-45518C09C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128E-19D2-40D6-B785-B8E3AB893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65CC-C87C-4926-A7F8-27B83584D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EC55-589F-42BF-B44F-B67E2D1EB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E3A7-74F8-46CE-83E7-28611FCA2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27F0-9FCA-4C82-A84B-DB41DD428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CBDF-6CB9-4B26-8F8C-502DD6BF4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4B9E-ED1E-4953-9332-F681325B2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38ED-473A-4BC9-9C06-7E09C7A3E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68C5-12D1-4269-B7FF-E62A378AB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A89D-1F92-4919-9FF2-6FECEEE57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0941-9D60-4257-B6A7-662C7ED07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8C6B-4F5D-424C-BFBF-B35BFA794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3144-B0BF-4FA7-A5F4-6C70F0D6F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D8A5-1282-4F01-947B-25C5B0D11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1B9D-E638-4D57-A719-5879F8E8B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52A8-69AD-46F1-AABF-7359DBC9E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8910-135F-40BB-8BD5-B9A37763A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B02C-26FB-436C-83AF-907FD52E7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78DD-7611-4C7F-BA03-73292E8FC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33CA-9BC8-40D2-9CBC-1CBFCA51B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CD81-B016-41E8-8686-1EF59B369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AA84-674A-47EC-9DC8-BF47554B3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RITORY OCCUPIED BY ISRAEL SINCE 1967        IS INTERNATIONALLY RECOGNIZED AS SYRI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UDE  MO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PAINTER FOUNDED IMPRESSIONISM, THAT TERM BEING DERIVED FROM HIS WORK "IMPRESSION, SUNRI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94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90440" y="7621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WHAT 1976 SATIRICAL FILM DID PETER FINCH WIN BEST ACTOR, FAYE DUNAWAY WIN BEST ACTRESS, AND BEATRICE STRAIGHT WIN BEST SUPPORTING ACTR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MEMORY  OF  ELIZABETH  R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66760" y="7621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LLMAN BROTHERS INSTRUMENTAL'S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REVIEW SAID IT "JUST GOES AND GOES FOR A STUPENDOUS AND UNNOTICED 7 MINUTES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808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N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03440" y="762120"/>
            <a:ext cx="773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UG THAT STARTS WITH THE LETTER "Q" IS USED TO TREAT MALAR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5784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NESS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U.S. STATE WHOSE NAME CONTAINS TWO CONSECUTIVE E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PH  FOUR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28600" y="762120"/>
            <a:ext cx="86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MATHEMATICIAN DISCOVERED THE GREENHOUSE EFFECT, AND HAS A SERIES, TRANSFORM, AND LAW NAMED AFTER HI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US  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OPE SERVED THE LONGEST, FROM 1846 TO 187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PAINTER FOUNDED IMPRESSIONISM, THAT TERM BEING DERIVED FROM HIS WORK "IMPRESSION, SUNRI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SSE  VENT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WRESTLER BECAME THE GOVERNOR OF MINNESO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447920" y="487692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AN  HE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0280" y="76212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RITORY OCCUPIED BY ISRAEL SINCE 1967       IS INTERNATIONALLY RECOGNIZED AS SYRI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66760" y="4343400"/>
            <a:ext cx="8610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SPELLED  NUMBERS (1, 2, 3, 9, 10, 4, 6, 7, 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WHAT 1976 SATIRICAL FILM DID PETER FINCH WIN BEST ACTOR, FAYE DUNAWAY WIN BEST ACTRESS, AND BEATRICE STRAIGHT WIN BEST SUPPORTING ACTRES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90440" y="76212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LLMAN BROTHERS INSTRUMENTAL'S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REVIEW SAID IT "JUST GOES AND GOES FOR A STUPENDOUS AND UNNOTICED 7 MINUTES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UG THAT STARTS WITH THE LETTER "Q" IS USED TO TREAT MALARIA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U.S. STATE WHOSE NAME CONTAINS TWO CONSECUTIVE E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MATHEMATICIAN DISCOVERED THE GREENHOUSE EFFECT, AND HAS A SERIES, TRANSFORM, AND LAW NAMED AFTER HI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OPE SERVED THE LONGEST, FROM 1846 TO 187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WRESTLER BECAME THE GOVERNOR OF MINNESOT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23:39:42Z</dcterms:created>
  <dc:creator>Jennifer Budzinski</dc:creator>
  <dc:description/>
  <dc:language>en-US</dc:language>
  <cp:lastModifiedBy>Erich Friedman</cp:lastModifiedBy>
  <dcterms:modified xsi:type="dcterms:W3CDTF">2020-08-29T14:41:31Z</dcterms:modified>
  <cp:revision>410</cp:revision>
  <dc:subject/>
  <dc:title>Slide 1</dc:title>
</cp:coreProperties>
</file>