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181F-7B1B-4B3B-8886-788E88DD5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AF22-08FA-4B22-BE52-9E997886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CD03-422B-4179-A172-7D460A9C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EB3A-364C-4489-B3DA-0C54BFBF3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9208-F87A-4DBB-AC59-D1EFB8CC3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9488-8421-403E-A8DE-ACFBA296E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C77E-4A71-4CB6-BE1A-828E45A05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5FBD-C699-4EBB-9F7E-F866DF39C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E6DC-773F-4C85-94A2-EC4E2C8BF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888E-334C-49DB-BE91-8AC48F09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EFB5-3A87-4543-826A-5798AE6D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9485-0C91-4620-A2F1-257B34E5E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74BD-AA53-4193-8EFB-0D0319106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49FC-C392-4E06-ACDA-86F2C115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D118-3DA8-40B5-8FDA-2655204A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A6D7-1D9B-483D-9408-D5C193B7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958C-C8ED-4FFC-AAA9-A5C88718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C4F3-B49C-4B56-8574-89739238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0BBC-174F-4EAB-A3FC-04B3685E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5536-C222-441D-904B-2C7F4AE5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A34A-63B8-4B2D-BFE6-4AE9E2614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3E17-4162-4047-808F-675E8D0C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5858-53F3-49C9-BD6B-27501D44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CCUPIED BY ISRAEL SINCE 1967        IS INTERNATIONALLY RECOGNIZED AS SYR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MO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FOUNDED IMPRESSIONISM, THAT TERM BEING DERIVED FROM HIS WORK "IMPRESSION, SUNR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HAT 1976 SATIRICAL FILM DID PETER FINCH WIN BEST ACTOR, FAYE DUNAWAY WIN BEST ACTRESS, AND BEATRICE STRAIGHT WIN BEST SUPPORTING ACTR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MEMORY  OF  ELIZABETH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LLMAN BROTHERS INSTRUMENTAL'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EVIEW SAID IT "JUST GOES AND GOES FOR A STUPENDOUS AND UNNOTICED 7 MINUTE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3440" y="762120"/>
            <a:ext cx="773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THAT STARTS WITH THE LETTER "Q" IS USED TO TREAT MALA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5784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NAME CONTAINS TWO CONSECUTIVE E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FOU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DISCOVERED THE GREENHOUSE EFFECT, AND HAS A SERIES, TRANSFORM, AND LAW NAMED AFTER H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US  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E SERVED THE LONGEST, FROM 1846 TO 18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FOUNDED IMPRESSIONISM, THAT TERM BEING DERIVED FROM HIS WORK "IMPRESSION, SUNR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VEN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BECAME THE GOVERNOR OF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447920" y="487692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AN  HE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CCUPIED BY ISRAEL SINCE 1967       IS INTERNATIONALLY RECOGNIZED AS SYR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66760" y="43434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SPELLED  NUMBERS (1, 2, 3, 9, 10, 4, 6, 7,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HAT 1976 SATIRICAL FILM DID PETER FINCH WIN BEST ACTOR, FAYE DUNAWAY WIN BEST ACTRESS, AND BEATRICE STRAIGHT WIN BEST SUPPORTING ACTRE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LLMAN BROTHERS INSTRUMENTAL'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EVIEW SAID IT "JUST GOES AND GOES FOR A STUPENDOUS AND UNNOTICED 7 MINUTE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THAT STARTS WITH THE LETTER "Q" IS USED TO TREAT MALARI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NAME CONTAINS TWO CONSECUTIVE E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DISCOVERED THE GREENHOUSE EFFECT, AND HAS A SERIES, TRANSFORM, AND LAW NAMED AFTER HI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E SERVED THE LONGEST, FROM 1846 TO 18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BECAME THE GOVERNOR OF MINNESO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23:39:42Z</dcterms:created>
  <dc:creator>Jennifer Budzinski</dc:creator>
  <dc:description/>
  <dc:language>en-US</dc:language>
  <cp:lastModifiedBy>Erich Friedman</cp:lastModifiedBy>
  <dcterms:modified xsi:type="dcterms:W3CDTF">2020-08-29T14:41:31Z</dcterms:modified>
  <cp:revision>410</cp:revision>
  <dc:subject/>
  <dc:title>Slide 1</dc:title>
</cp:coreProperties>
</file>