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0127-B721-4F33-9F8A-090DDB37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4501-1C82-4209-990A-0C9216615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0F6B-6647-4E18-A04D-BBDC74D35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2799-2CA4-486F-899D-63A2F1BDF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FE51-5594-4C94-8A0B-89555398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33B3-7C16-41A7-B8BF-A31A706D5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F6EF-8CA2-4164-B52C-9B7AF339C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447C-7AFA-4E2B-9A9E-4661AEEBD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DFFC-C985-4B95-808F-E0993EA0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EB50-63F4-4B2D-B661-F65532B1F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F10B-7E5C-478F-9A8F-7129FD35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6FBF-B01C-40BD-B2D7-8F308802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E74E-9FF7-4070-9365-39956FDB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6847-0531-431C-8607-4D92C332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1EA0-E420-4145-B705-52F80F701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31F4-BFD1-4AF1-B007-C4524129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F82C-3CC1-4663-88C6-A89B715CA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1F0C-22CF-46FA-94D4-E7885A10A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DF60-3B6F-4532-AD16-EFD68D12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D6FE8-48D7-467B-8AC7-718BA241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80D9-BB44-49B0-B9A1-C6B022EA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447-7519-4F9F-A935-447373768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F1B0-C5A7-4827-8CCC-56C539D8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GENERAL ASSEMBLY IS THE OLDEST CONTINUOUS LAW-MAKING BODY IN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 FROM SOUTHERN SPAIN USES A STYLE OF HANDCLAPPING CALLED "TOQUE DE PAL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LGRADE FROM WARS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ROLOGY IS TELLING  THE FUTURE THROUGH READING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OANING" GHOST LIVES IN THE FIRST-FLOOR GIRLS' BATHROOM AT HOGW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LEFT 85% UNDERWATER AFTER THE FAMOUS "ACQUA ALTA" OF 19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'S TV SERIES STARRED WILLIAM CONRAD, WHO DESCRIBED HIMSELF AS "AN OVERFED WALRUS," AS THE TITLE PRIVATE E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H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ALLEST SKYLINE, AFTER NEW YORK CITY AND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09:22Z</dcterms:created>
  <dc:creator>Jennifer Budzinski</dc:creator>
  <dc:description/>
  <dc:language>en-US</dc:language>
  <cp:lastModifiedBy>Erich Friedman</cp:lastModifiedBy>
  <dcterms:modified xsi:type="dcterms:W3CDTF">2020-08-29T14:42:06Z</dcterms:modified>
  <cp:revision>453</cp:revision>
  <dc:subject/>
  <dc:title>Slide 1</dc:title>
</cp:coreProperties>
</file>