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D909-3AA4-4388-BE46-C06646E1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3CD-DC2F-4918-8A76-D6458FEB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DE2-E4FB-4E8E-8259-52C29EAF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7C65-7EDA-4C81-BC3A-01A7E51B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9E93-851C-4243-909E-E2B13D2C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F00-4C3D-46F0-A0E2-A51FE95D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47E-6B2B-4C1F-8832-326F3710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A40-220C-4D4F-938D-DF9AE14F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4416-1460-4DDC-8B6A-9CF25615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7C0-83D3-4974-8C0C-BF847A3E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DE4-10ED-42CC-B4A8-83255336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469-A40A-40B4-917D-B6C7E16F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F9A-2F6D-4520-891C-1268C83A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D8D9-A7C5-4A1F-973A-C2619E47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57A-E4F4-4701-A971-2FCDA044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A2E-178A-427E-AF93-D1F03014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D5C-2D38-49ED-9553-A64676ED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31A-1082-4BA0-B74D-016F335F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419-1778-48F6-88EC-74A155AB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D85-C8EC-49AB-BFF8-FD6165D9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E6FB-7F9A-49D9-8D45-D4BBFCFA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43A2-4F0D-45CE-BD51-79E42A53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E81D-F6B5-4821-A663-7ACDB75E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09:22Z</dcterms:created>
  <dc:creator>Jennifer Budzinski</dc:creator>
  <dc:description/>
  <dc:language>en-US</dc:language>
  <cp:lastModifiedBy>Erich Friedman</cp:lastModifiedBy>
  <dcterms:modified xsi:type="dcterms:W3CDTF">2020-08-29T14:42:06Z</dcterms:modified>
  <cp:revision>453</cp:revision>
  <dc:subject/>
  <dc:title>Slide 1</dc:title>
</cp:coreProperties>
</file>