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02BD-5E49-4D87-800A-D4E3877AA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858F-36D8-401C-91CB-0E8ACC1E3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2098-C427-4F12-8DE9-AE6B2353E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77B8-96A5-43AA-ADD0-59D699C29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E689-35D4-4FA3-A7B2-F21FE9DD5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F40E-C8FB-4D34-9C42-AB28D3D4F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37DB-605D-486D-95F3-30D6828BF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3858-8804-43BE-97D5-3EC4D3CB9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F431-4938-4344-BF68-68D98A86B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9230-AD4B-4A87-BA5A-4FBFEB4D8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47C8-A07C-4C0D-8A2D-7339219F1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41D7-D00A-464A-8A38-C9F301386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EBFC-CE9E-4AFC-995E-E0D36CE00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8592-A56C-498C-A5FC-C0A05B36D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CD7F-64D8-417C-8948-3357794CD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8802-7884-4C90-B804-A4D6BF752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7167-D951-4789-A172-DC77EEC17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47B0-EE23-43EB-B5E0-B35F94354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2BFB-6C84-409E-A337-A337FE6DF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9C01-320C-4051-8F80-0CB9D65F6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CD49-3E36-4AA2-BBFA-71177DB3E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2BB4-4EED-4D67-9758-4EF11A896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9F45-984D-4823-ACAD-B13EED626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CE FROM SOUTHERN SPAIN USES A STYLE OF HANDCLAPPING CALLED "TOQUE DE PALMA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RGI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GENERAL ASSEMBLY IS THE OLDEST CONTINUOUS LAW-MAKING BODY IN THE NEW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IS BELGRADE FROM WARSA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IROLOGY IS TELLING  THE FUTURE THROUGH READING OF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HELLEY)  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PLAYED DIANE CHAMBERS ON "CHE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R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MOANING" GHOST LIVES IN THE FIRST-FLOOR GIRLS' BATHROOM AT HOGW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N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333440" y="762120"/>
            <a:ext cx="6477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LEFT 85% UNDERWATER AFTER THE FAMOUS "ACQUA ALTA" OF 196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0'S TV SERIES STARRED WILLIAM CONRAD, WHO DESCRIBED HIMSELF AS "AN OVERFED WALRUS," AS THE TITLE PRIVATE EY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GENERAL ASSEMBLY IS THE OLDEST CONTINUOUS LAW-MAKING BODY IN THE NEW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A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CITY HA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ALLEST SKYLINE, AFTER NEW YORK CITY AND CHIC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MEN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CE FROM SOUTHERN SPAIN USES A STYLE OF HANDCLAPPING CALLED "TOQUE DE PALM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52480" y="487692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BEA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IS BELGRADE FROM WARSA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IROLOGY IS TELLING  THE FUTURE THROUGH READING OF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PLAYED DIANE CHAMBERS ON "CHE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MOANING" GHOST LIVES IN THE FIRST-FLOOR GIRLS' BATHROOM AT HOGW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76200" y="761760"/>
            <a:ext cx="6591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LEFT 85% UNDERWATER AFTER THE FAMOUS "ACQUA ALTA" OF 196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0'S TV SERIES STARRED WILLIAM CONRAD, WHO DESCRIBED HIMSELF AS "AN OVERFED WALRUS," AS THE TITLE PRIVATE EY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CITY HA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ALLEST SKYLINE, AFTER NEW YORK CITY AND CHICA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0T14:09:22Z</dcterms:created>
  <dc:creator>Jennifer Budzinski</dc:creator>
  <dc:description/>
  <dc:language>en-US</dc:language>
  <cp:lastModifiedBy>Erich Friedman</cp:lastModifiedBy>
  <dcterms:modified xsi:type="dcterms:W3CDTF">2020-08-29T14:42:06Z</dcterms:modified>
  <cp:revision>453</cp:revision>
  <dc:subject/>
  <dc:title>Slide 1</dc:title>
</cp:coreProperties>
</file>