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1680-7D02-4E49-993E-CF85B70F9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87F9-F5C3-4E36-9A94-C76056DCA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6E78E-D156-4E13-A8B8-EFB1CE32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50A4-9760-4BF0-AD14-E771B310E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A7FC6-C165-4171-BC63-F943B9263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7A54-7EA9-4B89-B6C6-A9904079A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B70F-D6A2-4EC3-ACF3-DFB85CAC0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0F11-D5F7-4892-889D-7101BE1F2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D2AD-98C0-4402-9928-13F710D3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3D162-5686-4CD3-A188-4EAE6E9D5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ADF-F83C-4E0B-B123-71181D53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F5F0-D362-4074-8AA2-BD889CE4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D1728-5C13-45F4-A78B-6FCA396FC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F83F-FED1-4F64-A581-49A8CED9EB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A870-3090-4B24-82E2-501295C8E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092A-8514-47EC-B634-2792FA22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A331-73FF-4FD7-851A-33C587CBF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D5AA-4973-4F70-B07C-41EB8F601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EA81-0DE7-403A-B59E-639B582E0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0AE9-75AD-49BD-84D7-BBCAE5482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8DB0-90FA-4FF5-B7E4-42AE232B0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40D6-E9DD-45D6-820B-7B7EA0840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0AA4-CCB4-4DE0-B247-739B425A0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LEY  JOEL  OS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47640" y="762120"/>
            <a:ext cx="78487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EX  RODRIGUE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HIL  COLL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3412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IRE  DA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95360" y="76824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ORIA  ESTEF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38080" y="75096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228600" y="4876920"/>
            <a:ext cx="8763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Y  LE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19000" y="770040"/>
            <a:ext cx="7506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KE  SKYWAL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76212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HILD ACTOR STARRED IN "PAY IT FORWARD", "SIXTH SENSE", AND "A.I. ARTIFICIAL INTELLIGEN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MERON  DIA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CH  MCCONN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257480" y="762120"/>
            <a:ext cx="6629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NATE MAJORITY LEA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343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IR  FIRST  NAMES  ARE  ALL     "MODERN  FAMILY"  CHARAC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1800" indent="-181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80028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RMER NEW YORK YANKEE, NICKNAMED "A-ROD", WAS ONCE THE HIGHEST PAID PLAYER IN BASEBA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380880" y="762120"/>
            <a:ext cx="8382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ONE MORE NIGHT", "IN THE AIR TONIGHT", AND "AGAINST ALL ODD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95360" y="762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WON 4 GOLDEN GLOBE AWARDS, FOR "MY  SO-CALLED LIFE", "TEMPLE GRANDIN", AND "HOMELAN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6197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IS THE SECOND BEST-SELLING LATIN FEMALE MUSICAL ARTIST IN THE U.S., AFTER SHAKIR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THE TONIGHT SHOW FROM 1992 TO 201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MAIN PROTAGONIST OF THE ORIGINAL "STAR WARS" TRILOG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THERE'S SOMETHING ABOUT MARY", "MY SISTER'S KEEPER", AND "KNIGHT AND DAY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9T14:21:35Z</dcterms:created>
  <dc:creator>Jennifer Budzinski</dc:creator>
  <dc:description/>
  <dc:language>en-US</dc:language>
  <cp:lastModifiedBy>Erich Friedman</cp:lastModifiedBy>
  <dcterms:modified xsi:type="dcterms:W3CDTF">2020-08-24T13:04:38Z</dcterms:modified>
  <cp:revision>404</cp:revision>
  <dc:subject/>
  <dc:title>Slide 1</dc:title>
</cp:coreProperties>
</file>