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44A7-B7F4-4056-AA3F-DF2C381A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ADC9-C612-4FFB-A2EB-72009DA2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A9A-3A15-4591-A7F7-AB67F1DE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E3C-D0DE-4F8D-A7FD-C9C39D13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D725-D59E-45B6-BE89-E71F21A6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D326-B89E-481C-8787-D62FAB48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BA2-EEB1-4387-8285-988EE33A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0D7-060D-41C1-8312-7A309D80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024E-D90F-4944-AFA9-75A0A3C4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EFB-432F-4CE8-9F3A-F3150304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14B-C2C8-4B36-B4C6-23B3905C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F3C2-9D52-4DAE-9752-25232A91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25D7-05F4-4868-9929-7996549D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A0F-850E-40F2-B56D-7E4E78F2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4672-12C7-4545-96D3-E3F13901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3D73-0DF5-45DA-B35E-AD3EA276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B71-5BFE-40FB-A39D-AEC43130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2E88-1A1F-41FB-AECC-46782E5F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40C6-0D15-4C97-ADA7-D86CC2D8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3A0-A37B-43A8-8CC6-73621656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7A0-E0B5-43E0-B2E1-2FCDB781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E90-D02D-4B9A-8F31-19A922DE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C85F-63F4-4B01-A596-6B95498F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824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ESTE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L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19000" y="770040"/>
            <a:ext cx="7506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CH  MCCONN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343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ALL     "MODERN  FAMIL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4:21:35Z</dcterms:created>
  <dc:creator>Jennifer Budzinski</dc:creator>
  <dc:description/>
  <dc:language>en-US</dc:language>
  <cp:lastModifiedBy>Erich Friedman</cp:lastModifiedBy>
  <dcterms:modified xsi:type="dcterms:W3CDTF">2020-08-24T13:04:38Z</dcterms:modified>
  <cp:revision>404</cp:revision>
  <dc:subject/>
  <dc:title>Slide 1</dc:title>
</cp:coreProperties>
</file>