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C8E3-E5E9-470E-9FD6-B6A5328C7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4B30-BE98-414C-B15F-B512F88D2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BD2B-A48F-476B-BA97-C5FD03CE9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37D3-E179-4B3B-969A-F1396540B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8150-67F2-4B6A-800F-370171C49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8751-9BCA-4D1D-A476-4D889CB23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3D58-8843-436B-A766-9BDF4220D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E161-43E0-4070-B905-EC4C9886D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27F3-628B-4474-B6A8-F3BA4CEF8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42F7-D905-4730-945B-4A0BEA27F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A7DF-7C97-4402-A982-A9F6E00AF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FBC9-ADBD-44BD-979B-0105793B2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8DD4-9FFF-4BAE-8D24-80134E9F9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08FA-ACD6-4781-B09C-FA11343D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D63E-3382-4A6D-93EE-2F64C555D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62D6-6F99-4ECB-AC12-B24A157CA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96FA-355D-4BAC-B95F-3AFDC8CF6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6E3A-3D43-4DE9-8FF2-49E679ABB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6B2E-5DC1-48CF-BBFC-7EB02EAC7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8E6C-3702-4E3B-9C1F-E8B2CB4FD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98E9-E926-489D-B76C-16EA777ED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1AD3-E4DC-49F8-8DA2-42BAE5917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38AB-60F9-4AAC-8A23-F1473075E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NATE MAJORITY LEA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EY  JOEL  O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PAY IT FORWARD", "SIXTH SENSE", AND "A.I. ARTIFICIAL INTELLIGE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RODRIG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NEW YORK YANKEE, NICKNAMED "A-ROD", WAS ONCE THE HIGHEST PAID PLAYER IN BASE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12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NE MORE NIGHT", "IN THE AIR TONIGHT", AND "AGAINST ALL OD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IRE  D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824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4 GOLDEN GLOBE AWARDS, FOR "MY  SO-CALLED LIFE", "TEMPLE GRANDIN", AND "HOME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  ESTEF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5096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COND BEST-SELLING LATIN FEMALE MUSICAL ARTIST IN THE U.S., AFTER SHAKI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  L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19000" y="770040"/>
            <a:ext cx="7506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TONIGHT SHOW FROM 1992 TO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KE  SKY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PROTAGONIST OF THE ORIGINAL "STAR WARS" TRI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PAY IT FORWARD", "SIXTH SENSE", AND "A.I. ARTIFICIAL INTELLIGE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  DI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RE'S SOMETHING ABOUT MARY", "MY SISTER'S KEEPER", AND "KNIGHT AND DA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TCH  MCCONN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NATE MAJORITY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3434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 ALL     "MODERN  FAMILY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NEW YORK YANKEE, NICKNAMED "A-ROD", WAS ONCE THE HIGHEST PAID PLAYER IN BASE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NE MORE NIGHT", "IN THE AIR TONIGHT", AND "AGAINST ALL OD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4 GOLDEN GLOBE AWARDS, FOR "MY  SO-CALLED LIFE", "TEMPLE GRANDIN", AND "HOME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COND BEST-SELLING LATIN FEMALE MUSICAL ARTIST IN THE U.S., AFTER SHAKI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TONIGHT SHOW FROM 1992 TO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PROTAGONIST OF THE ORIGINAL "STAR WARS" TRI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RE'S SOMETHING ABOUT MARY", "MY SISTER'S KEEPER", AND "KNIGHT AND DA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14:21:35Z</dcterms:created>
  <dc:creator>Jennifer Budzinski</dc:creator>
  <dc:description/>
  <dc:language>en-US</dc:language>
  <cp:lastModifiedBy>Erich Friedman</cp:lastModifiedBy>
  <dcterms:modified xsi:type="dcterms:W3CDTF">2020-08-24T13:04:38Z</dcterms:modified>
  <cp:revision>404</cp:revision>
  <dc:subject/>
  <dc:title>Slide 1</dc:title>
</cp:coreProperties>
</file>