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B1E1-022F-4C04-89E8-F26E35A56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A711-3B92-4412-8B23-124D23CA7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0071-1DAF-4D9D-8B80-E672FEDC9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3EA2-9BD1-4F78-B7E9-543320E6C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6846-35AF-45E1-B4F0-BF471F111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967A-44F0-49D0-ABA5-0DB139D1E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E124-7D24-4F80-8464-96ED7C67E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86C8-83EA-4862-8B43-E93727432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C3D3-6FB2-450D-8F5E-0C959CA3D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4427-B60E-4011-92FA-F0ED860A2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6CBA-D39A-401B-A040-B6A8A0052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3B0F-E621-4244-9451-7E307C2D0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1A7D-03C4-498F-B9ED-A86595E0D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66C7-7354-47AB-8311-7C0EA63F1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EA45-411A-4AF5-9127-291FBD273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5CEB-B7F3-4FA2-9416-4376E4C86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DAFF-DA26-4CE5-9776-2237AA83A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458C-9C2D-4330-B8A6-D98158B28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544B-B967-4D53-99F0-C0914849F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2BAC-7C84-4F11-8F57-510735EAF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E921-DE8E-4142-835B-B66B85B41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BA9C-0AF8-4BB6-B5CE-32C8C8AD0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DB74-FBA9-46B3-B180-74C66EDC2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SEA, WHAT QUANTITY CAN BE MEASURED IN UNITS CALLED KNO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B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OF RUSSIA IS BEST KNOWN FOR ITS LONG, HARSH WINTERS AND AS A PLACE FOR LABOR CAMPS AND EX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THE IVY LEAGUE SCHOOL BROWN UNIVERSITY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CH  ADO  ABOUT  NO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ARE BENEDICK AND BEATRICE TRICKED INTO CONFESSING THEIR LOVE FOR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WHAT IS A 2-DIMENSIONAL TABLE OF NUMBER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PLACE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NESOTA BAND WAS BANNED FROM "SNL" IN 1986 FOLLOWING A DISASTROUS DRUNK PERFORMANCE OF "BASTARDS OF YOU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C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TERARY VILLAIN'S ARCHENEMY IS A DUTCH PROFESSOR NAMED ABRAHAM VAN HEL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STAN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SHARED BY THE FIRST AND LAST EMPERORS OF THE BYZANTINE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OF RUSSIA IS BEST KNOWN FOR ITS LONG, HARSH WINTERS AND AS A PLACE FOR LABOR CAMPS AND EXI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EVIL'S  ADVOC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HOLIC OFFICIAL,  ALSO CALLED "PROMOTER OF THE FAITH", WAS CHARGED WITH ARGUING AGAINST CANDIDATES FOR SAINTH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SEA, WHAT QUANTITY CAN BE MEASURED IN UNITS CALLED KNO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ANU  REEVES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THE IVY LEAGUE SCHOOL BROWN UNIVERSITY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ARE BENEDICK AND BEATRICE TRICKED INTO CONFESSING THEIR LOVE FOR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WHAT IS A 2-DIMENSIONAL TABLE OF NUMBER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NESOTA BAND WAS BANNED FROM "SNL" IN 1986 FOLLOWING A DISASTROUS DRUNK PERFORMANCE OF "BASTARDS OF YOU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TERARY VILLAIN'S ARCHENEMY IS A DUTCH PROFESSOR NAMED ABRAHAM VAN HELS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SHARED BY THE FIRST AND LAST EMPERORS OF THE BYZANTINE EMP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HOLIC OFFICIAL,  ALSO CALLED "PROMOTER OF THE FAITH", WAS CHARGED WITH ARGUING AGAINST CANDIDATES FOR SAINTH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1T13:23:39Z</dcterms:created>
  <dc:creator>Jennifer Budzinski</dc:creator>
  <dc:description/>
  <dc:language>en-US</dc:language>
  <cp:lastModifiedBy>Erich Friedman</cp:lastModifiedBy>
  <dcterms:modified xsi:type="dcterms:W3CDTF">2020-08-29T15:40:12Z</dcterms:modified>
  <cp:revision>458</cp:revision>
  <dc:subject/>
  <dc:title>Slide 1</dc:title>
</cp:coreProperties>
</file>