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51C1-A454-4D70-B02B-C99CCE51D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0EF-DAD3-4ADC-8B25-81F97EF3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8580-51E7-4B68-8E26-F6FF4FBA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6F68-8603-4166-B8A7-09331387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736-D551-4AD7-BF11-FD5CB5B4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1A0B-0A39-47AA-8A1F-EAF0DB92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2272-787E-4D4D-BA00-1BBA03CA7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63F-FB2A-441D-9525-6E257188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2FDA-B2BC-4CBF-B9CE-982CE0B7A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39CD-486E-4A98-A734-70EBFA42F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122-884A-4BC4-B45B-A81032857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72B0-4BAE-4D42-A78B-BACD98CD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463E-875B-430B-8D4F-FADC9CF1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3149-DC11-49D1-9DBF-A0881120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5F3C8-69C3-420B-A5CC-74AEBD29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8F4B-896D-415A-A22B-CCF4985C6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7D4-1684-43DB-A728-918F9FAAA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EE07-1899-4558-B03C-B6880DC4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1811-7E5D-4191-A58F-99EDA97FB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22E-4ABB-4907-8317-42BD32FD3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D977-B8DD-4625-8C2E-A04D7973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691-7563-4BBA-B91D-0D6F431C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8837-AB29-4E79-9CDC-6F79CC77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SEA, WHAT QUANTITY CAN BE MEASURED IN UNITS CALLED KNO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F RUSSIA IS BEST KNOWN FOR ITS LONG, HARSH WINTERS AND AS A PLACE FOR LABOR CAMPS AND EX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IVY LEAGUE SCHOOL BROWN UNIVERSIT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CH  ADO  ABOUT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2-DIMENSIONAL TABLE OF NUMBER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PLACEME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NESOTA BAND WAS BANNED FROM "SNL" IN 1986 FOLLOWING A DISASTROUS DRUNK PERFORMANCE OF "BASTARDS OF YOU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ERARY VILLAIN'S ARCHENEMY IS A DUTCH PROFESSOR NAMED ABRAHAM VAN HEL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HARED BY THE FIRST AND LAST EMPERORS OF THE BYZANTINE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F RUSSIA IS BEST KNOWN FOR ITS LONG, HARSH WINTERS AND AS A PLACE FOR LABOR CAMPS AND EX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'S  ADVOC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OLIC OFFICIAL,  ALSO CALLED "PROMOTER OF THE FAITH", WAS CHARGED WITH ARGUING AGAINST CANDIDATES FOR SAINT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SEA, WHAT QUANTITY CAN BE MEASURED IN UNITS CALLED KNO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ANU  REEVE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IVY LEAGUE SCHOOL BROWN UNIVERSIT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2-DIMENSIONAL TABLE OF NUMBER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NESOTA BAND WAS BANNED FROM "SNL" IN 1986 FOLLOWING A DISASTROUS DRUNK PERFORMANCE OF "BASTARDS OF YOU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TERARY VILLAIN'S ARCHENEMY IS A DUTCH PROFESSOR NAMED ABRAHAM VAN HEL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HARED BY THE FIRST AND LAST EMPERORS OF THE BYZANTINE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OLIC OFFICIAL,  ALSO CALLED "PROMOTER OF THE FAITH", WAS CHARGED WITH ARGUING AGAINST CANDIDATES FOR SAINT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3:23:39Z</dcterms:created>
  <dc:creator>Jennifer Budzinski</dc:creator>
  <dc:description/>
  <dc:language>en-US</dc:language>
  <cp:lastModifiedBy>Erich Friedman</cp:lastModifiedBy>
  <dcterms:modified xsi:type="dcterms:W3CDTF">2020-08-29T15:40:12Z</dcterms:modified>
  <cp:revision>458</cp:revision>
  <dc:subject/>
  <dc:title>Slide 1</dc:title>
</cp:coreProperties>
</file>