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9D1A-667D-46E9-9A4E-0BD40971D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C892-342F-4B85-B0CA-49A828ACD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49F0-AF49-41DA-AF6B-2BD08EECB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BF3E-6C1E-46A4-96D4-F17F06E3E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A811-10E4-4140-818C-8C27366A7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C3A2-926C-4A7C-B0D7-B651B53A4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9196-81A4-4524-B12D-B0DD1DA29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5563-D936-4B3F-879F-09D283A54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A037-B70B-41B8-B8AE-3FE807E5C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40C3-19B1-4200-A161-2BD8F74D7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A74F-83B8-454C-BD57-26C823B0C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D896-7F79-47DE-962B-7D927DF6E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56DF-FAF9-42FE-B9BB-437B92C7F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6D6D-6853-46A1-A73C-CF90C1D9C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7421-B756-436B-BF5E-297C4147F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8866-CB46-465D-B493-B76D4F6E0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6616-28C2-4441-B3C1-994B58BD3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90D5-4EB6-4207-8CE2-C272CE107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CE81-9A64-46B7-A54C-7A253EBA8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FD21-96EA-4E71-B2EE-2D5AA67DD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7006-5F09-46B9-8995-1FF831E5F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D9C0-450C-4C42-A0E7-63C73A008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44D5-2E6E-426A-B477-250D7DC0D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SEA, WHAT QUANTITY CAN BE MEASURED IN UNITS CALLED KNO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B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RITORY OF RUSSIA IS BEST KNOWN FOR ITS LONG, HARSH WINTERS AND AS A PLACE FOR LABOR CAMPS AND EXI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VI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IS THE IVY LEAGUE SCHOOL BROWN UNIVERSITY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CH  ADO  ABOUT  NO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HAKESPEARE PLAY ARE BENEDICK AND BEATRICE TRICKED INTO CONFESSING THEIR LOVE FOR EACH 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THEMATICS, WHAT IS A 2-DIMENSIONAL TABLE OF NUMBER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PLACEM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266760" y="762120"/>
            <a:ext cx="8610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NNESOTA BAND WAS BANNED FROM "SNL" IN 1986 FOLLOWING A DISASTROUS DRUNK PERFORMANCE OF "BASTARDS OF YOU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C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ITERARY VILLAIN'S ARCHENEMY IS A DUTCH PROFESSOR NAMED ABRAHAM VAN HELS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STANT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WAS SHARED BY THE FIRST AND LAST EMPERORS OF THE BYZANTINE EMP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RITORY OF RUSSIA IS BEST KNOWN FOR ITS LONG, HARSH WINTERS AND AS A PLACE FOR LABOR CAMPS AND EXI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DEVIL'S  ADVOC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THOLIC OFFICIAL,  ALSO CALLED "PROMOTER OF THE FAITH", WAS CHARGED WITH ARGUING AGAINST CANDIDATES FOR SAINTH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SEA, WHAT QUANTITY CAN BE MEASURED IN UNITS CALLED KNO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ANU  REEVES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IS THE IVY LEAGUE SCHOOL BROWN UNIVERSITY LOC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HAKESPEARE PLAY ARE BENEDICK AND BEATRICE TRICKED INTO CONFESSING THEIR LOVE FOR EACH 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THEMATICS, WHAT IS A 2-DIMENSIONAL TABLE OF NUMBER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90440" y="7621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NNESOTA BAND WAS BANNED FROM "SNL" IN 1986 FOLLOWING A DISASTROUS DRUNK PERFORMANCE OF "BASTARDS OF YOU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ITERARY VILLAIN'S ARCHENEMY IS A DUTCH PROFESSOR NAMED ABRAHAM VAN HELS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WAS SHARED BY THE FIRST AND LAST EMPERORS OF THE BYZANTINE EMPI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THOLIC OFFICIAL,  ALSO CALLED "PROMOTER OF THE FAITH", WAS CHARGED WITH ARGUING AGAINST CANDIDATES FOR SAINTHOO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1T13:23:39Z</dcterms:created>
  <dc:creator>Jennifer Budzinski</dc:creator>
  <dc:description/>
  <dc:language>en-US</dc:language>
  <cp:lastModifiedBy>Erich Friedman</cp:lastModifiedBy>
  <dcterms:modified xsi:type="dcterms:W3CDTF">2020-08-29T15:40:12Z</dcterms:modified>
  <cp:revision>458</cp:revision>
  <dc:subject/>
  <dc:title>Slide 1</dc:title>
</cp:coreProperties>
</file>