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C6E9-2698-430E-98DA-19C0FE37C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3210-0B1C-4A77-84CA-9D500A99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B850-A062-4893-8034-F2DC887E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8214-B20F-4D85-9E3B-BB951B1F0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FB3-1885-428D-805C-02933646F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A999-5DDB-4EDD-8D87-FE574FD0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86B-46CC-486F-8C54-CAD73E31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D89D-12FF-4BDF-969B-2793F294C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EABF-CC5D-4BFD-8B56-940612E4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4B62-6B9C-43D9-9F0F-AC2A93DDC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8A2-1C43-4557-8F41-89D534FD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EB21-C986-44A3-B2B1-4C3376B07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9874-E640-44F2-8A80-1770513B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2325-E23C-46AC-A821-8E7B6D0A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F924-E7E6-455D-A9BB-9FB09D01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86CA-FE6C-47AC-B628-C7C1559D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262B-A617-450F-8715-A372A55C2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54FD-B3E2-47AB-B1A0-BFF4BC991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ABAD-8B16-4A52-A521-839D0664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DF23-B127-409B-B832-2DBEB039F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2550-2AA8-4A17-8201-57BCA0E1D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B7C-8B40-4EDF-A40A-D51EB80C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D2E-F354-475D-ADCA-15D69F46B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CELEB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stan-lee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07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497844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OW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Robert-Downey-Jr-920x584.jpg"/>
          <p:cNvPicPr/>
          <p:nvPr/>
        </p:nvPicPr>
        <p:blipFill>
          <a:blip r:embed="rId1"/>
          <a:stretch/>
        </p:blipFill>
        <p:spPr>
          <a:xfrm>
            <a:off x="1747800" y="1295280"/>
            <a:ext cx="564840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IE  SMU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Cobie-Smulders-Main-1240x82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L.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Samuel-L.-Jackson-Wiki-Biography-Age-Height-Weight-Profile-Info.-Best-Hd-Wallpap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YNETH  PALT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gwyneth_paltrow_garance_dore_1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87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R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half-of-his-face-was-paralyzed-1523897394.jpg"/>
          <p:cNvPicPr/>
          <p:nvPr/>
        </p:nvPicPr>
        <p:blipFill>
          <a:blip r:embed="rId1"/>
          <a:stretch/>
        </p:blipFill>
        <p:spPr>
          <a:xfrm>
            <a:off x="1409760" y="1295280"/>
            <a:ext cx="6324480" cy="35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HEMS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newsnow_20180307_c_269389_560x315_1179505219685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4965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T  JOHAN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johannsonscarlett_getty_07131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Robert-Downey-Jr-920x584.jpg"/>
          <p:cNvPicPr/>
          <p:nvPr/>
        </p:nvPicPr>
        <p:blipFill>
          <a:blip r:embed="rId1"/>
          <a:stretch/>
        </p:blipFill>
        <p:spPr>
          <a:xfrm>
            <a:off x="1600200" y="1295280"/>
            <a:ext cx="58831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chris-evans-arrives-at-the-los-angeles-premiere-of-captain-america-the-winter-soldier-held-at-the-el-capitan-theatre-on-march-13-2014-in-hollywood-california-photo-by-michael-tran_filmmagicjpg-squar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93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stan-lee.jpg"/>
          <p:cNvPicPr/>
          <p:nvPr/>
        </p:nvPicPr>
        <p:blipFill>
          <a:blip r:embed="rId1"/>
          <a:stretch/>
        </p:blipFill>
        <p:spPr>
          <a:xfrm>
            <a:off x="1447920" y="1289160"/>
            <a:ext cx="624816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IN  "THE  AVENGER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Cobie-Smulders-Main-1240x82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amuel-L.-Jackson-Wiki-Biography-Age-Height-Weight-Profile-Info.-Best-Hd-Wallpap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wyneth_paltrow_garance_dore_1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87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half-of-his-face-was-paralyzed-1523897394.jpg"/>
          <p:cNvPicPr/>
          <p:nvPr/>
        </p:nvPicPr>
        <p:blipFill>
          <a:blip r:embed="rId1"/>
          <a:stretch/>
        </p:blipFill>
        <p:spPr>
          <a:xfrm>
            <a:off x="1295280" y="1295280"/>
            <a:ext cx="6499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newsnow_20180307_c_269389_560x315_1179505219685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johannsonscarlett_getty_07131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hris-evans-arrives-at-the-los-angeles-premiere-of-captain-america-the-winter-soldier-held-at-the-el-capitan-theatre-on-march-13-2014-in-hollywood-california-photo-by-michael-tran_filmmagicjpg-squar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6:30:52Z</dcterms:created>
  <dc:creator>Jennifer Budzinski</dc:creator>
  <dc:description/>
  <dc:language>en-US</dc:language>
  <cp:lastModifiedBy>Erich Friedman</cp:lastModifiedBy>
  <dcterms:modified xsi:type="dcterms:W3CDTF">2020-08-29T15:40:57Z</dcterms:modified>
  <cp:revision>290</cp:revision>
  <dc:subject/>
  <dc:title>Slide 1</dc:title>
</cp:coreProperties>
</file>