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2C5F-BD11-4F23-865D-70ABDFCAE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CDF7-E405-4EA9-8B11-F1F212596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368DB-798C-4CB7-B791-EB6FE7058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2048-4B95-4A7C-A9C9-378DC7D91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D2D6-4D91-4F89-8DB3-321363D9F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9073-BB64-4DD9-ABAA-0A65CF7C1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1CA14-853E-4EA7-82C5-A1F5391D4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7CD7-52BF-439F-863D-FA549D127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977B-AE9E-407E-B763-97087EE64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0356-314B-4581-B370-F8F5ACA45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C22F-CCCB-4CED-87FA-4D80554CF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F0C2-B237-40BE-BF2A-ECF49AEA0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B160-1172-4465-92EC-F10C476E2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6C71-1512-4669-AD9E-C3650CBFD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0D84-417A-4532-B6D4-E8AD3E7FD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45ADC-2E90-4702-AA2C-F63BA46D1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250D-4223-4D14-B9CA-82BC8397D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BABD-BC09-4EAC-B1D5-C6350C801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C65E-987B-412F-9D88-0554EC21B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611E-26E7-44BE-81DA-0BA2977A2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D4BD-0CCA-4236-84E1-75A08727F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4EA8-72DA-4326-889E-66A48F4A3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5D73-C5AA-4F1C-895B-ECCA0DAB7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23960" y="13716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: IDENTIFY THESE CELEBR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3" descr="stan-lee.jpg"/>
          <p:cNvPicPr/>
          <p:nvPr/>
        </p:nvPicPr>
        <p:blipFill>
          <a:blip r:embed="rId1"/>
          <a:stretch/>
        </p:blipFill>
        <p:spPr>
          <a:xfrm>
            <a:off x="1295280" y="1295280"/>
            <a:ext cx="65073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837720" y="6858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SE PEOPLE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457200" y="497844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DOWNEY  J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Robert-Downey-Jr-920x584.jpg"/>
          <p:cNvPicPr/>
          <p:nvPr/>
        </p:nvPicPr>
        <p:blipFill>
          <a:blip r:embed="rId1"/>
          <a:stretch/>
        </p:blipFill>
        <p:spPr>
          <a:xfrm>
            <a:off x="1747800" y="1295280"/>
            <a:ext cx="5648400" cy="358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BIE  SMUL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3" descr="Cobie-Smulders-Main-1240x820.jpg"/>
          <p:cNvPicPr/>
          <p:nvPr/>
        </p:nvPicPr>
        <p:blipFill>
          <a:blip r:embed="rId1"/>
          <a:stretch/>
        </p:blipFill>
        <p:spPr>
          <a:xfrm>
            <a:off x="2209680" y="1295280"/>
            <a:ext cx="480060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UEL  L.  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Samuel-L.-Jackson-Wiki-Biography-Age-Height-Weight-Profile-Info.-Best-Hd-Wallpaper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2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WYNETH  PALT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3" descr="gwyneth_paltrow_garance_dore_1.jpg"/>
          <p:cNvPicPr/>
          <p:nvPr/>
        </p:nvPicPr>
        <p:blipFill>
          <a:blip r:embed="rId1"/>
          <a:stretch/>
        </p:blipFill>
        <p:spPr>
          <a:xfrm>
            <a:off x="1905120" y="1295280"/>
            <a:ext cx="53877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  RUFF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3" descr="half-of-his-face-was-paralyzed-1523897394.jpg"/>
          <p:cNvPicPr/>
          <p:nvPr/>
        </p:nvPicPr>
        <p:blipFill>
          <a:blip r:embed="rId1"/>
          <a:stretch/>
        </p:blipFill>
        <p:spPr>
          <a:xfrm>
            <a:off x="1409760" y="1295280"/>
            <a:ext cx="6324480" cy="355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457200" y="497196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  HEMSWO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3" descr="newsnow_20180307_c_269389_560x315_1179505219685.jpg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457200" y="496584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ARLETT  JOHANS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3" descr="johannsonscarlett_getty_071318.jpg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Robert-Downey-Jr-920x584.jpg"/>
          <p:cNvPicPr/>
          <p:nvPr/>
        </p:nvPicPr>
        <p:blipFill>
          <a:blip r:embed="rId1"/>
          <a:stretch/>
        </p:blipFill>
        <p:spPr>
          <a:xfrm>
            <a:off x="1600200" y="1295280"/>
            <a:ext cx="58831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3808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  EV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3" descr="chris-evans-arrives-at-the-los-angeles-premiere-of-captain-america-the-winter-soldier-held-at-the-el-capitan-theatre-on-march-13-2014-in-hollywood-california-photo-by-michael-tran_filmmagicjpg-square.jpg"/>
          <p:cNvPicPr/>
          <p:nvPr/>
        </p:nvPicPr>
        <p:blipFill>
          <a:blip r:embed="rId1"/>
          <a:stretch/>
        </p:blipFill>
        <p:spPr>
          <a:xfrm>
            <a:off x="2743200" y="12193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457200" y="495936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N  L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4" descr="stan-lee.jpg"/>
          <p:cNvPicPr/>
          <p:nvPr/>
        </p:nvPicPr>
        <p:blipFill>
          <a:blip r:embed="rId1"/>
          <a:stretch/>
        </p:blipFill>
        <p:spPr>
          <a:xfrm>
            <a:off x="1447920" y="1289160"/>
            <a:ext cx="6248160" cy="351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SE PEOPLE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WERE  IN  "THE  AVENGERS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Cobie-Smulders-Main-1240x820.jpg"/>
          <p:cNvPicPr/>
          <p:nvPr/>
        </p:nvPicPr>
        <p:blipFill>
          <a:blip r:embed="rId1"/>
          <a:stretch/>
        </p:blipFill>
        <p:spPr>
          <a:xfrm>
            <a:off x="2209680" y="1295280"/>
            <a:ext cx="480060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Samuel-L.-Jackson-Wiki-Biography-Age-Height-Weight-Profile-Info.-Best-Hd-Wallpaper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2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gwyneth_paltrow_garance_dore_1.jpg"/>
          <p:cNvPicPr/>
          <p:nvPr/>
        </p:nvPicPr>
        <p:blipFill>
          <a:blip r:embed="rId1"/>
          <a:stretch/>
        </p:blipFill>
        <p:spPr>
          <a:xfrm>
            <a:off x="1905120" y="1295280"/>
            <a:ext cx="53877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half-of-his-face-was-paralyzed-1523897394.jpg"/>
          <p:cNvPicPr/>
          <p:nvPr/>
        </p:nvPicPr>
        <p:blipFill>
          <a:blip r:embed="rId1"/>
          <a:stretch/>
        </p:blipFill>
        <p:spPr>
          <a:xfrm>
            <a:off x="1295280" y="1295280"/>
            <a:ext cx="64994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newsnow_20180307_c_269389_560x315_1179505219685.jpg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36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johannsonscarlett_getty_071318.jpg"/>
          <p:cNvPicPr/>
          <p:nvPr/>
        </p:nvPicPr>
        <p:blipFill>
          <a:blip r:embed="rId1"/>
          <a:stretch/>
        </p:blipFill>
        <p:spPr>
          <a:xfrm>
            <a:off x="1371600" y="1295280"/>
            <a:ext cx="65023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chris-evans-arrives-at-the-los-angeles-premiere-of-captain-america-the-winter-soldier-held-at-the-el-capitan-theatre-on-march-13-2014-in-hollywood-california-photo-by-michael-tran_filmmagicjpg-square.jpg"/>
          <p:cNvPicPr/>
          <p:nvPr/>
        </p:nvPicPr>
        <p:blipFill>
          <a:blip r:embed="rId1"/>
          <a:stretch/>
        </p:blipFill>
        <p:spPr>
          <a:xfrm>
            <a:off x="2743200" y="12193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0T16:30:52Z</dcterms:created>
  <dc:creator>Jennifer Budzinski</dc:creator>
  <dc:description/>
  <dc:language>en-US</dc:language>
  <cp:lastModifiedBy>Erich Friedman</cp:lastModifiedBy>
  <dcterms:modified xsi:type="dcterms:W3CDTF">2020-08-29T15:40:57Z</dcterms:modified>
  <cp:revision>290</cp:revision>
  <dc:subject/>
  <dc:title>Slide 1</dc:title>
</cp:coreProperties>
</file>