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EA7E-18D3-4F9B-96B6-7FB96F509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7941-B123-4057-8383-89D27E767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49C5-87E3-466A-A9EC-A6C9A2F52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CBD8-C516-4F07-BD02-E8445DCBE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82A7-5CB2-48C0-B7B3-F9EE19569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B5C3-8484-4AC5-BF5B-7A9A96C7A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E69C-0522-4CBA-96B6-41D63D89C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4160-5712-4633-97E0-E72B76411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E1B4-E4B4-46F3-B540-EDC85808C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6253-7841-4537-969D-C99F77CF9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1A4B-1E3B-4E2A-BD13-5C3E0F09A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A93B-A06B-4829-8FCD-7CC8DE93D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0EFE-7D01-4874-B939-C6C6B6E9B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BE49-F1A5-4284-B127-55315A4B9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1774-7467-45E1-AF0B-1ADE043A8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56D4-74AE-4C5F-904F-A8813E97F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9525-5CCA-40D6-A594-EABBA41EA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C391-9D81-49B4-9D43-B16F23CCA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1767-45FB-40B1-8837-F8013F01B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2D9A-DE58-48B0-945F-C9058EB1B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7642-7594-4BA7-B309-77758A5B9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DF03-4E09-41CE-A3CF-8D138AEF9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2FD9-F003-4372-8527-7C485573D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23960" y="13716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: IDENTIFY THESE CELEB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stan-lee.jpg"/>
          <p:cNvPicPr/>
          <p:nvPr/>
        </p:nvPicPr>
        <p:blipFill>
          <a:blip r:embed="rId1"/>
          <a:stretch/>
        </p:blipFill>
        <p:spPr>
          <a:xfrm>
            <a:off x="1295280" y="1295280"/>
            <a:ext cx="65073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837720" y="6858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SE PEOPLE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457200" y="497844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DOWNEY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Robert-Downey-Jr-920x584.jpg"/>
          <p:cNvPicPr/>
          <p:nvPr/>
        </p:nvPicPr>
        <p:blipFill>
          <a:blip r:embed="rId1"/>
          <a:stretch/>
        </p:blipFill>
        <p:spPr>
          <a:xfrm>
            <a:off x="1747800" y="1295280"/>
            <a:ext cx="5648400" cy="35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BIE  SMUL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Cobie-Smulders-Main-1240x820.jpg"/>
          <p:cNvPicPr/>
          <p:nvPr/>
        </p:nvPicPr>
        <p:blipFill>
          <a:blip r:embed="rId1"/>
          <a:stretch/>
        </p:blipFill>
        <p:spPr>
          <a:xfrm>
            <a:off x="2209680" y="129528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UEL  L.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Samuel-L.-Jackson-Wiki-Biography-Age-Height-Weight-Profile-Info.-Best-Hd-Wallpaper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2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WYNETH  PALT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3" descr="gwyneth_paltrow_garance_dore_1.jpg"/>
          <p:cNvPicPr/>
          <p:nvPr/>
        </p:nvPicPr>
        <p:blipFill>
          <a:blip r:embed="rId1"/>
          <a:stretch/>
        </p:blipFill>
        <p:spPr>
          <a:xfrm>
            <a:off x="1905120" y="1295280"/>
            <a:ext cx="53877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RUF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half-of-his-face-was-paralyzed-1523897394.jpg"/>
          <p:cNvPicPr/>
          <p:nvPr/>
        </p:nvPicPr>
        <p:blipFill>
          <a:blip r:embed="rId1"/>
          <a:stretch/>
        </p:blipFill>
        <p:spPr>
          <a:xfrm>
            <a:off x="1409760" y="1295280"/>
            <a:ext cx="6324480" cy="35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497196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HEMSW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3" descr="newsnow_20180307_c_269389_560x315_1179505219685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457200" y="49658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ARLETT  JOHANS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3" descr="johannsonscarlett_getty_071318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Robert-Downey-Jr-920x584.jpg"/>
          <p:cNvPicPr/>
          <p:nvPr/>
        </p:nvPicPr>
        <p:blipFill>
          <a:blip r:embed="rId1"/>
          <a:stretch/>
        </p:blipFill>
        <p:spPr>
          <a:xfrm>
            <a:off x="1600200" y="1295280"/>
            <a:ext cx="58831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808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EV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3" descr="chris-evans-arrives-at-the-los-angeles-premiere-of-captain-america-the-winter-soldier-held-at-the-el-capitan-theatre-on-march-13-2014-in-hollywood-california-photo-by-michael-tran_filmmagicjpg-square.jpg"/>
          <p:cNvPicPr/>
          <p:nvPr/>
        </p:nvPicPr>
        <p:blipFill>
          <a:blip r:embed="rId1"/>
          <a:stretch/>
        </p:blipFill>
        <p:spPr>
          <a:xfrm>
            <a:off x="2743200" y="12193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457200" y="495936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N  L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4" descr="stan-lee.jpg"/>
          <p:cNvPicPr/>
          <p:nvPr/>
        </p:nvPicPr>
        <p:blipFill>
          <a:blip r:embed="rId1"/>
          <a:stretch/>
        </p:blipFill>
        <p:spPr>
          <a:xfrm>
            <a:off x="1447920" y="1289160"/>
            <a:ext cx="6248160" cy="351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SE PEOPLE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WERE  IN  "THE  AVENGER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Cobie-Smulders-Main-1240x820.jpg"/>
          <p:cNvPicPr/>
          <p:nvPr/>
        </p:nvPicPr>
        <p:blipFill>
          <a:blip r:embed="rId1"/>
          <a:stretch/>
        </p:blipFill>
        <p:spPr>
          <a:xfrm>
            <a:off x="2209680" y="129528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Samuel-L.-Jackson-Wiki-Biography-Age-Height-Weight-Profile-Info.-Best-Hd-Wallpaper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2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gwyneth_paltrow_garance_dore_1.jpg"/>
          <p:cNvPicPr/>
          <p:nvPr/>
        </p:nvPicPr>
        <p:blipFill>
          <a:blip r:embed="rId1"/>
          <a:stretch/>
        </p:blipFill>
        <p:spPr>
          <a:xfrm>
            <a:off x="1905120" y="1295280"/>
            <a:ext cx="53877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half-of-his-face-was-paralyzed-1523897394.jpg"/>
          <p:cNvPicPr/>
          <p:nvPr/>
        </p:nvPicPr>
        <p:blipFill>
          <a:blip r:embed="rId1"/>
          <a:stretch/>
        </p:blipFill>
        <p:spPr>
          <a:xfrm>
            <a:off x="1295280" y="1295280"/>
            <a:ext cx="64994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newsnow_20180307_c_269389_560x315_1179505219685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johannsonscarlett_getty_071318.jpg"/>
          <p:cNvPicPr/>
          <p:nvPr/>
        </p:nvPicPr>
        <p:blipFill>
          <a:blip r:embed="rId1"/>
          <a:stretch/>
        </p:blipFill>
        <p:spPr>
          <a:xfrm>
            <a:off x="1371600" y="1295280"/>
            <a:ext cx="65023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chris-evans-arrives-at-the-los-angeles-premiere-of-captain-america-the-winter-soldier-held-at-the-el-capitan-theatre-on-march-13-2014-in-hollywood-california-photo-by-michael-tran_filmmagicjpg-square.jpg"/>
          <p:cNvPicPr/>
          <p:nvPr/>
        </p:nvPicPr>
        <p:blipFill>
          <a:blip r:embed="rId1"/>
          <a:stretch/>
        </p:blipFill>
        <p:spPr>
          <a:xfrm>
            <a:off x="2743200" y="12193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0T16:30:52Z</dcterms:created>
  <dc:creator>Jennifer Budzinski</dc:creator>
  <dc:description/>
  <dc:language>en-US</dc:language>
  <cp:lastModifiedBy>Erich Friedman</cp:lastModifiedBy>
  <dcterms:modified xsi:type="dcterms:W3CDTF">2020-08-29T15:40:57Z</dcterms:modified>
  <cp:revision>290</cp:revision>
  <dc:subject/>
  <dc:title>Slide 1</dc:title>
</cp:coreProperties>
</file>