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0DA-D951-4465-BDC8-164F1185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BE0-3065-4973-9641-5778BAE4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9E6E-A205-42C8-BE74-62EE253C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D45-2F96-494E-AEE5-72CA961F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4BB-1FC8-4DD9-A55F-A67FDB9C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58E-C386-46A5-A5FD-ADE85B58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F008-76A2-4800-986C-B73BBBFC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65B1-E6BF-45C9-B6A5-81F16864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CB60-77B6-4B76-B6EC-0DCAA7293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558-2B39-4684-AE61-4A6FB1B0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8A6E-9BE6-4313-A99E-2EE28DD1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FDE-4988-41C3-BB21-69A7EA27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52EC-7E1B-42BE-951F-D26AE2DB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7E5-7340-48A9-8EB3-18C21740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B4E2-D149-4274-A191-3A55ADB7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76E9-C207-4467-9550-46F4BE36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5827-BD12-4479-8D94-3A41A2F1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94B1-A335-4685-AC47-499C259A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70E-676A-4C70-A38D-5CE5A10A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B102-A1E9-4D40-BF02-1180898A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48D-0FC0-4C21-ADBC-E3EBBA47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A18-4D2E-4949-9F81-66734CFE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9C0-8CB7-4DC1-8FE5-DB2DE989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032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-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AND  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D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U.S.  STATE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4:07:09Z</dcterms:created>
  <dc:creator>Jennifer Budzinski</dc:creator>
  <dc:description/>
  <dc:language>en-US</dc:language>
  <cp:lastModifiedBy>Erich Friedman</cp:lastModifiedBy>
  <dcterms:modified xsi:type="dcterms:W3CDTF">2020-08-29T15:41:40Z</dcterms:modified>
  <cp:revision>457</cp:revision>
  <dc:subject/>
  <dc:title>Slide 1</dc:title>
</cp:coreProperties>
</file>