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FC35-1FAD-497D-85C9-8F1672F3D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460A-8584-4113-9377-17E1C15F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7254-BDCD-4E82-8F27-31361ED2C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26D5-DA58-473B-9931-7AD23E3C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D620-041F-42D8-BD16-2EE435FF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BAB7-AC71-416D-8F83-D83B7714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03AB-164B-4848-BC43-5EE90990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CEBD-8DB9-4431-A424-B8085381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0040-B657-4018-9894-D6C55E6DC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F8A-4FBC-4B45-83F0-280433305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3E9F-8A77-42E3-BA45-6DF680018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A289-BBF3-40CC-B47F-F80310CA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3029-E574-42E4-8373-F5CB286F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56B4-EEC4-49EE-AFE4-7E786CE77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E8A1-4BBA-4660-8188-A57F82CA4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E76D-8674-41E6-BA5D-B6360E1DA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6DE2-2EB3-4104-BB05-3F07EEB2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DD1F-C64D-4C1C-AD04-2DFEF8F4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EA0-9063-4E71-80DB-83A37998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DBE6-A8E1-4DBE-9E72-0F9B70246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AEA7-C030-4092-9ADB-82BACE7C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BF08-BE0C-4B29-8CA0-4E10BB8A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1A5A-5F72-4D23-9E57-E964AFE7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OF STARS IS KNOWN AS "THE PLOUGH" IN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H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TML, LINKS ARE SPECIFIED WITH THE CODE &lt;A&gt;LINK&lt;/A&gt;.  WHAT DOES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L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EDIEVAL EUROPE, WHAT BIRD WAS A METAPHOR FOR JESUS, SINCE IT WAS INCORRECTLY THOUGHT TO STAB ITSELF TO FEED ITS CHICKS ITS BL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LOWER THAT HAS THE WORD "FLOWER" IN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ARLY SIMON ALBUM, RECORDED DURING HER DIVORCE WITH JAMES TAYLOR, CONTAINED ONLY SONGS OF UNREQUITED OR LOST LO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032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ROLE DID JERRY MATHERS PLAY ON A 1957-1963 SIT-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AND  JU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S FROM THE END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 LARGEST CITY IN NEW YORK, AFTER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TML, LINKS ARE SPECIFIED WITH THE CODE &lt;A&gt;LINK&lt;/A&gt;.  WHAT DOES "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OUR NATION'S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D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OF STARS IS KNOWN AS "THE PLOUGH" IN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ON  U.S.  STATE  FL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EDIEVAL EUROPE, WHAT BIRD WAS A METAPHOR FOR JESUS, SINCE IT WAS INCORRECTLY THOUGHT TO STAB ITSELF TO FEED ITS CHICKS ITS BLOO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LOWER THAT HAS THE WORD "FLOWER" IN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ARLY SIMON ALBUM, RECORDED DURING HER DIVORCE WITH JAMES TAYLOR, CONTAINED ONLY SONGS OF UNREQUITED OR LOST L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ROLE DID JERRY MATHERS PLAY ON A 1957-1963 SIT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S FROM THE END OF THE PLEDGE OF ALLEGI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 LARGEST CITY IN NEW YORK, AFTER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OUR NATION'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4:07:09Z</dcterms:created>
  <dc:creator>Jennifer Budzinski</dc:creator>
  <dc:description/>
  <dc:language>en-US</dc:language>
  <cp:lastModifiedBy>Erich Friedman</cp:lastModifiedBy>
  <dcterms:modified xsi:type="dcterms:W3CDTF">2020-08-29T15:41:40Z</dcterms:modified>
  <cp:revision>457</cp:revision>
  <dc:subject/>
  <dc:title>Slide 1</dc:title>
</cp:coreProperties>
</file>