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8E7A-6967-4F7B-A560-E4267B5F4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3616-3762-45E7-9937-8BFD45CE9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0918-52A9-453B-8418-53F3E1598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A1E2-48FD-4A47-8355-162388376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05E7-64B3-4991-B3CB-5E6BF11DC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D416-AF56-4D90-BA02-7CE454338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258F-18DD-4A0A-91BD-1F7B90A4F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E290-BA6A-495D-B5FC-CC6746D75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FE2E-E998-45A4-A416-24F2280D7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5491-576B-4CFC-8734-6479AAB66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2FEA-46C6-4857-A9E5-69CAEDA8A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2061-42DF-49F8-8778-ABDA6D493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2C8C-AEE3-471D-9B3B-9101A7518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B01A-625E-4079-80BB-B00EF408B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FAE2-36BE-4E8C-A933-A8B09483E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567-E438-413A-B6F6-5FBB1DAD9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C088-FC7D-4BEC-BC2C-FAF3C6E40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0458-17DE-4F58-97BD-474F4476E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8B82-23D0-49F1-BBF2-67DCB97A1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18CC-956E-445F-A224-9AD82BDD5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3F04-6CB8-4ABF-8C28-FF84C3FEE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6294-2DF1-43D2-ABB3-7B47986BB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6B0D-6D5F-4B1D-89F0-039021127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OF STARS IS KNOWN AS "THE PLOUGH" IN THE U.K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CH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TML, LINKS ARE SPECIFIED WITH THE CODE &lt;A&gt;LINK&lt;/A&gt;.  WHAT DOES "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L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EDIEVAL EUROPE, WHAT BIRD WAS A METAPHOR FOR JESUS, SINCE IT WAS INCORRECTLY THOUGHT TO STAB ITSELF TO FEED ITS CHICKS ITS BL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LOWER THAT HAS THE WORD "FLOWER" IN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ARLY SIMON ALBUM, RECORDED DURING HER DIVORCE WITH JAMES TAYLOR, CONTAINED ONLY SONGS OF UNREQUITED OR LOST LO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032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ROLE DID JERRY MATHERS PLAY ON A 1957-1963 SIT-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AND  JU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S FROM THE END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 LARGEST CITY IN NEW YORK, AFTER NY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TML, LINKS ARE SPECIFIED WITH THE CODE &lt;A&gt;LINK&lt;/A&gt;.  WHAT DOES "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OUR NATION'S CA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D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TELLATION OF STARS IS KNOWN AS "THE PLOUGH" IN THE U.K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ON  U.S.  STATE  FL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MEDIEVAL EUROPE, WHAT BIRD WAS A METAPHOR FOR JESUS, SINCE IT WAS INCORRECTLY THOUGHT TO STAB ITSELF TO FEED ITS CHICKS ITS BLOO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FLOWER THAT HAS THE WORD "FLOWER" IN IT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CARLY SIMON ALBUM, RECORDED DURING HER DIVORCE WITH JAMES TAYLOR, CONTAINED ONLY SONGS OF UNREQUITED OR LOST LO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ROLE DID JERRY MATHERS PLAY ON A 1957-1963 SIT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AND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S FROM THE END OF THE PLEDGE OF ALLEGI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 LARGEST CITY IN NEW YORK, AFTER NY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OUR NATION'S CA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4:07:09Z</dcterms:created>
  <dc:creator>Jennifer Budzinski</dc:creator>
  <dc:description/>
  <dc:language>en-US</dc:language>
  <cp:lastModifiedBy>Erich Friedman</cp:lastModifiedBy>
  <dcterms:modified xsi:type="dcterms:W3CDTF">2020-08-29T15:41:40Z</dcterms:modified>
  <cp:revision>457</cp:revision>
  <dc:subject/>
  <dc:title>Slide 1</dc:title>
</cp:coreProperties>
</file>