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FAF-E369-47FA-A113-CE3394E5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34A-8920-4BF5-976E-3EAE3936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C2B-5B93-4D5F-A655-7E22446F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0C06-13CF-4D11-A43C-517D9C06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42E-9F90-4C49-80CC-47E0FA94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730-04B3-4EC6-8A98-8B618E70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557-158A-4D69-93B9-EB0F884E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0C4D-ABB9-4CEE-829F-35EB9D10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7887-42F1-4AD1-984B-D68F292C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6B9D-39E1-4EF9-851E-16C3F1F7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68D-76C3-411A-B4BA-0CD45A90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55E-A3AB-406E-83D5-74B8F0E28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13A-AE62-4B8C-85FC-D5548E03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2AF-00A8-47CC-8293-4889F8E1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C14-DA8C-4286-91ED-89EC9089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2A21-8E94-4E63-BA6F-A74CFDA4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714-4B03-4149-92E0-AE493940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C25-23EC-4299-B005-CF277975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3FC-D588-47AA-994D-E6020BAA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0A3-6CE8-4DEB-BF0F-5F5CCFD1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97A5-FC19-4B3F-AE06-B4A37665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9C8-0FB2-418F-8E14-6F2D2FA4B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E49-8E3C-48B5-A64F-27A8D75AF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P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 ON A TV MINI-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619440" y="48769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91440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512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03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876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JA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ON A TV MINI-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48:50Z</dcterms:created>
  <dc:creator>Jennifer Budzinski</dc:creator>
  <dc:description/>
  <dc:language>en-US</dc:language>
  <cp:lastModifiedBy>Erich Friedman</cp:lastModifiedBy>
  <dcterms:modified xsi:type="dcterms:W3CDTF">2020-08-29T15:43:01Z</dcterms:modified>
  <cp:revision>436</cp:revision>
  <dc:subject/>
  <dc:title>Slide 1</dc:title>
</cp:coreProperties>
</file>