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1258-836F-417A-AD58-4D08150A9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5200-42A6-4334-A2CA-65F4C74A1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D172-602B-4A00-9DD0-CCE7B1C44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5E1B-4BF5-4C92-9150-2E5F05D28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E767-1357-4ABB-B8A9-9FE7B9FA1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B9A9-94D8-4265-8C31-2A360E7CC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D28D-D06E-4F01-B018-69B4EDDA8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0EF7-83EF-41F5-A08E-37E4D8D5F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DBA2-FA37-4722-945A-C22573047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B4D4-7708-4941-BA11-3F619DD39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B546-ABD5-4678-906F-0A65DF9B3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4548-4A8B-449D-98C5-AE8083361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6BC1-418C-4214-AED4-2E3133908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FDCE-919D-40FF-B495-385E14F68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C86B-D621-4D23-AAAF-C35512D8E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BA5A-A161-462A-8E36-421091046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E051-412D-4480-B6D5-AD7372E83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B55F-7E06-41AB-902F-CFF2F2825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C54C-98BC-470F-82D2-89CB773C4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8447-8280-44F7-81E5-69ACAC5B6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B485-3427-4508-B97A-CB000EE2B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3776-05FC-48EE-AFBC-7D8ECBD94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FC6C-D293-42E8-8E60-93110CE30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UE OBJECT FROM THE ROMANTIC COMEDY FILM "NOTTING HILL", HAS BECOME A TOURIST ATTRAC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IS THE TRADITIONAL GIFT FOR A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48, A RHESUS MONKEY NAMED ALBERT I BECAME THE FIRST MAMMAL EVER TO GO W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SCARLET LETTER", WHAT DOES HESTER PRYNNE NAME HER CHILD, WHOM SHE CALLS A GEM PURCHASED AT "GREAT PR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SP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REETING CALLED A "BRONX CHEER" IS ALSO KNOWN BY THE NAME OF WHAT FR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62120" y="75564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ABOUT THE DRUG TRADE IS THE ONLY OSCAR BEST PICTURE NOMINEE EVER BASED     ON A TV MINI-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619440" y="487692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5800" y="914400"/>
            <a:ext cx="5029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IGN SAY ON THE OTHER S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SSP-2__78215.1517515548.jpg"/>
          <p:cNvPicPr/>
          <p:nvPr/>
        </p:nvPicPr>
        <p:blipFill>
          <a:blip r:embed="rId1"/>
          <a:stretch/>
        </p:blipFill>
        <p:spPr>
          <a:xfrm>
            <a:off x="6248520" y="533520"/>
            <a:ext cx="2438280" cy="49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TIME ZONES OF THE U.S. ARE HAWAII, ALASKA, PACIFIC, EASTERN, CENTRAL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IS THE TRADITIONAL GIFT FOR A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04840" y="487512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09800" y="760320"/>
            <a:ext cx="712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THER BUTTON ON A SCIENTIFIC CALCULATOR THAT DOES A SIMILAR THING TO "L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UE OBJECT FROM THE ROMANTIC COMEDY FILM "NOTTING HILL", HAS BECOME A TOURIST ATTRAC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876240" y="487692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JAM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48, A RHESUS MONKEY NAMED ALBERT I BECAME THE FIRST MAMMAL EVER TO GO 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14440" y="762120"/>
            <a:ext cx="8115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SCARLET LETTER", WHAT DOES HESTER PRYNNE NAME HER CHILD, WHOM SHE CALLS A GEM PURCHASED AT "GREAT PR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REETING CALLED A "BRONX CHEER" IS ALSO KNOWN BY THE NAME OF WHAT FR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ABOUT THE DRUG TRADE IS THE ONLY OSCAR BEST PICTURE NOMINEE EVER BASED    ON A TV MINI-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IGN SAY ON THE OTHER S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SSP-2__78215.1517515548.jpg"/>
          <p:cNvPicPr/>
          <p:nvPr/>
        </p:nvPicPr>
        <p:blipFill>
          <a:blip r:embed="rId1"/>
          <a:stretch/>
        </p:blipFill>
        <p:spPr>
          <a:xfrm>
            <a:off x="6248520" y="533520"/>
            <a:ext cx="24382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TIME ZONES OF THE U.S. ARE HAWAII, ALASKA, PACIFIC, EASTERN, CENTRAL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THER BUTTON ON A SCIENTIFIC CALCULATOR THAT DOES A SIMILAR THING TO "L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20:48:50Z</dcterms:created>
  <dc:creator>Jennifer Budzinski</dc:creator>
  <dc:description/>
  <dc:language>en-US</dc:language>
  <cp:lastModifiedBy>Erich Friedman</cp:lastModifiedBy>
  <dcterms:modified xsi:type="dcterms:W3CDTF">2020-08-29T15:43:01Z</dcterms:modified>
  <cp:revision>436</cp:revision>
  <dc:subject/>
  <dc:title>Slide 1</dc:title>
</cp:coreProperties>
</file>