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F50B-9F71-4639-889D-BA3AB1C3C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3C88-2733-4F82-8CBF-269CE696D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6404-9DA0-47E8-AC42-CF83CFEE5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E150-0B71-4589-B868-3B9A9643E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FC0C-D42F-4005-B436-AD88F9DFC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F75A-D28B-4C71-A805-D6F1E7805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E8DB-BF2C-490B-8032-1CD8B1490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920E-2F06-4689-882F-F5CC8764C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CCD7B-FE0D-4CD6-9707-A5AC67E80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DF60-630A-473D-BBD3-FE9C7848A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16F3-250A-4C86-9BB4-AC574C567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71A82-27B2-4480-8007-FF056BAD7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6022-9CE3-4232-A5B0-F99BE78D2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068B-1B70-4E0F-85B7-0FFBB05ED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B7C0-47A3-4D1F-B5F3-904C41263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5BBE-B053-43C5-B536-B56B1DB65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1C28-C2D1-47D3-8354-D3D45C33C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4A50-6A5D-493A-9C1C-0C46C6FBF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29F9-FDD7-4435-A150-5B5958FB7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3373-561C-4EA3-BE5E-B88639AAD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8D0C-3025-47B2-8E21-6B2EC0584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95F8-A84D-48AB-9254-3DC4B32EC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DCCC-E2A0-4C25-97E6-C55AFCDDF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UE OBJECT FROM THE ROMANTIC COMEDY FILM "NOTTING HILL", HAS BECOME A TOURIST ATTRACTI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ERIAL IS THE TRADITIONAL GIFT FOR A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EDDING ANNIVER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48, A RHESUS MONKEY NAMED ALBERT I BECAME THE FIRST MAMMAL EVER TO GO W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SCARLET LETTER", WHAT DOES HESTER PRYNNE NAME HER CHILD, WHOM SHE CALLS A GEM PURCHASED AT "GREAT PR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SPB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REETING CALLED A "BRONX CHEER" IS ALSO KNOWN BY THE NAME OF WHAT FRU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FF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762120" y="755640"/>
            <a:ext cx="7619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FILM ABOUT THE DRUG TRADE IS THE ONLY OSCAR BEST PICTURE NOMINEE EVER BASED     ON A TV MINI-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3619440" y="4876920"/>
            <a:ext cx="1905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5800" y="914400"/>
            <a:ext cx="5029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IGN SAY ON THE OTHER S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SSP-2__78215.1517515548.jpg"/>
          <p:cNvPicPr/>
          <p:nvPr/>
        </p:nvPicPr>
        <p:blipFill>
          <a:blip r:embed="rId1"/>
          <a:stretch/>
        </p:blipFill>
        <p:spPr>
          <a:xfrm>
            <a:off x="6248520" y="533520"/>
            <a:ext cx="2438280" cy="49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6 TIME ZONES OF THE U.S. ARE HAWAII, ALASKA, PACIFIC, EASTERN, CENTRAL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ERIAL IS THE TRADITIONAL GIFT FOR A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EDDING ANNIVER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04840" y="487512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09800" y="760320"/>
            <a:ext cx="7124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THER BUTTON ON A SCIENTIFIC CALCULATOR THAT DOES A SIMILAR THING TO "L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UE OBJECT FROM THE ROMANTIC COMEDY FILM "NOTTING HILL", HAS BECOME A TOURIST ATTRAC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876240" y="487692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JAM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48, A RHESUS MONKEY NAMED ALBERT I BECAME THE FIRST MAMMAL EVER TO GO W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14440" y="762120"/>
            <a:ext cx="8115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SCARLET LETTER", WHAT DOES HESTER PRYNNE NAME HER CHILD, WHOM SHE CALLS A GEM PURCHASED AT "GREAT PR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REETING CALLED A "BRONX CHEER" IS ALSO KNOWN BY THE NAME OF WHAT FRU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FILM ABOUT THE DRUG TRADE IS THE ONLY OSCAR BEST PICTURE NOMINEE EVER BASED    ON A TV MINI-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5257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IGN SAY ON THE OTHER S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SSP-2__78215.1517515548.jpg"/>
          <p:cNvPicPr/>
          <p:nvPr/>
        </p:nvPicPr>
        <p:blipFill>
          <a:blip r:embed="rId1"/>
          <a:stretch/>
        </p:blipFill>
        <p:spPr>
          <a:xfrm>
            <a:off x="6248520" y="533520"/>
            <a:ext cx="243828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6 TIME ZONES OF THE U.S. ARE HAWAII, ALASKA, PACIFIC, EASTERN, CENTRAL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THER BUTTON ON A SCIENTIFIC CALCULATOR THAT DOES A SIMILAR THING TO "L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4T20:48:50Z</dcterms:created>
  <dc:creator>Jennifer Budzinski</dc:creator>
  <dc:description/>
  <dc:language>en-US</dc:language>
  <cp:lastModifiedBy>Erich Friedman</cp:lastModifiedBy>
  <dcterms:modified xsi:type="dcterms:W3CDTF">2020-08-29T15:43:01Z</dcterms:modified>
  <cp:revision>436</cp:revision>
  <dc:subject/>
  <dc:title>Slide 1</dc:title>
</cp:coreProperties>
</file>