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0981-B74B-471D-B230-74BE441A1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538C-00E6-4E97-9E5D-C6774EE02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1FF7-F70D-46C2-8995-7FD00FD36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51EC-ACA2-41B6-88F0-404681A63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07B8-8A53-4713-BB3C-A8A519618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5F57-8D4B-481F-8597-CD6449529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C838-6FDF-4529-BCA8-EBF66CAD9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F623-1890-4AA8-B53F-454840074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E2D0-6C94-4E1A-8F49-3B50FD073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3828-2EBA-4319-9327-BECE81563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D78D-ACD2-4CC7-BD32-C2907DE10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0326-EEAF-4ABC-9833-0109295FD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DDA8-85FB-4A3E-AEA5-7FB0CA4D3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41C1-8E69-4BAB-8FA0-3C98CCA04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AF08-E4F0-4606-A972-A5FE878AA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0689-1423-4D71-BE4E-0F29C246A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7746-0917-47B5-A35D-47D00763A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37BC-DBDE-46CD-A734-1C8573ACF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D6D7-6B96-45EA-8F21-4D1ACE8B8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FC00-9ED2-4975-BA58-AE9D40221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CBBE-5371-48B9-8CB7-FC1B6AE32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9FDA-1EC0-44BC-BBD6-FF851E7FC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6BB7-0700-440F-912D-D4AFCF59F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A" STAND FOR IN "AV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04920" y="68580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LIQUOR IS THE MAIN INGREDIENT IN A ROB R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F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ITLE IS GIVEN TO THE CHIEF ELECTRICIAN ON A MOVIE S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ACKGROUND COLOR OF THE FLAGS OF ALBANIA, MOROCCO, TURKEY, AND VIETN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-LETTER WORD IS THE TITLE OF THE WORLD'S BEST-SELLING MAGAZINE FOR RECORDING AND SOUND PRODU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HORACIC, WHICH  DRAINS LYMPH INTO THE BLOODSTREAM, IS THE LARGEST OF WHAT TYPE OF VESSEL IN THE HUMAN BO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95280" y="4876920"/>
            <a:ext cx="6553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L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WORKERS SOMETIMES STRIKE BY CALLING IN SICK WITH "BLUE FL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STARRED STEVEN SEAGAL AS HEAD OF THE BOMB SQUAD AND TOM SIZEMORE AS A DETEC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38400" y="762120"/>
            <a:ext cx="6667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LIQUOR IS THE MAIN INGREDIENT IN A ROB RO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CTRICAL  (ENGINE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95280" y="762120"/>
            <a:ext cx="6553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FIRST "E" STAND FOR IN "E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DIO  (VISU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A" STAND FOR IN "AV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19320" y="4876920"/>
            <a:ext cx="6705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TA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ITLE IS GIVEN TO THE CHIEF ELECTRICIAN ON A MOVIE S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ACKGROUND COLOR OF THE FLAGS OF ALBANIA, MOROCCO, TURKEY, AND VIETN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-LETTER WORD IS THE TITLE OF THE WORLD'S BEST-SELLING MAGAZINE FOR RECORDING AND SOUND PRODU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HORACIC, WHICH   DRAINS LYMPH INTO THE BLOODSTREAM, IS THE LARGEST OF WHAT TYPE OF VESSEL IN THE HUMAN BO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WORKERS SOMETIMES STRIKE BY CALLING IN SICK WITH "BLUE FL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STARRED STEVEN SEAGAL AS HEAD OF THE BOMB SQUAD AND TOM SIZEMORE AS A DETECTI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FIRST "E" STAND FOR IN "E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4T20:13:53Z</dcterms:created>
  <dc:creator>Jennifer Budzinski</dc:creator>
  <dc:description/>
  <dc:language>en-US</dc:language>
  <cp:lastModifiedBy>Erich Friedman</cp:lastModifiedBy>
  <dcterms:modified xsi:type="dcterms:W3CDTF">2020-08-29T16:06:31Z</dcterms:modified>
  <cp:revision>435</cp:revision>
  <dc:subject/>
  <dc:title>Slide 1</dc:title>
</cp:coreProperties>
</file>