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81CE-BC8F-4D9D-84A2-7426CF7B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18A-CB89-427D-8F55-AFA3FE19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0A5-DD9D-4223-8292-FEA077EA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D33-366C-4095-857A-7782A974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32A9-419C-44A5-9DDD-AF68BC34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F44-A6B3-4143-9219-F69335B1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421-405C-4FFA-9791-7D6321D8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616D-4F7C-47E4-A20D-B17982EBD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054F-A268-4A6E-8E5B-943999C41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FA9-46D0-4094-B12B-021908DA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9690-B087-44EF-94EA-086C0C6A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1B9-F289-4CBF-B024-6A20F823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76C9-EE60-4BAF-93F3-056B6C8B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AF1B-6016-47E6-B69A-912D62AB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98FD-58C5-46A5-A419-0A1F2634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A41-98D3-45F7-B32C-3C74DA081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7F14-C5D6-48F6-8516-4E794C21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6963-DC2F-4BC7-9A87-E656C3BD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F3B9-90D0-4F53-89A0-D7886B94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3C25-89FD-409E-90B8-5229FE0F7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0B27-A37A-427B-AE25-12FFFEC6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D3DC-18DF-4BF2-AE8E-CF26A3562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B3EA-941B-4165-8EDD-0B6873B7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STAND FOR IN "A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68580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IQUOR IS THE MAIN INGREDIENT IN A ROB R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IS GIVEN TO THE CHIEF ELECTRICIAN ON A MOVIE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ALBANIA, MOROCCO, TURKEY, AND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IS THE TITLE OF THE WORLD'S BEST-SELLING MAGAZINE FOR RECORDING AND SOUND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ORACIC, WHICH  DRAINS LYMPH INTO THE BLOODSTREAM, IS THE LARGEST OF WHAT TYPE OF VESSEL IN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WORKERS SOMETIMES STRIKE BY CALLING IN SICK WITH "BLUE FL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STEVEN SEAGAL AS HEAD OF THE BOMB SQUAD AND TOM SIZEMORE AS A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IQUOR IS THE MAIN INGREDIENT IN A ROB R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(ENGINE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E" STAND FOR IN "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IO  (VIS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STAND FOR IN "A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T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IS GIVEN TO THE CHIEF ELECTRICIAN ON A MOVIE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ALBANIA, MOROCCO, TURKEY, AND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IS THE TITLE OF THE WORLD'S BEST-SELLING MAGAZINE FOR RECORDING AND SOUND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ORACIC, WHICH   DRAINS LYMPH INTO THE BLOODSTREAM, IS THE LARGEST OF WHAT TYPE OF VESSEL IN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WORKERS SOMETIMES STRIKE BY CALLING IN SICK WITH "BLUE FL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STEVEN SEAGAL AS HEAD OF THE BOMB SQUAD AND TOM SIZEMORE AS A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E" STAND FOR IN "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20:13:53Z</dcterms:created>
  <dc:creator>Jennifer Budzinski</dc:creator>
  <dc:description/>
  <dc:language>en-US</dc:language>
  <cp:lastModifiedBy>Erich Friedman</cp:lastModifiedBy>
  <dcterms:modified xsi:type="dcterms:W3CDTF">2020-08-29T16:06:31Z</dcterms:modified>
  <cp:revision>435</cp:revision>
  <dc:subject/>
  <dc:title>Slide 1</dc:title>
</cp:coreProperties>
</file>