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0EE3-5D66-4E5A-9A1C-3D10E3144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A57B-F95E-40D5-9A45-85D433A4D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385D-07D1-4909-9623-BB431DD8F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DA79-510C-43A5-A8FE-7CBD2288A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B9EF-108E-4B64-9522-52DF4F995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6AC7A-9CA9-4D6A-ACF5-599AACC48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3631-564B-44DA-B58D-44E350AE5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02EC-AD1A-4A7E-A1C7-DA163D165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9DFC-120C-42EA-95B9-19BD53860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C53C-F949-41BD-94AF-959C2C5EB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075E-1436-4352-95EE-6F73EA58E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D5D9-2E03-449C-AA20-39D7949F0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CB8A-5DB0-4D41-8898-DF8CF93D9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F0A6-CF53-45B4-9201-58A057DDA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CD1C-13C8-42D3-A224-87CEE8CB7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3D64E-8807-4100-B3AC-A2A956F00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5B88-9194-4B9D-8420-C6BEF6528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B1F1-01B3-4F9B-B98E-F96A9DD4F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4928-2934-4051-9954-1D54315C6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87DE-FEFB-4B5F-8DE0-2642B4784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97EB-EA51-4121-827A-334708761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0E25-772E-4134-8E66-D0E191F56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B835-2396-4A77-8DD6-93203BE46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A" STAND FOR IN "AV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04920" y="68580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LIQUOR IS THE MAIN INGREDIENT IN A ROB R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F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IS GIVEN TO THE CHIEF ELECTRICIAN ON A MOVIE S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ACKGROUND COLOR OF THE FLAGS OF ALBANIA, MOROCCO, TURKEY, AND VIETN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WORD IS THE TITLE OF THE WORLD'S BEST-SELLING MAGAZINE FOR RECORDING AND SOUND PRODU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ORACIC, WHICH  DRAINS LYMPH INTO THE BLOODSTREAM, IS THE LARGEST OF WHAT TYPE OF VESSEL IN THE HUMAN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95280" y="487692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WORKERS SOMETIMES STRIKE BY CALLING IN SICK WITH "BLUE FL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STARRED STEVEN SEAGAL AS HEAD OF THE BOMB SQUAD AND TOM SIZEMORE AS A DETE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LIQUOR IS THE MAIN INGREDIENT IN A ROB RO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AL  (ENGINE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95280" y="762120"/>
            <a:ext cx="65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IRST "E" STAND FOR IN "E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DIO  (VISUA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A" STAND FOR IN "AV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T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IS GIVEN TO THE CHIEF ELECTRICIAN ON A MOVIE S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ACKGROUND COLOR OF THE FLAGS OF ALBANIA, MOROCCO, TURKEY, AND VIETN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LETTER WORD IS THE TITLE OF THE WORLD'S BEST-SELLING MAGAZINE FOR RECORDING AND SOUND PRODU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HORACIC, WHICH   DRAINS LYMPH INTO THE BLOODSTREAM, IS THE LARGEST OF WHAT TYPE OF VESSEL IN THE HUMAN B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WORKERS SOMETIMES STRIKE BY CALLING IN SICK WITH "BLUE FL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STARRED STEVEN SEAGAL AS HEAD OF THE BOMB SQUAD AND TOM SIZEMORE AS A DETEC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FIRST "E" STAND FOR IN "E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4T20:13:53Z</dcterms:created>
  <dc:creator>Jennifer Budzinski</dc:creator>
  <dc:description/>
  <dc:language>en-US</dc:language>
  <cp:lastModifiedBy>Erich Friedman</cp:lastModifiedBy>
  <dcterms:modified xsi:type="dcterms:W3CDTF">2020-08-29T16:06:31Z</dcterms:modified>
  <cp:revision>435</cp:revision>
  <dc:subject/>
  <dc:title>Slide 1</dc:title>
</cp:coreProperties>
</file>