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BDF2-4DE0-4EA9-8688-16754404B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F924-49CF-40ED-B1B7-331E6209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6E6A-D02F-4B04-BD4B-78ECBC841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EC05-4ED6-445C-AAE9-78AB2C95B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A8E1-156C-4A73-A5C6-F0E9135AD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EB1E-20A2-4649-849C-06C6CFD4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4A9A-3252-489B-8502-AB0091C96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A55D-583D-463F-90F8-97FACFD9A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0916-1C5A-4566-BA2A-4CB360F09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A10D-CAFE-4724-A50E-09423F0C5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46BC-A30D-4FDC-99BD-50952E90F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21D5-64F2-42C4-8529-494F9C71E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D355-7ADB-4022-9368-466AA00BF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8E41-3ED2-436B-82B6-BBDAA91A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C109-6D0A-4170-AAE1-77A9283A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F52D-60A8-4864-A145-AC1F856D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6B47-398D-4D31-B5C3-191355B37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557B-7BE7-4A07-880F-AB6634FE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B04B-CC8D-4BB0-BF91-1D4697756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90C0-6A20-45FF-B022-779A93BC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6590-A33D-4479-8DE7-D4382DEF8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70C6-C330-4783-BC6E-98B202389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3E753-0BC9-47C0-A09E-11AFDC2EB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1 TV SERIES   WAS ABOUT ALIENS WHO OSTENSIBLY COME IN PEACE BUT HAVE ULTERIOR MOT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BOOK WRITTEN BY ANNA TODD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5 IN A SERIES, AND IS BEING MADE INTO A FILM TO BE RELEASED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NUMBER, DIAGRAM, OR PHYSI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UXURY CAR MAKER HAS BEEN OWNED BY VOLKSWAGEN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L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C COMICS, WHAT IS THE COLLECTION OF VILLAINS MANCHESTER AND VERA BLACK, COLDCAST, HAT, AND MENAGERIE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E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EST WHAT ARE THE INDIAN, SOUTHERN, AND ARC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A ONE SQUARE MILE REGION, 36 OF WHICH MAKE A TOWNSHIP, 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OSCAR WINNERS FOR BEST ACTRESS JONES AND LAW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BOOK WRITTEN BY ANNA TODD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5 IN A SERIES, AND IS BEING MADE INTO A FILM TO BE RELEASED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FILM DOES RAINN WILSON PLAY "THE CRIMSON BOLT" AND TRY TO RESCUE HIS KIDNAPPED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1 TV SERIES   WAS ABOUT ALIENS WHO OSTENSIBLY COME IN PEACE BUT HAVE ULTERIOR MOT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0060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E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NUMBER, DIAGRAM, OR PHYSI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UXURY CAR MAKER HAS BEEN OWNED BY VOLKSWAGEN SINCE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C COMICS, WHAT IS THE COLLECTION OF VILLAINS MANCHESTER AND VERA BLACK, COLDCAST, HAT, AND MENAGERIE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EST WHAT ARE THE INDIAN, SOUTHERN, AND ARC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A ONE SQUARE MILE REGION, 36 OF WHICH MAKE A TOWNSHIP, 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OSCAR WINNERS FOR BEST ACTRESS JONES AND LAW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FILM DOES RAINN WILSON PLAY "THE CRIMSON BOLT" AND TRY TO RESCUE HIS KIDNAPPED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4:10:58Z</dcterms:created>
  <dc:creator>Jennifer Budzinski</dc:creator>
  <dc:description/>
  <dc:language>en-US</dc:language>
  <cp:lastModifiedBy>Erich Friedman</cp:lastModifiedBy>
  <dcterms:modified xsi:type="dcterms:W3CDTF">2020-08-29T16:07:50Z</dcterms:modified>
  <cp:revision>458</cp:revision>
  <dc:subject/>
  <dc:title>Slide 1</dc:title>
</cp:coreProperties>
</file>