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CA5F-79AE-4357-A12E-AB47A58BD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3745-1B4E-41CF-8970-BDB60CDF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0B52-AB51-48F8-BB69-BE88263CC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95DB-6327-428C-96C6-44BB8F7C5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5540-F51B-42F2-BB39-AA416E631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6B4E-F488-46EE-8F7F-FC5AB76D5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4CD2-3A17-4C9C-8CC2-44F69297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4E58-3983-4EDD-81D4-457BD230A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8A60-9EA2-4E2D-B039-0C5D0452D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1B99-6718-4424-9BED-21884F8BF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67EA-5DEE-4D9C-9D5E-6A43EFE31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88B6-22D7-408F-85BA-D5132B945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6B5C-8573-44CB-A675-89378A82C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D19E-638C-4E07-BCFC-408FBB64A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43D9-C730-4D4B-ADBD-53B4FBC4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FB09-6F61-4105-BB3D-685CD8EB6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44CC-8AD0-43F4-BC56-FDCB9D8E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EB71-0C48-486A-9C7B-5BF979900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5A62-20EB-4E25-9B15-B2F3BCA5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E44F-6E7E-4BB2-851B-ED3F3D31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0AF8-0794-427F-880B-3293CF22C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EF48-310E-4AE0-80E2-161078F63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C621-5F50-4B5B-AA4F-6A63A9D10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1 TV SERIES   WAS ABOUT ALIENS WHO OSTENSIBLY COME IN PEACE BUT HAVE ULTERIOR MOT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BOOK WRITTEN BY ANNA TODD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5 IN A SERIES, AND IS BEING MADE INTO A FILM TO BE RELEASED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G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NUMBER, DIAGRAM, OR PHYSI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T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LUXURY CAR MAKER HAS BEEN OWNED BY VOLKSWAGEN SINCE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L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C COMICS, WHAT IS THE COLLECTION OF VILLAINS MANCHESTER AND VERA BLACK, COLDCAST, HAT, AND MENAGERIE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E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SMALLEST WHAT ARE THE INDIAN, SOUTHERN, AND ARCT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RVEYING, A ONE SQUARE MILE REGION, 36 OF WHICH MAKE A TOWNSHIP, 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OSCAR WINNERS FOR BEST ACTRESS JONES AND LAWR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BOOK WRITTEN BY ANNA TODD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5 IN A SERIES, AND IS BEING MADE INTO A FILM TO BE RELEASED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FILM DOES RAINN WILSON PLAY "THE CRIMSON BOLT" AND TRY TO RESCUE HIS KIDNAPPED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1 TV SERIES   WAS ABOUT ALIENS WHO OSTENSIBLY COME IN PEACE BUT HAVE ULTERIOR MOT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00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E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NUMBER, DIAGRAM, OR PHYSIQ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LUXURY CAR MAKER HAS BEEN OWNED BY VOLKSWAGEN SINCE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C COMICS, WHAT IS THE COLLECTION OF VILLAINS MANCHESTER AND VERA BLACK, COLDCAST, HAT, AND MENAGERIE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SMALLEST WHAT ARE THE INDIAN, SOUTHERN, AND ARCT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RVEYING, A ONE SQUARE MILE REGION, 36 OF WHICH MAKE A TOWNSHIP,  IS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OSCAR WINNERS FOR BEST ACTRESS JONES AND LAWR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FILM DOES RAINN WILSON PLAY "THE CRIMSON BOLT" AND TRY TO RESCUE HIS KIDNAPPED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4:10:58Z</dcterms:created>
  <dc:creator>Jennifer Budzinski</dc:creator>
  <dc:description/>
  <dc:language>en-US</dc:language>
  <cp:lastModifiedBy>Erich Friedman</cp:lastModifiedBy>
  <dcterms:modified xsi:type="dcterms:W3CDTF">2020-08-29T16:07:50Z</dcterms:modified>
  <cp:revision>458</cp:revision>
  <dc:subject/>
  <dc:title>Slide 1</dc:title>
</cp:coreProperties>
</file>