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C994-3CC4-4E76-9B3D-13E5585F1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8782-C495-4D76-84C5-16790D686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DF76-0D8D-4B67-8D64-AE367254E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0BE6-2056-4BB5-8B4F-EEAFE6925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F90F-B272-439C-953B-28DD18EA5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C750-4CCA-49B4-A17E-F72214B10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CC4D-FF34-4B02-9F35-A42CEC68E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320C-F9EE-4B7D-9066-F9D6D7B07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A3AE-C3CB-4563-BD37-55CBE0959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AC05-2F34-4874-B2AB-A26393B9F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39CA-9DC0-42CF-8CD5-3F0935F0C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F2E5-736A-4E0A-A59F-C329E8EB2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5133-C5F3-4CD5-A130-60274D740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4A2C-D161-4A5B-B2C2-C7DA5A110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5C7C-23A7-496F-965E-CEE8192B9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3800-D6A0-427A-8760-3F71E3FE1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3E16-0BE5-4A53-A392-742EC6FB4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9CDF-802F-4BAD-B0B8-7141D9C5F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03B6-D546-4DD1-9DCE-580224EDF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F47F-025A-4BB7-BBF8-3791E1BDC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9E7B-EC58-4E23-A424-A3B3B0235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E1DA-9575-4AF2-94DD-78A5AFE05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01B5-0543-4D4B-A959-4CF16311B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-2011 TV SERIES   WAS ABOUT ALIENS WHO OSTENSIBLY COME IN PEACE BUT HAVE ULTERIOR MOTIV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0060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ST-SELLING BOOK WRITTEN BY ANNA TODD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5 IN A SERIES, AND IS BEING MADE INTO A FILM TO BE RELEASED IN 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G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NUMBER, DIAGRAM, OR PHYSIQ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00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T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LUXURY CAR MAKER HAS BEEN OWNED BY VOLKSWAGEN SINCE 19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L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DC COMICS, WHAT IS THE COLLECTION OF VILLAINS MANCHESTER AND VERA BLACK, COLDCAST, HAT, AND MENAGERIE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CEA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REE SMALLEST WHAT ARE THE INDIAN, SOUTHERN, AND ARCT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0060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URVEYING, A ONE SQUARE MILE REGION, 36 OF WHICH MAKE A TOWNSHIP,  IS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00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I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SHARED BY OSCAR WINNERS FOR BEST ACTRESS JONES AND LAWR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ST-SELLING BOOK WRITTEN BY ANNA TODD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5 IN A SERIES, AND IS BEING MADE INTO A FILM TO BE RELEASED IN 201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006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76280" y="762120"/>
            <a:ext cx="8191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0 FILM DOES RAINN WILSON PLAY "THE CRIMSON BOLT" AND TRY TO RESCUE HIS KIDNAPPED W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-2011 TV SERIES   WAS ABOUT ALIENS WHO OSTENSIBLY COME IN PEACE BUT HAVE ULTERIOR MOTI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47640" y="480060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EIGH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NUMBER, DIAGRAM, OR PHYSIQ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LUXURY CAR MAKER HAS BEEN OWNED BY VOLKSWAGEN SINCE 19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DC COMICS, WHAT IS THE COLLECTION OF VILLAINS MANCHESTER AND VERA BLACK, COLDCAST, HAT, AND MENAGERIE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REE SMALLEST WHAT ARE THE INDIAN, SOUTHERN, AND ARCT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URVEYING, A ONE SQUARE MILE REGION, 36 OF WHICH MAKE A TOWNSHIP,  IS CALLED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SHARED BY OSCAR WINNERS FOR BEST ACTRESS JONES AND LAWR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0 FILM DOES RAINN WILSON PLAY "THE CRIMSON BOLT" AND TRY TO RESCUE HIS KIDNAPPED W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1T14:10:58Z</dcterms:created>
  <dc:creator>Jennifer Budzinski</dc:creator>
  <dc:description/>
  <dc:language>en-US</dc:language>
  <cp:lastModifiedBy>Erich Friedman</cp:lastModifiedBy>
  <dcterms:modified xsi:type="dcterms:W3CDTF">2020-08-29T16:07:50Z</dcterms:modified>
  <cp:revision>458</cp:revision>
  <dc:subject/>
  <dc:title>Slide 1</dc:title>
</cp:coreProperties>
</file>