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C558-A363-4F60-87E7-F87521A24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48C2-628B-460E-B57B-9E590D105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CA3A-956B-4576-AEA7-0314E71E2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AFB2-CA13-44FF-A751-962691F2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E5EB-502D-474B-BF1C-9D40D90C7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3F56-C4BF-4BE9-9C63-B361C8BE8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EE78-DC1C-4A69-AFF2-0FD1FDA04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0336-45E8-4270-9762-3327BA47D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5FD6-6AD4-4013-82F2-DBDF39DC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69D4-8722-475C-B03B-05FF35850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6ABD-5858-4DA9-92AD-6DE88668C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F59E-C9FA-4D06-8FA5-C21D05BB3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B85B-275C-4A22-842E-0F998FA3F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2E42-3F31-4CA4-B469-5EC37B9B9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ACA6-9AD2-49B2-9074-C0617808B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0507-900A-47AF-B14C-569AE1D1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810-397B-4E15-8EED-B3922E788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62A8-199A-400D-AEB2-BE2CF7918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960F-7AB1-43CC-B308-5E8239E1E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62DF2-2807-4838-B78E-F4C4C15C6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FC1A-E664-48E0-9736-71C94AF80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76D1-A598-4B34-ABCE-F92A66FF0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7928-9EAD-4AB6-8884-05F01727C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57440" y="990360"/>
            <a:ext cx="5829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COME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18116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90600" y="762120"/>
            <a:ext cx="836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FIRST EUROPEAN EXPEDITIONS TO CENTRAL AMERICA, SOUTH AMERICA, AND THE CARIBB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GE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PIZA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96920" y="762120"/>
            <a:ext cx="87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CONQUISTADOR  CONQUERED THE INCA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DIC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BECAUSE I COULD NOT STOP FOR DEATH" AND "HOPE IS THE THING WITH FEATH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ANI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42880" y="762120"/>
            <a:ext cx="625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GUTE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3280" y="762120"/>
            <a:ext cx="813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MOVABLE-TYPE PRINTING P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INE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SURVIVING CHILD OF THE LAST U.S. PRESIDENT WHO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FIRST EUROPEAN EXPEDITIONS TO CENTRAL AMERICA, SOUTH AMERICA, AND THE CARIBB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FÍA  VERG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LORIA ON "MODERN FAMILY", AND WAS THE HIGHEST PAID ACTRESS ON TV IN 2012, 2013, AND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PERSON TO BECOME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71560" y="4267080"/>
            <a:ext cx="739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TH  THEIR  FIRST  AND  LAST  NAMES  HAVE  3  SYLL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172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2920" y="762120"/>
            <a:ext cx="8858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CONQUISTADOR  CONQUERED THE INCA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S "BECAUSE I COULD NOT STOP FOR DEATH" AND "HOPE IS THE THING WITH FEATH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24160" y="762120"/>
            <a:ext cx="629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MOVABLE-TYPE PRINTING P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SURVIVING CHILD OF THE LAST U.S. PRESIDENT WHO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83680" y="762120"/>
            <a:ext cx="8574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GLORIA ON "MODERN FAMILY", AND WAS THE HIGHEST PAID ACTRESS ON TV IN 2012, 2013, AND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9T16:08:33Z</dcterms:modified>
  <cp:revision>429</cp:revision>
  <dc:subject/>
  <dc:title>Slide 1</dc:title>
</cp:coreProperties>
</file>