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E284-D1E7-41A8-9965-D0B0CF18F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B68-EF8D-4D47-8256-1355798B0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349-6A6A-4D5E-8A45-A7286B7C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DFE9-097B-468E-80BF-4DE56B4B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2279-D1F1-499B-98A1-F35D97CE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F49-F2D6-4805-B9A2-DCCBB9228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0A7-90B6-47F2-BC1F-9EB292A7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93F-B0DF-4DE2-BD39-B41C4598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6A47-5984-45BD-8FF0-5B7C58FB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ABC2-0A97-4046-94CA-0FDDCC6C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222D-B645-4F2D-97E6-6F1F4D6D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4A22-355C-4D98-AACC-CDD1FF9D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EDC-72A6-4E12-A1B7-F3052098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7C22-1303-45EF-BF58-6B54B62F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255-2C05-4D2C-90B9-9DC54DE7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5B52-87A8-42FD-84B3-3CDCEA210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271D-143B-46A4-A579-18568C8B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3E35-E029-4DF9-A49D-C87F2A0B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AA17-664C-48DD-850C-8F73ABCDD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B1B-60E8-4EFD-861B-7D2EFD19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ECFE-14FE-4055-A1ED-27CC0633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2C8-834F-48A8-B9B7-A6E65259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2073-952A-4A63-9B6F-6A977AFBE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57440" y="990360"/>
            <a:ext cx="5829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COME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18116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90600" y="762120"/>
            <a:ext cx="836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FIRST EUROPEAN EXPEDITIONS TO CENTRAL AMERICA, SOUTH AMERICA, AND THE CARIBB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GE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PIZA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6920" y="762120"/>
            <a:ext cx="87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CONQUISTADOR  CONQUERED THE INCA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DIC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BECAUSE I COULD NOT STOP FOR DEATH" AND "HOPE IS THE THING WITH FEATH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ANI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42880" y="762120"/>
            <a:ext cx="625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GUTE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3280" y="762120"/>
            <a:ext cx="813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MOVABLE-TYPE PRINTING P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INE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SURVIVING CHILD OF THE LAST U.S. PRESIDENT WHO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FIRST EUROPEAN EXPEDITIONS TO CENTRAL AMERICA, SOUTH AMERICA, AND THE CARIBB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FÍA  VERG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LORIA ON "MODERN FAMILY", AND WAS THE HIGHEST PAID ACTRESS ON TV IN 2012, 2013, AND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COME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71560" y="4267080"/>
            <a:ext cx="739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TH  THEIR  FIRST  AND  LAST  NAMES  HAVE  3  SYLL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172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2920" y="762120"/>
            <a:ext cx="8858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CONQUISTADOR  CONQUERED THE INCA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BECAUSE I COULD NOT STOP FOR DEATH" AND "HOPE IS THE THING WITH FEATH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24160" y="762120"/>
            <a:ext cx="629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MOVABLE-TYPE PRINTING P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SURVIVING CHILD OF THE LAST U.S. PRESIDENT WHO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LORIA ON "MODERN FAMILY", AND WAS THE HIGHEST PAID ACTRESS ON TV IN 2012, 2013, AND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9T16:08:33Z</dcterms:modified>
  <cp:revision>429</cp:revision>
  <dc:subject/>
  <dc:title>Slide 1</dc:title>
</cp:coreProperties>
</file>