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9291-2676-4975-94D0-D65EEA88D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E272-0939-4B83-9A3D-E4DADF482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747E-64AA-4A05-8B93-E840B97FD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598A-AC2E-4760-9E22-F21D23B78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251F-83D0-4BDD-BDAF-950162A14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DC63-F289-44AA-9584-403507E8F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6B3E-9081-47CC-83E7-8E314E9D3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7F84-61AB-4AD0-A715-0371CE50D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8459-9241-4AF9-8EE8-9B6980597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BB86-3B27-4702-9C2A-F54AD587B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7213-5490-4227-8932-72C5CA82E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A6CD-30F4-4957-A610-A55ACD17E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6230-71FE-4FF3-AC0A-7D85D5C06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6582-085B-4051-A1AB-B84A89284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13E9-076C-4AF7-9C52-FE535E72B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B51A-E6BA-4551-8E05-8223288F4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9ACD-04AC-4F8B-821D-C15FB847B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367A-8DE7-4A6F-BAAD-B72FDFE1C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9FDC-8B86-41A0-A82B-0AF2C2E20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CD22-0D5F-45EA-BC13-A031A73CC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0583-34F1-40BD-B0CD-66189B147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D603-2B82-4A27-9393-9ECB944E0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83FD-873A-4B29-A635-4704CAB7F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57440" y="990360"/>
            <a:ext cx="5829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14480" y="761760"/>
            <a:ext cx="7113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PERSON TO BECOME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181160" y="487692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COLUM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90600" y="762120"/>
            <a:ext cx="8362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FIRST EUROPEAN EXPEDITIONS TO CENTRAL AMERICA, SOUTH AMERICA, AND THE CARIBB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DINAND  MAGEL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00160" y="762120"/>
            <a:ext cx="874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RTUGUESE EXPLORER ORGANIZED THE EXPEDITION TO THE EAST INDIES RESULTING IN THE FIRST CIRCUMNAVIGATION OF THE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ISCO  PIZAR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96920" y="762120"/>
            <a:ext cx="87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SH CONQUISTADOR  CONQUERED THE INCA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ILY  DICK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03280" y="762120"/>
            <a:ext cx="8137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POEMS "BECAUSE I COULD NOT STOP FOR DEATH" AND "HOPE IS THE THING WITH FEATH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ANI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442880" y="762120"/>
            <a:ext cx="625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ACHEL ON "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ES  GUTEN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03280" y="762120"/>
            <a:ext cx="8136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THE MOVABLE-TYPE PRINTING P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OLINE  KENNE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SURVIVING CHILD OF THE LAST U.S. PRESIDENT WHO WAS ASSASSIN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FIRST EUROPEAN EXPEDITIONS TO CENTRAL AMERICA, SOUTH AMERICA, AND THE CARIBB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FÍA  VERG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85840" y="762120"/>
            <a:ext cx="857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GLORIA ON "MODERN FAMILY", AND WAS THE HIGHEST PAID ACTRESS ON TV IN 2012, 2013, AND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ODORE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PERSON TO BECOME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71560" y="4267080"/>
            <a:ext cx="7399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TH  THEIR  FIRST  AND  LAST  NAMES  HAVE  3  SYLL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1720" y="76212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2920" y="762120"/>
            <a:ext cx="88581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RTUGUESE EXPLORER ORGANIZED THE EXPEDITION TO THE EAST INDIES RESULTING IN THE FIRST CIRCUMNAVIGATION OF THE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9044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SH CONQUISTADOR  CONQUERED THE INCA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POEMS "BECAUSE I COULD NOT STOP FOR DEATH" AND "HOPE IS THE THING WITH FEATH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424160" y="762120"/>
            <a:ext cx="6295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ACHEL ON "FRIE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23800" y="761760"/>
            <a:ext cx="8096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THE MOVABLE-TYPE PRINTING P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SURVIVING CHILD OF THE LAST U.S. PRESIDENT WHO WAS ASSASSIN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83680" y="762120"/>
            <a:ext cx="8574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GLORIA ON "MODERN FAMILY", AND WAS THE HIGHEST PAID ACTRESS ON TV IN 2012, 2013, AND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29T16:08:33Z</dcterms:modified>
  <cp:revision>429</cp:revision>
  <dc:subject/>
  <dc:title>Slide 1</dc:title>
</cp:coreProperties>
</file>