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0F02-FC98-4325-930E-2F70BF967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D20D-B33D-4ACE-92FF-1525E2B1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7760-5009-4216-9B64-B9E7934B0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892B-C973-4179-8467-A886D50ED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2D2-EE36-4FD9-A667-7F785B1F9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8DF6-33FE-44CA-BFCC-F3D6E82A7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163B-E317-47BD-962A-FED503C6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6F7B-424A-4450-BEAF-CDC09B02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D7EB-C43D-4690-A98A-F6E60EA14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4F1C-BB8F-4EDE-A7F1-3249F598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F914-DF78-45F3-B429-64933A618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8A75-D2D8-459B-A606-F34447CB6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7378-0B39-4869-A648-3B1E020F2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380D-BB9B-4141-9EF6-102F76CB5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A470-89C8-43C1-A7E4-15C6AB7F1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EB54-C1D1-4ED7-81EE-991ED8BE2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61EE-B9F2-4EAD-863B-11C34A563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954E-5E06-45A7-9850-B333A3E8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BA8A-DA3C-4A68-B73E-3966E73A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948B-9E6D-48C1-AF0F-BCFA28D31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757B-CFA9-4815-B6C3-CA9CF8B83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EF58-A9DD-4F05-A040-89BECA551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3A3A-7EDE-4AB3-B2D4-128C359B9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COME AFTER BICYCLE, PITCH, OR SAL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DING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IXTH SENSE", BRUCE WILLIS'S CHARACTER CATCHES ON TO THE TWIST ENDING WHEN HE SEES HIS WIFE   DROP WHAT ON THE FLO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RD 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OES "I DON'T KNOW" PLAY IN THE CLASSIC ABBOTT AND COSTELLO SKETCH "WHO'S ON FIR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RED WINE CAN BE CALLED "TAWNY" IF IT'S BEEN AGED TO A GOLDEN-BROWN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JEWISH AMERICAN TO WIN A STATE PRESIDENTIAL PRIM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RIVER'S  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59, HERTZ RAN ITS FIRST COMMERCIALS OFFERING TO "PUT YOU" W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STING AS DR. FRANKENSTEIN AND JENNIFER BEALS AS THE MON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M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OME ANIMALS, WHAT ORGAN ARE THE RUMEN, RETICULUM, OMASUM, AND ABOMASUM PART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IXTH SENSE", BRUCE WILLIS'S CHARACTER CATCHES ON TO THE TWIST ENDING WHEN HE SEES HIS WIFE   DROP WHAT ON THE FLO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ET  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ORNATE SILK OR LINEN HANDKERCHIEFS USUALLY DISPLAY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COME AFTER BICYCLE, PITCH, OR SAL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ON  THE 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OES "I DON'T KNOW" PLAY IN THE CLASSIC ABBOTT AND COSTELLO SKETCH "WHO'S ON FIR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RED WINE CAN BE CALLED "TAWNY" IF IT'S BEEN AGED TO A GOLDEN-BROWN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JEWISH AMERICAN TO WIN A STATE PRESIDENTIAL PRIM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59, HERTZ RAN ITS FIRST COMMERCIALS OFFERING TO "PUT YOU" 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STING AS DR. FRANKENSTEIN AND JENNIFER BEALS AS THE MON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OME ANIMALS, WHAT ORGAN ARE THE RUMEN, RETICULUM, OMASUM, AND ABOMASUM PART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ORNATE SILK OR LINEN HANDKERCHIEFS USUALLY DISPLAY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19:14:31Z</dcterms:created>
  <dc:creator>Jennifer Budzinski</dc:creator>
  <dc:description/>
  <dc:language>en-US</dc:language>
  <cp:lastModifiedBy>Erich Friedman</cp:lastModifiedBy>
  <dcterms:modified xsi:type="dcterms:W3CDTF">2020-08-29T16:09:08Z</dcterms:modified>
  <cp:revision>435</cp:revision>
  <dc:subject/>
  <dc:title>Slide 1</dc:title>
</cp:coreProperties>
</file>