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BA0C-5C86-4857-8C04-722E8B14C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0C19-7E3B-4A52-AB85-934861195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9C80-49B7-457F-A2D3-9FDF45E82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589E-C66D-450D-B184-F25BCF927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AA3D-98AC-4F85-AE42-EC64A2B09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8A9E-C70E-4BB7-932F-402905623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8AFD-1D94-4D95-A97B-A636F098F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B5B7-2006-4856-BA1E-B1C3E341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DA12-4B1D-40F0-B5D5-07257B16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9DA-F0BB-456F-A690-FE216EA20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463C-2ED7-47C1-95A3-4F3B6B036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464A-D6B5-45C9-B6C1-9E9D06EC0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21A0-BD15-4DD0-8CE8-A453CB4AB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2260-0247-49BC-8220-90BF99E31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B72E-4DEC-4E60-A1CD-44A9CF617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316A-ADA5-45E1-84BA-E3FD3DFD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D013-CEE9-4713-9ED3-CF53980DB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3F6C-2109-4B12-BC3B-89F319A14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49D2-399B-4842-A66C-B6466C2D5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8DE4-8A45-442F-93EF-0E3A787B0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20D8-42C9-4D7C-9318-CF22D75F1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C4A0-BDDB-453C-86BD-C72B12742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4738-A3AD-463A-A4DD-852A51ED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COME AFTER BICYCLE, PITCH, OR SAL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DING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IXTH SENSE", BRUCE WILLIS'S CHARACTER CATCHES ON TO THE TWIST ENDING WHEN HE SEES HIS WIFE   DROP WHAT ON THE FLO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RD 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OES "I DON'T KNOW" PLAY IN THE CLASSIC ABBOTT AND COSTELLO SKETCH "WHO'S ON FIR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RED WINE CAN BE CALLED "TAWNY" IF IT'S BEEN AGED TO A GOLDEN-BROWN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JEWISH AMERICAN TO WIN A STATE PRESIDENTIAL PRIM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RIVER'S  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59, HERTZ RAN ITS FIRST COMMERCIALS OFFERING TO "PUT YOU" W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STING AS DR. FRANKENSTEIN AND JENNIFER BEALS AS THE MON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M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OME ANIMALS, WHAT ORGAN ARE THE RUMEN, RETICULUM, OMASUM, AND ABOMASUM PART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IXTH SENSE", BRUCE WILLIS'S CHARACTER CATCHES ON TO THE TWIST ENDING WHEN HE SEES HIS WIFE   DROP WHAT ON THE FLO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ET  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ORNATE SILK OR LINEN HANDKERCHIEFS USUALLY DISPLAY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COME AFTER BICYCLE, PITCH, OR SAL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ON  THE 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OES "I DON'T KNOW" PLAY IN THE CLASSIC ABBOTT AND COSTELLO SKETCH "WHO'S ON FIR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RED WINE CAN BE CALLED "TAWNY" IF IT'S BEEN AGED TO A GOLDEN-BROWN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JEWISH AMERICAN TO WIN A STATE PRESIDENTIAL PRIM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59, HERTZ RAN ITS FIRST COMMERCIALS OFFERING TO "PUT YOU" 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STING AS DR. FRANKENSTEIN AND JENNIFER BEALS AS THE MON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OME ANIMALS, WHAT ORGAN ARE THE RUMEN, RETICULUM, OMASUM, AND ABOMASUM PART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ORNATE SILK OR LINEN HANDKERCHIEFS USUALLY DISPLAY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19:14:31Z</dcterms:created>
  <dc:creator>Jennifer Budzinski</dc:creator>
  <dc:description/>
  <dc:language>en-US</dc:language>
  <cp:lastModifiedBy>Erich Friedman</cp:lastModifiedBy>
  <dcterms:modified xsi:type="dcterms:W3CDTF">2020-08-29T16:09:08Z</dcterms:modified>
  <cp:revision>435</cp:revision>
  <dc:subject/>
  <dc:title>Slide 1</dc:title>
</cp:coreProperties>
</file>