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46C1-E33A-42AB-961B-9A00867C4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7E0C-2360-4F32-AEC0-4999E09B1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5DC0-91E1-4414-832E-4EDF634E1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3246-2E6A-4F31-8FDC-A329A4590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630F-8D48-4FFC-9BAA-70E44A140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3B4B-A569-4C16-980F-DD40FF20B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49F1-3C0E-4B34-AF0C-721BBA760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BC17-34E7-40B8-A9DB-FD1B8F3C2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51AD-EB6B-4F28-A463-46E2468D2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6052-F916-46EE-9617-42DFBF6AD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6AA1-74D6-47CB-9352-EC79B94EF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5302-C291-4687-88E2-706981753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2E56-594A-480D-BA1E-AD33152FA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06B2-CD99-43EA-8CD6-A5F94D533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122B-666B-4CEF-B72B-3B2317053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4E6E-E654-49F7-8F2F-0F2E00839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44B7-ACD7-47FF-9310-569F4834A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0C0E-533C-4C2F-A608-B1C65857F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FE99-0838-42F8-A399-81E74D8C1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D1C9-1FCC-447F-A66F-3263831E4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498D-EBBE-4F69-ACFF-D8909DA18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F663-B291-4E95-9F18-CECE31761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96DC-6285-4A74-8FE9-CD88265F2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COME AFTER BICYCLE, PITCH, OR SAL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DDING  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SIXTH SENSE", BRUCE WILLIS'S CHARACTER CATCHES ON TO THE TWIST ENDING WHEN HE SEES HIS WIFE   DROP WHAT ON THE FLO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RD 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OES "I DON'T KNOW" PLAY IN THE CLASSIC ABBOTT AND COSTELLO SKETCH "WHO'S ON FIR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RED WINE CAN BE CALLED "TAWNY" IF IT'S BEEN AGED TO A GOLDEN-BROWN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NIE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JEWISH AMERICAN TO WIN A STATE PRESIDENTIAL PRIM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RIVER'S  S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59, HERTZ RAN ITS FIRST COMMERCIALS OFFERING TO "PUT YOU" W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STING AS DR. FRANKENSTEIN AND JENNIFER BEALS AS THE MON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M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OME ANIMALS, WHAT ORGAN ARE THE RUMEN, RETICULUM, OMASUM, AND ABOMASUM PART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SIXTH SENSE", BRUCE WILLIS'S CHARACTER CATCHES ON TO THE TWIST ENDING WHEN HE SEES HIS WIFE   DROP WHAT ON THE FLO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ET  P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ORNATE SILK OR LINEN HANDKERCHIEFS USUALLY DISPLAY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COME AFTER BICYCLE, PITCH, OR SAL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ON  THE 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DOES "I DON'T KNOW" PLAY IN THE CLASSIC ABBOTT AND COSTELLO SKETCH "WHO'S ON FIR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RED WINE CAN BE CALLED "TAWNY" IF IT'S BEEN AGED TO A GOLDEN-BROWN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JEWISH AMERICAN TO WIN A STATE PRESIDENTIAL PRIM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59, HERTZ RAN ITS FIRST COMMERCIALS OFFERING TO "PUT YOU" 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S STING AS DR. FRANKENSTEIN AND JENNIFER BEALS AS THE MON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OME ANIMALS, WHAT ORGAN ARE THE RUMEN, RETICULUM, OMASUM, AND ABOMASUM PART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ARE ORNATE SILK OR LINEN HANDKERCHIEFS USUALLY DISPLAY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19:14:31Z</dcterms:created>
  <dc:creator>Jennifer Budzinski</dc:creator>
  <dc:description/>
  <dc:language>en-US</dc:language>
  <cp:lastModifiedBy>Erich Friedman</cp:lastModifiedBy>
  <dcterms:modified xsi:type="dcterms:W3CDTF">2020-08-29T16:09:08Z</dcterms:modified>
  <cp:revision>435</cp:revision>
  <dc:subject/>
  <dc:title>Slide 1</dc:title>
</cp:coreProperties>
</file>