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68BF-5A3B-4085-8204-F8A63278E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8AE8-0C34-4CB4-80C0-5E94BD5CE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33EA-1C1E-4E81-9890-718342209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99D6-606F-4F9D-AA2A-78E8690B5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DEBC-FB61-4069-B15E-7DEA02DA4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BB18-C1D8-4C87-8033-13874B429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0F3D-FFF7-4BF3-86ED-73A69CC2F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F921-FF76-4A91-9356-E8461FCE4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909A-0C8E-4D63-84B0-2F1B33657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62A8-3FE7-46C0-81A7-63CD692D7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15CE-7314-4A05-AD9B-B3560D49F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ED37-B095-4854-AB15-90C7F414E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FC55-EA3F-4D08-8262-BF2F4BBF1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6B00-8D3D-4073-B439-9B07C9A83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FB2E-7993-4395-9F1A-49CB92693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501D-CF40-4BD5-A7F5-81B5D0A5D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8B1C-6E5D-43E2-ABA4-7C48DD7EF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0170-D245-458B-BF65-43355C88C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17C8-3542-41D1-B675-71D8188C4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8CA7-164A-48E1-81BE-E82D707FD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0AC35-6CBC-4282-9206-826EA7428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1479-5528-4C9E-B998-C8BC83F0E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C9F9-D5F7-4198-A830-272379826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57440" y="1066680"/>
            <a:ext cx="5829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LENT FILM STAR BECAME FAMOUS FOR HIS CHARACTER "THE TRAM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E-WEE  H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ALTER EGO OF PAUL REUB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  FARRAK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THREATENED TO SUE THE NATIONAL PARK SERVICE FOR PUBLICLY ESTIMATING THE CROWD AT HIS "MILLION MAN MARCH" AT JUST 400,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AT  IN  THE  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CHARACTER CARRIES A BIG RED BOX THAT HOLDS HIS SIDEKICKS, THING ONE AND THING TW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VILLE  REDENBA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KESMAN IS IMMORTALIZED WITH A BRONZE STATUE IN VALPARAISO, INDIANA, THOUGH WITHOUT ANY POPCO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STON  CHURC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63, WHAT 88-YEAR-OLD BRITON BECAME THE FIRST PERSON EVER AWARDED HONORARY U.S. CITIZENSH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  AST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CER STARRED IN 31 MUSICAL FILMS, 10 OF THEM WITH GINGER ROG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ENE  DIETR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ACTRESS HAD AFFAIRS WITH HER COSTARS GARY COOPER, JOHN WAYNE, JIMMY STEWART, AND DOUGLAS FAIRBANKS JR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ALTER EGO OF PAUL REUBE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CULE  POIR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LGIAN DETECTIVE IS AGATHA CHRISTIE'S MOST FAMOUS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CHAP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LENT FILM STAR BECAME FAMOUS FOR HIS CHARACTER "THE TRAM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MOUS  FOR  WEARING  BOW  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THREATENED TO SUE THE NATIONAL PARK SERVICE FOR PUBLICLY ESTIMATING THE CROWD AT HIS "MILLION MAN MARCH" AT JUST 400,0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CHARACTER CARRIES A BIG RED BOX THAT HOLDS HIS SIDEKICKS, THING ONE AND THING TW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KESMAN IS IMMORTALIZED WITH A BRONZE STATUE IN VALPARAISO, INDIANA, THOUGH WITHOUT ANY POPCO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63, WHAT 88-YEAR-OLD BRITON BECAME THE FIRST PERSON EVER AWARDED HONORARY U.S. CITIZENSHI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CER STARRED IN 31 MUSICAL FILMS, 10 OF THEM WITH GINGER ROG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RMAN ACTRESS HAD AFFAIRS WITH HER COSTARS GARY COOPER, JOHN WAYNE, JIMMY STEWART, AND DOUGLAS FAIRBANKS JR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LGIAN DETECTIVE IS AGATHA CHRISTIE'S MOST FAMOUS CHARAC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0T14:48:32Z</dcterms:created>
  <dc:creator>Jennifer Budzinski</dc:creator>
  <dc:description/>
  <dc:language>en-US</dc:language>
  <cp:lastModifiedBy>Erich Friedman</cp:lastModifiedBy>
  <dcterms:modified xsi:type="dcterms:W3CDTF">2020-08-29T16:09:47Z</dcterms:modified>
  <cp:revision>453</cp:revision>
  <dc:subject/>
  <dc:title>Slide 1</dc:title>
</cp:coreProperties>
</file>