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E29C-4467-47D5-8D31-273266550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C7A0-1F15-40B9-9E71-D7542B592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B5F6-D9FC-472E-83E1-7984251A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BB81-8F1A-47F0-B200-5C56BAC7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BB9B-F3B2-4B1A-90B2-7BD63CA6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FED6-0B78-4080-8CC6-69E52478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1AFE-3D4C-469B-A752-5CC30DDAC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1E0-AC12-4A12-B56F-7F9F22B20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67CE-703D-4714-9AA1-313863D53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BCA-A5C9-46C3-9681-8849B0BD2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E49B-B72D-4178-93BD-C9543637B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AA61-AB7E-462B-9A3B-2685219A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411F-F2AF-4158-8AAD-51532D01F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FEA6-DDB6-4B57-8591-7D128A0E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D30F-FACF-4B2B-9D02-8005A9EE8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FFF-EE17-415E-A56C-A0FB88E41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8B6F-E368-4F90-A218-7951A188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19A3-C5B1-42E0-94D3-0A008EC01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899-F349-4B0C-B25B-21BAF260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81A-901D-4AE0-ACC9-7E00E3936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3C5E-F5C5-4E2C-9D70-318A1FE3B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BA12-1871-48F4-95F7-3F7E910F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A521-D0A7-4A77-A328-21EFAC30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57440" y="106668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BECAME FAMOUS FOR HIS CHARACTER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-WEE  H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LTER EGO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FARRAK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HREATENED TO SUE THE NATIONAL PARK SERVICE FOR PUBLICLY ESTIMATING THE CROWD AT HIS "MILLION MAN MARCH" AT JUST 4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CARRIES A BIG RED BOX THAT HOLDS HIS SIDEKICKS, THING ONE AND THING TW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VILLE  REDENB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KESMAN IS IMMORTALIZED WITH A BRONZE STATUE IN VALPARAISO, INDIANA, THOUGH WITHOUT ANY POP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3, WHAT 88-YEAR-OLD BRITON BECAME THE FIRST PERSON EVER AWARDED HONORARY U.S. CITIZE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AS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R STARRED IN 31 MUSICAL FILMS, 10 OF THEM WITH GINGER RO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NE  DIET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CTRESS HAD AFFAIRS WITH HER COSTARS GARY COOPER, JOHN WAYNE, JIMMY STEWART, AND DOUGLAS FAIRBANKS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LTER EGO OF PAUL REUB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  POI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DETECTIVE IS AGATHA CHRISTIE'S MOST FAMOUS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BECAME FAMOUS FOR HIS CHARACTER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FOR  WEARING  BOW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HREATENED TO SUE THE NATIONAL PARK SERVICE FOR PUBLICLY ESTIMATING THE CROWD AT HIS "MILLION MAN MARCH" AT JUST 4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CARRIES A BIG RED BOX THAT HOLDS HIS SIDEKICKS, THING ONE AND THING TW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KESMAN IS IMMORTALIZED WITH A BRONZE STATUE IN VALPARAISO, INDIANA, THOUGH WITHOUT ANY POPC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3, WHAT 88-YEAR-OLD BRITON BECAME THE FIRST PERSON EVER AWARDED HONORARY U.S. CITIZE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R STARRED IN 31 MUSICAL FILMS, 10 OF THEM WITH GINGER ROG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CTRESS HAD AFFAIRS WITH HER COSTARS GARY COOPER, JOHN WAYNE, JIMMY STEWART, AND DOUGLAS FAIRBANKS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DETECTIVE IS AGATHA CHRISTIE'S MOST FAMOUS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4:48:32Z</dcterms:created>
  <dc:creator>Jennifer Budzinski</dc:creator>
  <dc:description/>
  <dc:language>en-US</dc:language>
  <cp:lastModifiedBy>Erich Friedman</cp:lastModifiedBy>
  <dcterms:modified xsi:type="dcterms:W3CDTF">2020-08-29T16:09:47Z</dcterms:modified>
  <cp:revision>453</cp:revision>
  <dc:subject/>
  <dc:title>Slide 1</dc:title>
</cp:coreProperties>
</file>