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E61A-952A-4202-9DB8-F7B649F98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DE2F-226A-4315-B22D-4DA7DA02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DAEC-457D-4A7F-BC9C-33385DDFA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EE3E-998A-4785-8863-260CDD2D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AD2F-E414-401B-A1D1-935123B8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2C32-365E-4F5C-8BF6-D656412E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0C3B-D4F9-4B40-A5C6-5C19808F4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2B1-8024-4BC4-B1B8-983E06E76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1D34-4B16-46B7-A675-B5AE0A3A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231D-4554-4897-8035-DB6C2D818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DA02-D5DC-48FF-8D57-8AE0564C0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169B-280D-40AA-8579-249E45094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C503-8413-4FEA-98FF-DCE9E0418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1BAF-06E3-4B45-868F-07B6F553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039A-60F5-485E-A589-5A052EFC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024D-3990-4242-849D-F8557007E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19A-4FBF-4325-A6B5-2F9F3CE4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513F-F804-4629-B1F2-8862C2BD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418-1AED-4527-920D-FA2F1ECF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505A-6FF7-4598-86C6-E085A227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0D83-A7D4-47E3-908A-29AD5546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90D2-4F0D-4BDD-B96E-207AE301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162-D009-43BE-B965-B3C0C537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57440" y="106668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BECAME FAMOUS FOR HIS CHARACTER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-WEE  H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LTER EGO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FARRAK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HREATENED TO SUE THE NATIONAL PARK SERVICE FOR PUBLICLY ESTIMATING THE CROWD AT HIS "MILLION MAN MARCH" AT JUST 4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CARRIES A BIG RED BOX THAT HOLDS HIS SIDEKICKS, THING ONE AND THING TW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VILLE  REDENB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KESMAN IS IMMORTALIZED WITH A BRONZE STATUE IN VALPARAISO, INDIANA, THOUGH WITHOUT ANY POP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3, WHAT 88-YEAR-OLD BRITON BECAME THE FIRST PERSON EVER AWARDED HONORARY U.S. CITIZE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AS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R STARRED IN 31 MUSICAL FILMS, 10 OF THEM WITH GINGER RO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NE  DIET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CTRESS HAD AFFAIRS WITH HER COSTARS GARY COOPER, JOHN WAYNE, JIMMY STEWART, AND DOUGLAS FAIRBANKS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LTER EGO OF PAUL REUB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  POI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DETECTIVE IS AGATHA CHRISTIE'S MOST FAMOUS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BECAME FAMOUS FOR HIS CHARACTER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FOR  WEARING  BOW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HREATENED TO SUE THE NATIONAL PARK SERVICE FOR PUBLICLY ESTIMATING THE CROWD AT HIS "MILLION MAN MARCH" AT JUST 4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CARRIES A BIG RED BOX THAT HOLDS HIS SIDEKICKS, THING ONE AND THING TW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KESMAN IS IMMORTALIZED WITH A BRONZE STATUE IN VALPARAISO, INDIANA, THOUGH WITHOUT ANY POPC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3, WHAT 88-YEAR-OLD BRITON BECAME THE FIRST PERSON EVER AWARDED HONORARY U.S. CITIZE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R STARRED IN 31 MUSICAL FILMS, 10 OF THEM WITH GINGER ROG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CTRESS HAD AFFAIRS WITH HER COSTARS GARY COOPER, JOHN WAYNE, JIMMY STEWART, AND DOUGLAS FAIRBANKS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DETECTIVE IS AGATHA CHRISTIE'S MOST FAMOUS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4:48:32Z</dcterms:created>
  <dc:creator>Jennifer Budzinski</dc:creator>
  <dc:description/>
  <dc:language>en-US</dc:language>
  <cp:lastModifiedBy>Erich Friedman</cp:lastModifiedBy>
  <dcterms:modified xsi:type="dcterms:W3CDTF">2020-08-29T16:09:47Z</dcterms:modified>
  <cp:revision>453</cp:revision>
  <dc:subject/>
  <dc:title>Slide 1</dc:title>
</cp:coreProperties>
</file>