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2449-D021-456C-8E43-ADE2AED33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D954-0D2C-4C1B-8F7B-AF9A75D8E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8CC9-0484-4DAF-81A5-86FA5F864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4EF2-1C4C-4191-8779-BB9500B96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E218-602C-40BA-8735-4C48CE60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E4D6-34B4-4E76-80AF-1D51C83B2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2E9C-A030-4F79-9A1D-B0C17470C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1949-488A-4404-8E6E-2AED91204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1862-18FC-4BC1-A2B6-E65C0D5C9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8230-9840-49E4-AB61-8D753D623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17C7-AD7A-4A0F-9FF9-E1A0C4477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5E51-C616-4F77-9625-32DDFA5B5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260D-7D47-4C8A-A45E-E5903A83A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43747-22EA-41B9-80BB-ADD577AD1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86D8-D458-48F4-BF5A-54ABE5633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F77A-D07B-4E55-B324-7BD9D0F44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2393-20EC-4C2F-8BB3-27C73BFB6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327F7-169A-4308-8B75-6C0CAE0E1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313D-26B9-4AC4-990B-F7758528B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6796-F896-4B99-9A39-89BAE298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511-8FD2-4184-97D3-04BB8FAFB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2569-91E8-4CA5-84C4-39CBBEDA7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7B11-DD16-47BE-8876-80FCA8899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     5-LETTER WORD STARTING WITH THE LETTER "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10 IS SOMETIMES CALLED     A SAWBUCK, AND $100 IS SOMETIMES REFERRED TO AS A BENJAMIN.  WHAT IS $1000 SOMETIM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B DYLAN'S BACKUP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491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INXS'S BEST-SELLING ALBUM, CONTAINING 4 TOP 10 SONGS, INCLUDING THEIR BIGGEST HIT "NEED YOU TO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DOES MARY POPPINS USE TO F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HARRISON FORD FILM WAS MOSTLY FILMED WITH MENNONITE EXTRAS, SINCE LOCAL AMISH REFUSED TO APPEAR ON-SC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EYONCÉ'S SURPRISE 2016 ALBUM IN WHICH SHE TELLS, SOME UNNAMED RAPPER, "I HATE YOU FOR YOUR L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$10 IS SOMETIMES CALLED      A SAWBUCK, AND $100 IS SOMETIMES REFERRED TO AS A BENJAMIN.  WHAT IS $1000 SOMETIM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ESSIER MARATHON IS AN ASTRONOMY CHALLENGE TO SEE THE 110 MOST NOTABLE OBJECTS IN THE SKY IN WHAT AMOUNT OF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     5-LETTER WORD STARTING WITH THE LETTER "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31720" y="480060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STA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OB DYLAN'S BACKUP GR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IS USED TO MEASURE THE HEIGHTS OF HORSES IN ENGLISH SPEAKI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INXS'S BEST-SELLING ALBUM, CONTAINING 4 TOP 10 SONGS, INCLUDING THEIR BIGGEST HIT "NEED YOU TO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DOES MARY POPPINS USE TO F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HARRISON FORD FILM WAS MOSTLY FILMED WITH MENNONITE EXTRAS, SINCE LOCAL AMISH REFUSED TO APPEAR ON-SC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BEYONCÉ'S SURPRISE 2016 ALBUM IN WHICH SHE TELLS, SOME UNNAMED RAPPER, "I HATE YOU FOR YOUR L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MESSIER MARATHON IS AN ASTRONOMY CHALLENGE TO SEE THE 110 MOST NOTABLE OBJECTS IN THE SKY IN WHAT AMOUNT OF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8:19:17Z</dcterms:created>
  <dc:creator>Jennifer Budzinski</dc:creator>
  <dc:description/>
  <dc:language>en-US</dc:language>
  <cp:lastModifiedBy>Erich Friedman</cp:lastModifiedBy>
  <dcterms:modified xsi:type="dcterms:W3CDTF">2020-08-29T16:11:00Z</dcterms:modified>
  <cp:revision>453</cp:revision>
  <dc:subject/>
  <dc:title>Slide 1</dc:title>
</cp:coreProperties>
</file>