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E84B-4900-4A6E-811F-5241BB97D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A028-B1A9-42DB-94C1-C90BCCD9A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F59A-EA5A-4C1F-B817-9EEB490B3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E4ED-072B-4830-AA34-ED869C697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1FD0-E9FE-4B9F-9300-02AF0546E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498D-64F8-4B3B-AAEE-D43958276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06E9-C8D7-4E19-85B1-A2ADADF20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CF13-2E33-410F-890A-5239FC1BD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F0AC-07BE-4538-9CF3-62AB57993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AADA-1632-4AD9-AC17-619451E7C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8613-24C5-45F4-A133-8D71EE281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D47A-9454-4F8A-915B-DDD033933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4FC6-32FC-46E3-8E4C-FB2AD5B73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1BE4-5694-4EF0-AA49-AF56FEE22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C766-F42D-44D5-A431-C4F966543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EB73-F6E0-4AFD-B686-8694C721A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359D-10A2-4630-96DF-6B91D72B7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D465-C743-46D9-83FF-9D9315F14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8C0D-B62C-4197-8B65-6EA2ABE57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4827-5327-4C4E-B6B8-A69048720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AC65-50F4-4622-ACFC-4D09AF3D2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5E42-1E27-46EA-8885-B2A7C1993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8A1E-8F89-4822-9486-9DBF80CCC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     5-LETTER WORD STARTING WITH THE LETTER "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0060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GR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$10 IS SOMETIMES CALLED     A SAWBUCK, AND $100 IS SOMETIMES REFERRED TO AS A BENJAMIN.  WHAT IS $1000 SOMETIME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0060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BOB DYLAN'S BACKUP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006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IS USED TO MEASURE THE HEIGHTS OF HORSES IN ENGLISH SPEAKING COUNT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4916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INXS'S BEST-SELLING ALBUM, CONTAINING 4 TOP 10 SONGS, INCLUDING THEIR BIGGEST HIT "NEED YOU TO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MBR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BJECT DOES MARY POPPINS USE TO F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0060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T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HARRISON FORD FILM WAS MOSTLY FILMED WITH MENNONITE EXTRAS, SINCE LOCAL AMISH REFUSED TO APPEAR ON-SCR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00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MON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BEYONCÉ'S SURPRISE 2016 ALBUM IN WHICH SHE TELLS, SOME UNNAMED RAPPER, "I HATE YOU FOR YOUR L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$10 IS SOMETIMES CALLED      A SAWBUCK, AND $100 IS SOMETIMES REFERRED TO AS A BENJAMIN.  WHAT IS $1000 SOMETIME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006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MESSIER MARATHON IS AN ASTRONOMY CHALLENGE TO SEE THE 110 MOST NOTABLE OBJECTS IN THE SKY IN WHAT AMOUNT OF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     5-LETTER WORD STARTING WITH THE LETTER "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1720" y="480060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STAN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BOB DYLAN'S BACKUP GRO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IS USED TO MEASURE THE HEIGHTS OF HORSES IN ENGLISH SPEAKING COUNT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INXS'S BEST-SELLING ALBUM, CONTAINING 4 TOP 10 SONGS, INCLUDING THEIR BIGGEST HIT "NEED YOU TO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BJECT DOES MARY POPPINS USE TO F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HARRISON FORD FILM WAS MOSTLY FILMED WITH MENNONITE EXTRAS, SINCE LOCAL AMISH REFUSED TO APPEAR ON-SCRE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BEYONCÉ'S SURPRISE 2016 ALBUM IN WHICH SHE TELLS, SOME UNNAMED RAPPER, "I HATE YOU FOR YOUR L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MESSIER MARATHON IS AN ASTRONOMY CHALLENGE TO SEE THE 110 MOST NOTABLE OBJECTS IN THE SKY IN WHAT AMOUNT OF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8:19:17Z</dcterms:created>
  <dc:creator>Jennifer Budzinski</dc:creator>
  <dc:description/>
  <dc:language>en-US</dc:language>
  <cp:lastModifiedBy>Erich Friedman</cp:lastModifiedBy>
  <dcterms:modified xsi:type="dcterms:W3CDTF">2020-08-29T16:11:00Z</dcterms:modified>
  <cp:revision>453</cp:revision>
  <dc:subject/>
  <dc:title>Slide 1</dc:title>
</cp:coreProperties>
</file>