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A622-401C-4A28-83E0-65E4D2EF0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B30C-3E11-44CE-A4FF-EC765A80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47F8-FF82-4CA3-B474-EAEBA097F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28DC-F2D6-4DC2-B0E4-53F3DB72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D7B-7DEF-47A3-BF8F-8FDC2FCE9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3199-9A61-41F2-98C6-23337D26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311-6434-44BA-A3F9-C0F43AF7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3461-669C-47D7-8F88-1717558CC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FFDF-F986-4286-A9D2-0B7B814C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9A54-AF9D-4BB9-8BCA-95EE9DE1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EBA0-3D6A-4E5D-AA59-F73D249AA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505C-90C8-4642-BA4D-3EDCBFCA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4CC-3CB1-44BE-9FFA-62D5FD17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8D72-9F6F-46AC-A0A0-FE02A933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E411-DDA9-4292-A0DD-A9DE0E94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EDAA-687B-44C8-8FCA-F751754D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A6C4-BE29-47F1-8231-11E6A9B8C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3D5-0881-43B3-B18C-BA71E588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425-30B5-411D-8B8A-FF78F954B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76D9-A0A1-41F7-9EDC-F3A015DD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EBF1-E898-4F59-B523-A761F384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630F-6A0C-4F19-A439-820AF92B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F4CB-B953-4A5A-9C35-31E90FE39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     5-LETTER WORD STARTING WITH THE LETTER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10 IS SOMETIMES CALLED     A SAWBUCK, AND $100 IS SOMETIMES REFERRED TO AS A BENJAMIN.  WHAT IS $1000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B DYLAN'S BACKUP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491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INXS'S BEST-SELLING ALBUM, CONTAINING 4 TOP 10 SONGS, INCLUDING THEIR BIGGEST HIT "NEED YOU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DOES MARY POPPINS USE TO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HARRISON FORD FILM WAS MOSTLY FILMED WITH MENNONITE EXTRAS, SINCE LOCAL AMISH REFUSED TO APPEAR ON-SC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EYONCÉ'S SURPRISE 2016 ALBUM IN WHICH SHE TELLS, SOME UNNAMED RAPPER, "I HATE YOU FOR YOUR 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10 IS SOMETIMES CALLED      A SAWBUCK, AND $100 IS SOMETIMES REFERRED TO AS A BENJAMIN.  WHAT IS $1000 SOMETIM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ESSIER MARATHON IS AN ASTRONOMY CHALLENGE TO SEE THE 110 MOST NOTABLE OBJECTS IN THE SKY IN WHAT AMOUNT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     5-LETTER WORD STARTING WITH THE LETTER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1720" y="4800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T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B DYLAN'S BACKUP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INXS'S BEST-SELLING ALBUM, CONTAINING 4 TOP 10 SONGS, INCLUDING THEIR BIGGEST HIT "NEED YOU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DOES MARY POPPINS USE TO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HARRISON FORD FILM WAS MOSTLY FILMED WITH MENNONITE EXTRAS, SINCE LOCAL AMISH REFUSED TO APPEAR ON-SC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EYONCÉ'S SURPRISE 2016 ALBUM IN WHICH SHE TELLS, SOME UNNAMED RAPPER, "I HATE YOU FOR YOUR L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ESSIER MARATHON IS AN ASTRONOMY CHALLENGE TO SEE THE 110 MOST NOTABLE OBJECTS IN THE SKY IN WHAT AMOUNT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8:19:17Z</dcterms:created>
  <dc:creator>Jennifer Budzinski</dc:creator>
  <dc:description/>
  <dc:language>en-US</dc:language>
  <cp:lastModifiedBy>Erich Friedman</cp:lastModifiedBy>
  <dcterms:modified xsi:type="dcterms:W3CDTF">2020-08-29T16:11:00Z</dcterms:modified>
  <cp:revision>453</cp:revision>
  <dc:subject/>
  <dc:title>Slide 1</dc:title>
</cp:coreProperties>
</file>