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37BA-783D-46A7-B8ED-E048A8420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6E81-692F-469E-9AB5-9A1843984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3152-3D4C-44DD-B6A8-F8A34D31C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8062-B561-42CA-BDC0-CF5FA97C7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F8F1-CA80-4A64-9274-ACCBAC2F8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6865-778E-47B2-B4CA-173D54311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C03C-4239-4F8E-A6C8-BA4B7429C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88B4-D07C-4A39-AA39-25B5E9B1A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F988-7977-4C82-9B13-C28C0CDEB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C2CE-404D-43B9-93C7-CF903EAC6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D641-FD11-49E8-AB9C-4B15C0E60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CBC0-BA48-4A6F-A401-59A3AAA19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EEB9-2C9F-4F79-8A34-054B4FD97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6850-2684-4EB0-8BAE-2E4F545D7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C602-8E63-4CD2-B580-13CB10FA4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89A5-B8BA-47AB-88ED-81099F348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D8E7-9166-418C-827B-E85F2873F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61C3-8A55-430A-87B8-F65100F57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8ED3-5229-4F50-8DB5-E65BF3036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7FEC-5F85-40C4-ACB5-25C00DF26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A80B-F939-48B8-A544-659F9D877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AE82-0438-47A2-910F-EEE521510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4437-6B00-4D6B-BCFE-70C30DEB7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EA OF A GOLF COURSE THAT IS OUTSIDE THE FAIRWA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RIGINAL COLOR OF COCA-CO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WATER, WHAT IS THE MOST COMMONLY CONSUMED BEVERAG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ECTRONIC DANCE MUSIC IS OFTEN CALLED WHAT OTHER TYPE OF MUSIC, CONTAINING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304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790640" y="76824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TICS IS THE STUDY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ARGARET)  CO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EMALE TENNIS PLAYER WHO WON MORE MAJOR TOURNAMENTS THAN ANYONE E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T'S A) MAD (MAD, MAD, MAD WOR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4 TIMES IN THE TITLE OF A 1963 EPIC COMEDY FILM WITH AN ENSEMBLE C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NIMAL)  F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OTHER FAMOUS BOOK BY GEORGE ORWELL, BESIDES "1984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RIGINAL COLOR OF COCA-CO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IT ALE, LAGER, OR STOUT WHICH IS CREATED BY YEAST WHICH RISES DURING FERMENT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EA OF A GOLF COURSE THAT IS OUTSIDE THE FAIRWA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076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HOUS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WATER, WHAT IS THE MOST COMMONLY CONSUMED BEVERAGE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ECTRONIC DANCE MUSIC IS OFTEN CALLED WHAT OTHER TYPE OF MUSIC, CONTAINING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828800" y="762120"/>
            <a:ext cx="5486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TICS IS THE STUDY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EMALE TENNIS PLAYER WHO WON MORE MAJOR TOURNAMENTS THAN ANYONE EL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4 TIMES IN THE TITLE OF A 1963 EPIC COMEDY FILM WITH AN ENSEMBLE C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OTHER FAMOUS BOOK BY GEORGE ORWELL, BESIDES "1984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IT ALE, LAGER, OR STOUT WHICH IS CREATED BY YEAST WHICH RISES DURING FERMENT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6T16:26:14Z</dcterms:created>
  <dc:creator>Jennifer Budzinski</dc:creator>
  <dc:description/>
  <dc:language>en-US</dc:language>
  <cp:lastModifiedBy>Erich Friedman</cp:lastModifiedBy>
  <dcterms:modified xsi:type="dcterms:W3CDTF">2020-08-24T13:09:36Z</dcterms:modified>
  <cp:revision>389</cp:revision>
  <dc:subject/>
  <dc:title>Slide 1</dc:title>
</cp:coreProperties>
</file>