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6C878-41A5-4EBF-BE3F-0350D5A1EF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B9431-7C16-4C9B-9907-19F15DD22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4DD95-2AD4-4E8F-B716-F55C50368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7BDC9-DF4B-441E-92D3-9BF6C6333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484E-2AE6-4FEF-8CBF-8B646D298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76396-8DD9-4AE8-93FE-1873DBEA1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D7E7D-D6E0-4E25-89F5-691FA588C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22A32-F696-4243-ADAF-8C6E9DD41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C3EF-6A96-45B5-9707-578459402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641F1-4C10-4DAB-BE38-C85705672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62E3-2A52-4E4E-A6C3-C77B206AA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DB5DB-9346-443D-9347-078F547C5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B79A-8E8E-461C-AF00-624B084CE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DC42-EF7C-4AD4-BF4B-B6F414B9E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B3D91-5F06-4A03-BE80-816BD03A6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67B37-7299-4864-9EDD-D980E02F4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B5DA9-2E26-4F3D-9821-B8328383E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2447F-DD57-4F85-80A4-9448A2EAE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624D1-0157-4DC2-8238-E7EA742E2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CF080-473E-4A2A-84F0-1222E01AE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5369-743B-4F6B-B8F2-059D7072B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50A4F-A9A2-48DF-A09F-268659879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30239-BB14-4691-BEA1-7E9E5DF33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REA OF A GOLF COURSE THAT IS OUTSIDE THE FAIRWAY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85800" y="76212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RIGINAL COLOR OF COCA-COL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FF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19040" y="762120"/>
            <a:ext cx="8305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FTER WATER, WHAT IS THE MOST COMMONLY CONSUMED BEVERAGE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U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ECTRONIC DANCE MUSIC IS OFTEN CALLED WHAT OTHER TYPE OF MUSIC, CONTAINING 4 LETT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304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790640" y="768240"/>
            <a:ext cx="5562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PTICS IS THE STUDY OF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MARGARET)  COU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FEMALE TENNIS PLAYER WHO WON MORE MAJOR TOURNAMENTS THAN ANYONE EL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T'S A) MAD (MAD, MAD, MAD WORL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76240" y="762120"/>
            <a:ext cx="73915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APPEARS 4 TIMES IN THE TITLE OF A 1963 EPIC COMEDY FILM WITH AN ENSEMBLE CA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NIMAL)  FA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IN THE TITLE OF THE OTHER FAMOUS BOOK BY GEORGE ORWELL, BESIDES "1984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RIGINAL COLOR OF COCA-COL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0028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S IT ALE, LAGER, OR STOUT WHICH IS CREATED BY YEAST WHICH RISES DURING FERMENT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U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23960" y="762120"/>
            <a:ext cx="7696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REA OF A GOLF COURSE THAT IS OUTSIDE THE FAIRWAY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533520" y="4876920"/>
            <a:ext cx="8076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HOUS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FTER WATER, WHAT IS THE MOST COMMONLY CONSUMED BEVERAGE IN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ECTRONIC DANCE MUSIC IS OFTEN CALLED WHAT OTHER TYPE OF MUSIC, CONTAINING 4 LETT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828800" y="762120"/>
            <a:ext cx="5486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PTICS IS THE STUDY OF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FEMALE TENNIS PLAYER WHO WON MORE MAJOR TOURNAMENTS THAN ANYONE EL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APPEARS 4 TIMES IN THE TITLE OF A 1963 EPIC COMEDY FILM WITH AN ENSEMBLE CA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99960" y="761760"/>
            <a:ext cx="8344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IN THE TITLE OF THE OTHER FAMOUS BOOK BY GEORGE ORWELL, BESIDES "1984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S IT ALE, LAGER, OR STOUT WHICH IS CREATED BY YEAST WHICH RISES DURING FERMENT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6T16:26:14Z</dcterms:created>
  <dc:creator>Jennifer Budzinski</dc:creator>
  <dc:description/>
  <dc:language>en-US</dc:language>
  <cp:lastModifiedBy>Erich Friedman</cp:lastModifiedBy>
  <dcterms:modified xsi:type="dcterms:W3CDTF">2020-08-24T13:09:36Z</dcterms:modified>
  <cp:revision>389</cp:revision>
  <dc:subject/>
  <dc:title>Slide 1</dc:title>
</cp:coreProperties>
</file>