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D6B7-34C9-4D90-A5CB-A5DEB8036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D603-67BA-4C44-B05B-21B7A611C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6891-778E-4FB0-9D07-188838B2E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E1CF-BCBB-4F58-96A0-12DEE9EF3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18D7-C241-4BFF-95EB-AAD529B56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714E-463F-4CE8-90AF-2D82E7471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597C-A662-4046-A9AF-1D5397BD7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B632-3A6E-4ED6-AC86-4095C9101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82E4-EE07-45FB-AE73-0A5FF061B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2A26-91DB-4290-8730-8CB2D0C4B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9416-5569-42CD-985F-C1AFBB319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6662-5BCE-4393-96EB-CD42533BA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6F4E-FA5D-49C7-BEB7-4A9FA16CC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0F39-E87F-4AAB-9570-16541CF49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E2B1-052D-46B7-877F-4562FF1C4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949D-B09E-4734-8FBB-0004AC61B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D522-9E3B-4CFD-86E1-D5F00FBE1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AF66-3A2A-4015-B2FD-4AD838F2F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602B-C242-43F2-8500-35CCBD4F3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C516-8808-4DEE-B3E8-E235649F3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EED5-E690-4C0B-AD35-3394BFA42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88EB-9818-48B1-85C9-890A78A86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2FEE-63C2-4451-82B6-DE658CB04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REA OF A GOLF COURSE THAT IS OUTSIDE THE FAIRWAY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RIGINAL COLOR OF COCA-CO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FF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WATER, WHAT IS THE MOST COMMONLY CONSUMED BEVERAG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ECTRONIC DANCE MUSIC IS OFTEN CALLED WHAT OTHER TYPE OF MUSIC, CONTAINING 4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304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790640" y="76824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TICS IS THE STUDY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ARGARET)  CO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EMALE TENNIS PLAYER WHO WON MORE MAJOR TOURNAMENTS THAN ANYONE E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T'S A) MAD (MAD, MAD, MAD WORL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4 TIMES IN THE TITLE OF A 1963 EPIC COMEDY FILM WITH AN ENSEMBLE C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NIMAL)  F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OTHER FAMOUS BOOK BY GEORGE ORWELL, BESIDES "1984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RIGINAL COLOR OF COCA-COL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IT ALE, LAGER, OR STOUT WHICH IS CREATED BY YEAST WHICH RISES DURING FERMENT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REA OF A GOLF COURSE THAT IS OUTSIDE THE FAIRWAY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076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HOUS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WATER, WHAT IS THE MOST COMMONLY CONSUMED BEVERAGE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ECTRONIC DANCE MUSIC IS OFTEN CALLED WHAT OTHER TYPE OF MUSIC, CONTAINING 4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828800" y="762120"/>
            <a:ext cx="5486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TICS IS THE STUDY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EMALE TENNIS PLAYER WHO WON MORE MAJOR TOURNAMENTS THAN ANYONE EL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4 TIMES IN THE TITLE OF A 1963 EPIC COMEDY FILM WITH AN ENSEMBLE C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OTHER FAMOUS BOOK BY GEORGE ORWELL, BESIDES "1984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IT ALE, LAGER, OR STOUT WHICH IS CREATED BY YEAST WHICH RISES DURING FERMENT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6T16:26:14Z</dcterms:created>
  <dc:creator>Jennifer Budzinski</dc:creator>
  <dc:description/>
  <dc:language>en-US</dc:language>
  <cp:lastModifiedBy>Erich Friedman</cp:lastModifiedBy>
  <dcterms:modified xsi:type="dcterms:W3CDTF">2020-08-24T13:09:36Z</dcterms:modified>
  <cp:revision>389</cp:revision>
  <dc:subject/>
  <dc:title>Slide 1</dc:title>
</cp:coreProperties>
</file>