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131C-A61A-488D-BC34-6422E97C1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ABCD-9604-40AB-867A-9089CAE74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9C5A-E90A-4E31-8884-930773526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BCC9-7F55-4605-9516-6349347E5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AAE-D67A-4752-AD34-5B96A185B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98A7-7E1E-4AB0-9645-010352F2A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A4A9-4DE1-4288-90B1-9C2736BC3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77B5-02B4-440A-BA24-62C0FAD0A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1916-0CC6-457E-8256-DD19E9A3B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6BF2-CB4E-46DD-9BA3-E22CC4B22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79BD-0262-488F-9023-0D04E50A5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38B1-A52F-4D45-9BCA-E1220F684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FD40-1F69-49FC-A180-32B56DCF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3A3A-B2D8-45C8-BCEE-A075123B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18BB-8615-40B9-9491-AC4851248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FC76-E80A-4C7B-B6F9-0AE54595F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B707-3AA9-4A6F-8E00-0CAF3EAE6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0DA-5634-443F-A3C6-C0FE853F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93A5-7F36-4A67-BFB9-F1C3D9A02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8A6F-598C-4EDA-AFD9-404A1B3B3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0B38-E04E-4058-AC04-65593A68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7A8C-08EE-4F3C-84FF-2C028650E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B45D-7E9C-4BD7-B91F-559B0B21B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WIZARD OF OZ" WON AN OSCAR FOR BEST ORIGINA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OF U2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ICE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57480" y="77472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QUEEN OF HEARTS" AND "ANGEL OF THE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EN  ST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SUPPOSEDLY 2 WAYS TO KILL A VAMPIRE: DECAPITATION AND WHAT OTHER METH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MAS O'NEILL, SPEAKER OF THE HOUSE DURING THE REAGAN PRESIDENCY, WAS KNOWN BY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5092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IUM CARBONATE, Ca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S BETTER KNOWN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  IT  TO  THE  LI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GLES SONG CONTAINS THE LYRIC "SO PUT ME ON 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GE NAME OF THE LEAD GUITARIST OF U2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GRAPH OF y=mx+b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  THE  RAIN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FROM "THE WIZARD OF OZ" WON AN OSCAR FOR BEST ORIGINA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ETTING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QUEEN OF HEARTS" AND "ANGEL OF THE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SUPPOSEDLY 2 WAYS TO KILL A VAMPIRE: DECAPITATION AND WHAT OTHER METH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OMAS O'NEILL, SPEAKER OF THE HOUSE DURING THE REAGAN PRESIDENCY, WAS KNOWN BY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LCIUM CARBONATE, CaCO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S BETTER KNOWN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TATION IS THE PROMINENT NETWORK TARGETING AFRICAN-AMERICAN AUDIEN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AGLES SONG CONTAINS THE LYRIC "SO PUT ME ON A HIGH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GRAPH OF y=mx+b LOOK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0:47:00Z</dcterms:created>
  <dc:creator>Jennifer Budzinski</dc:creator>
  <dc:description/>
  <dc:language>en-US</dc:language>
  <cp:lastModifiedBy>Erich Friedman</cp:lastModifiedBy>
  <dcterms:modified xsi:type="dcterms:W3CDTF">2020-08-29T16:11:51Z</dcterms:modified>
  <cp:revision>378</cp:revision>
  <dc:subject/>
  <dc:title>Slide 1</dc:title>
</cp:coreProperties>
</file>