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9AD-6531-4601-8ECD-67664CBE6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E4B-BC57-492D-A743-1BCC2CF5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4253-1467-40E8-AAC7-59565293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A96A-FC32-482D-9DDB-F418A80B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E2BE-7CEB-4422-AFB1-FAEE9A2E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8E8D-7027-4104-9690-FE647E8F9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9F1B-9234-4589-BC9A-43029F0C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F5DA-5CA5-4B3F-BA5F-7FDEECA7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30B8-6FD0-4769-AD15-D9463582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94B4-D1E9-460C-A4B8-59F02D0E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0190-A177-4CB6-8AA0-076C404C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C4AD-AE03-4635-97E1-5E0F2D88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756C-8FF4-4B7A-AA4D-6999F951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DAB6-B11B-4DB0-987D-49E8C792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7DD3-43E9-4319-8BD5-EF4A5FE7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F2D7-B0ED-4908-8821-46378D94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9570-7A61-4CBA-98B8-9E829A60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073-A1D4-485F-AFCC-DA29CEE5A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0281-8E46-4640-A846-121C8D54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663-956E-4EE6-BB4A-7CCFE432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0B19-BDF9-4D56-AA20-EF815BDA7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A80-45A0-4A90-B21A-0F685690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FFC-E7EF-4E41-BF74-7AD84D15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WIZARD OF OZ" WON AN OSCAR FOR BEST ORIGINA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OF U2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IC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747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QUEEN OF HEARTS" AND "ANGEL OF THE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EN  S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UPPOSEDLY 2 WAYS TO KILL A VAMPIRE: DECAPITATION AND WHAT OTHER METH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MAS O'NEILL, SPEAKER OF THE HOUSE DURING THE REAGAN PRESIDENCY, WA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5092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CARBONATE, 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S BETTER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IT  TO  THE 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GLES SONG CONTAINS THE LYRIC "SO PUT ME ON 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OF U2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GRAPH OF y=mx+b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THE  RAIN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WIZARD OF OZ" WON AN OSCAR FOR BEST ORIGINA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ETT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QUEEN OF HEARTS" AND "ANGEL OF THE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UPPOSEDLY 2 WAYS TO KILL A VAMPIRE: DECAPITATION AND WHAT OTHER METH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MAS O'NEILL, SPEAKER OF THE HOUSE DURING THE REAGAN PRESIDENCY, WAS KNOWN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CARBONATE, 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S BETTER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GLES SONG CONTAINS THE LYRIC "SO PUT ME ON 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GRAPH OF y=mx+b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0:47:00Z</dcterms:created>
  <dc:creator>Jennifer Budzinski</dc:creator>
  <dc:description/>
  <dc:language>en-US</dc:language>
  <cp:lastModifiedBy>Erich Friedman</cp:lastModifiedBy>
  <dcterms:modified xsi:type="dcterms:W3CDTF">2020-08-29T16:11:51Z</dcterms:modified>
  <cp:revision>378</cp:revision>
  <dc:subject/>
  <dc:title>Slide 1</dc:title>
</cp:coreProperties>
</file>