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133E-3FE3-4E5D-BFFC-13678FE5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0CC4-21FB-428D-85BE-65B8741D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69F1-18E2-4DD3-A0B6-850A23A1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1A1E-1019-4B7D-A72F-7E5100100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252E-36FF-4DC9-89C0-63B6528A1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FBC5-E5B8-456D-A3E7-D2A9D5D5C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B660-C9A1-455E-8B71-EB17E07F7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E92D-64EC-4470-A519-282E03EF9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8AEB-C3CA-48B9-B379-E5DC8EC62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4D8E-6171-42F4-B5EE-C8C5B715A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48C6-8FDB-4353-A6D9-51FDA68A1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54BD-E2A2-4C3A-8539-C9CA24238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0340-7D37-492B-BBFA-007CCD0BE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E1D5-3EAF-4B06-AE48-9F57D4C74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FFE2-6866-4DB8-86AD-5DDAFF688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F719-F81A-4AA4-AC80-45C260B33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857D-9BBF-42AE-844B-5C68CE64A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B448-364C-44B6-A8D8-72FA0B5D5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BEC6-B455-420B-8BA8-5D6362780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E3D1-C7A2-440B-81D6-9F52BE71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7807-01D2-4D16-A548-F375F1110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5758-C08D-42C2-AC00-9FB86A0B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76BD-A59E-4C96-80E1-7907E9ED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"THE WIZARD OF OZ" WON AN OSCAR FOR BEST ORIGINAL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OF U2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ICE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57480" y="7747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QUEEN OF HEARTS" AND "ANGEL OF THE MO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EN  S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SUPPOSEDLY 2 WAYS TO KILL A VAMPIRE: DECAPITATION AND WHAT OTHER METH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OMAS O'NEILL, SPEAKER OF THE HOUSE DURING THE REAGAN PRESIDENCY, WAS KNOWN BY WHAT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5092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IUM CARBONATE, Ca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S BETTER KNOWN BY WHA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TATION IS THE PROMINENT NETWORK TARGETING AFRICAN-AMERICAN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  IT  TO  THE 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GLES SONG CONTAINS THE LYRIC "SO PUT ME ON 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OF U2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GRAPH OF y=mx+b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  THE  RAIN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"THE WIZARD OF OZ" WON AN OSCAR FOR BEST ORIGINA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ETTING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QUEEN OF HEARTS" AND "ANGEL OF THE MO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SUPPOSEDLY 2 WAYS TO KILL A VAMPIRE: DECAPITATION AND WHAT OTHER METH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OMAS O'NEILL, SPEAKER OF THE HOUSE DURING THE REAGAN PRESIDENCY, WAS KNOWN BY WHAT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IUM CARBONATE, Ca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S BETTER KNOWN BY WHA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TATION IS THE PROMINENT NETWORK TARGETING AFRICAN-AMERICAN AUDIEN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GLES SONG CONTAINS THE LYRIC "SO PUT ME ON A HIGH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GRAPH OF y=mx+b LOOK LI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0:47:00Z</dcterms:created>
  <dc:creator>Jennifer Budzinski</dc:creator>
  <dc:description/>
  <dc:language>en-US</dc:language>
  <cp:lastModifiedBy>Erich Friedman</cp:lastModifiedBy>
  <dcterms:modified xsi:type="dcterms:W3CDTF">2020-08-29T16:11:51Z</dcterms:modified>
  <cp:revision>378</cp:revision>
  <dc:subject/>
  <dc:title>Slide 1</dc:title>
</cp:coreProperties>
</file>