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1CA5-773F-4EB2-8C03-804A4841D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2818-F2EB-4730-88FB-E0FFCC54A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34E2-7E76-43F0-B542-44AF66E98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4218-9A5C-4854-8721-4634159D8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293C-B9E7-44D3-89B9-0392F4383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C8A3-70F0-4270-9C1F-673BBD6D1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A578-76BF-41D2-B34A-EFB0D0620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D24F-D4CB-49E0-B07D-25E6FDF25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D57A-3680-4A8D-A637-2F44CAC90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E7DE-DE87-4736-8F89-0934E761D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B68D-929F-4C26-9055-B78D99406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4921-5B08-4A18-B851-90861840E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A1CB-9C49-4639-B180-D8769F2C4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264C-CE0C-4D15-A5B3-D03856BCF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6A4A-E688-491D-8191-5B4397BD5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6108-0D89-4594-BA3E-238ED72AB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9DE3-E6F5-4531-8956-7B51E4A86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9577-DEE5-4108-8F3C-9C0F346CA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EB75-2219-4856-B84D-45CA2566D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2909-2368-4198-9D80-485336B51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51A6-5656-4FE6-9122-EBB4CFE0B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025E-0893-4DD7-A46D-D0EFBF321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2CC1-9E23-480C-B9A5-B95FF5753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OOK OF WHAT ICONIC 1981 FILM CHARACTER WAS INSPIRED BY PHOTOS OF ALBERT EINSTEIN, CARL SANDBURG, AND A PU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IS MEASURED IN WAT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86080" y="49021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INO GAME'S TABLE LOOKS LIKE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main-qimg-4e2b0f29dd3baa56951783bf4c142503.png"/>
          <p:cNvPicPr/>
          <p:nvPr/>
        </p:nvPicPr>
        <p:blipFill>
          <a:blip r:embed="rId1"/>
          <a:stretch/>
        </p:blipFill>
        <p:spPr>
          <a:xfrm>
            <a:off x="2254320" y="2552760"/>
            <a:ext cx="463536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-2010 TV SERIES ABOUT AIRLINE CRASH SURVIVORS DID IMDB USERS RANK AS THE BEST SERIES EVER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ÉJA  V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FRENCH PHRASE TRANSLATES LITERALLY AS "ALREADY S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UP  OF  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LD WAY OF IMPLYING SOMETHING WAS USELESS WAS THE PHRASE "THAT AND A DOLLAR WILL BUY YOU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VERYONE IN VIETNAM CELEBRATE AT THE SAME TIME ON TET, THEIR NEW YEAR'S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TUDIO MASCOT LEO DO TWICE AT THE BEGINNING OF MGM MOVIES MADE SINCE 196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IS MEASURED IN WAT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K  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MES POLK WAS THE FIRST U.S. PRESIDENT TO BE WHAT KIND OF CANDIDATE, A GAMBLING TERM FOR      A SURPRISE WIN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. 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OOK OF WHAT ICONIC 1981 FILM CHARACTER WAS INSPIRED BY PHOTOS OF ALBERT EINSTEIN, CARL SANDBURG, AND A P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Y  PERRY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INO GAME'S TABLE LOOKS LIKE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4" descr="main-qimg-4e2b0f29dd3baa56951783bf4c142503.png"/>
          <p:cNvPicPr/>
          <p:nvPr/>
        </p:nvPicPr>
        <p:blipFill>
          <a:blip r:embed="rId1"/>
          <a:stretch/>
        </p:blipFill>
        <p:spPr>
          <a:xfrm>
            <a:off x="2070000" y="2679840"/>
            <a:ext cx="500400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-2010 TV SERIES ABOUT AIRLINE CRASH SURVIVORS DID IMDB USERS RANK AS THE BEST SERIES EVER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FRENCH PHRASE TRANSLATES LITERALLY AS "ALREADY S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LD WAY OF IMPLYING SOMETHING WAS USELESS WAS THE PHRASE "THAT AND A DOLLAR WILL BUY YOU"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VERYONE IN VIETNAM CELEBRATE AT THE SAME TIME ON TET, THEIR NEW YEAR'S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TUDIO MASCOT LEO DO TWICE AT THE BEGINNING OF MGM MOVIES MADE SINCE 196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MES POLK WAS THE FIRST U.S. PRESIDENT TO BE WHAT KIND OF CANDIDATE, A GAMBLING TERM FOR     A SURPRISE WIN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1T17:10:49Z</dcterms:created>
  <dc:creator>Jennifer Budzinski</dc:creator>
  <dc:description/>
  <dc:language>en-US</dc:language>
  <cp:lastModifiedBy>Erich Friedman</cp:lastModifiedBy>
  <dcterms:modified xsi:type="dcterms:W3CDTF">2020-08-29T16:12:52Z</dcterms:modified>
  <cp:revision>462</cp:revision>
  <dc:subject/>
  <dc:title>Slide 1</dc:title>
</cp:coreProperties>
</file>