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2E3-4D0A-430F-BC54-C9AC4713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D74-6B58-483A-B696-FB26EBD7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AFB-AB4F-468E-A2EE-FE08CAE4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FA67-B4B6-422C-8CAC-E79BFEBB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FCC-0613-451D-8B18-B8386D41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101-B664-43BA-95A2-8E3CC996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E002-19C1-4056-A157-A2AE6FDF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CF46-89F9-4987-A1E2-E112CB6F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EF80-2E76-496A-9F6C-D75322C3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2EB-A6D1-43AD-A12D-12A1E7B9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BC15-B0BB-40E1-8C76-E264CFD0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BE03-0A13-457C-9D37-1E177A4B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9A3-A823-4B16-963A-90ED1801E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BAC1-5BE9-4CB7-B77F-48294055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E06-A99B-4EC7-9FD1-7A6F8C2D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91C7-E5BB-4433-BFB1-F64DECA1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7BFF-2AE9-4D03-AE95-6E0A67DAD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5BC8-9BDD-4831-BE77-7434CB8C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5F55-2413-4999-89E7-C6A6FB21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4F1-9C73-4159-9EDB-4973EEFA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0DA-653B-4A26-9EE1-11D6C3BF8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EB0-A24B-47F3-9C8C-E6E30312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418-266C-4123-8F4C-E3E29A0F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9021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254320" y="2552760"/>
            <a:ext cx="463536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A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UP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 A SURPRISE W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070000" y="2679840"/>
            <a:ext cx="50040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A SURPRISE WI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10:49Z</dcterms:created>
  <dc:creator>Jennifer Budzinski</dc:creator>
  <dc:description/>
  <dc:language>en-US</dc:language>
  <cp:lastModifiedBy>Erich Friedman</cp:lastModifiedBy>
  <dcterms:modified xsi:type="dcterms:W3CDTF">2020-08-29T16:12:52Z</dcterms:modified>
  <cp:revision>462</cp:revision>
  <dc:subject/>
  <dc:title>Slide 1</dc:title>
</cp:coreProperties>
</file>