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090D-CBFD-4E7F-A958-6CC55AD64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765E-B56F-4094-8B63-A5C275EB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EF47-7181-4875-9DDB-FEF1966F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10CC-94AF-4753-99D0-17E748D1E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7FDA-4406-4A6E-B48B-BBA73818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530DB-18CB-4574-B952-C32EFC5AC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2C0-CB40-481E-845B-668D8C4DA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E53-C210-430C-BB41-E2D728334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7FE2-6853-4440-BCF6-3D96D5CA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9C52-A9E1-434D-86C1-71B3B349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3A1-DDEF-4BF5-AD49-A0FF5AC4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DBA7-25D6-46A8-A7ED-DECCF0F7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1379-6E55-4B3B-835C-ED12477E2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FB53-3F7E-4803-8036-60724D82A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DC4A-A295-4E3A-A820-530467F8D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C51B-EB0F-41E6-8D89-5F99E6CD7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9EFF-4BE8-4853-8C10-09A1B7EDD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1CB0-A52C-4105-9563-4215DB6E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EC6B-E3EA-426F-85CB-7C72B816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ADBC-F293-43DB-AC89-53B6FFBA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2EF8-C199-4089-A6BD-4706796C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364E-E64B-4604-88A8-DF2F6285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7455-D691-4FB3-AFFA-3CAC3234E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OK OF WHAT ICONIC 1981 FILM CHARACTER WAS INSPIRED BY PHOTOS OF ALBERT EINSTEIN, CARL SANDBURG, AND A PU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WAT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9021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GAME'S TABLE LOOKS LIKE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main-qimg-4e2b0f29dd3baa56951783bf4c142503.png"/>
          <p:cNvPicPr/>
          <p:nvPr/>
        </p:nvPicPr>
        <p:blipFill>
          <a:blip r:embed="rId1"/>
          <a:stretch/>
        </p:blipFill>
        <p:spPr>
          <a:xfrm>
            <a:off x="2254320" y="2552760"/>
            <a:ext cx="463536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-2010 TV SERIES ABOUT AIRLINE CRASH SURVIVORS DID IMDB USERS RANK AS THE BEST SERIES EVER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ÉJA  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RENCH PHRASE TRANSLATES LITERALLY AS "ALREADY S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UP  OF  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WAY OF IMPLYING SOMETHING WAS USELESS WAS THE PHRASE "THAT AND A DOLLAR WILL BUY YOU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IN VIETNAM CELEBRATE AT THE SAME TIME ON TET, THEIR NEW YEAR'S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UDIO MASCOT LEO DO TWICE AT THE BEGINNING OF MGM MOVIES MADE SINCE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WAT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 POLK WAS THE FIRST U.S. PRESIDENT TO BE WHAT KIND OF CANDIDATE, A GAMBLING TERM FOR      A SURPRISE WI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 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OK OF WHAT ICONIC 1981 FILM CHARACTER WAS INSPIRED BY PHOTOS OF ALBERT EINSTEIN, CARL SANDBURG, AND A P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GAME'S TABLE LOOKS LIKE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4" descr="main-qimg-4e2b0f29dd3baa56951783bf4c142503.png"/>
          <p:cNvPicPr/>
          <p:nvPr/>
        </p:nvPicPr>
        <p:blipFill>
          <a:blip r:embed="rId1"/>
          <a:stretch/>
        </p:blipFill>
        <p:spPr>
          <a:xfrm>
            <a:off x="2070000" y="2679840"/>
            <a:ext cx="5004000" cy="24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-2010 TV SERIES ABOUT AIRLINE CRASH SURVIVORS DID IMDB USERS RANK AS THE BEST SERIES EVER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RENCH PHRASE TRANSLATES LITERALLY AS "ALREADY S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LD WAY OF IMPLYING SOMETHING WAS USELESS WAS THE PHRASE "THAT AND A DOLLAR WILL BUY YOU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IN VIETNAM CELEBRATE AT THE SAME TIME ON TET, THEIR NEW YEAR'S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UDIO MASCOT LEO DO TWICE AT THE BEGINNING OF MGM MOVIES MADE SINCE 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ES POLK WAS THE FIRST U.S. PRESIDENT TO BE WHAT KIND OF CANDIDATE, A GAMBLING TERM FOR     A SURPRISE WI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7:10:49Z</dcterms:created>
  <dc:creator>Jennifer Budzinski</dc:creator>
  <dc:description/>
  <dc:language>en-US</dc:language>
  <cp:lastModifiedBy>Erich Friedman</cp:lastModifiedBy>
  <dcterms:modified xsi:type="dcterms:W3CDTF">2020-08-29T16:12:52Z</dcterms:modified>
  <cp:revision>462</cp:revision>
  <dc:subject/>
  <dc:title>Slide 1</dc:title>
</cp:coreProperties>
</file>