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72D7-1F84-4A75-9CA0-6DD59C095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AD70-085E-4AAF-B21A-136EC0A55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2CD4-C226-413C-A699-368D15641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1797-E0D8-4577-8748-8294DE492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5832-576A-4F88-97B8-B2EE975D8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DA4C-EE8B-43C8-9E0E-E802695DF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37DF-D233-4A10-85AC-84BE5DC77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EC1A-96F7-4B67-AEC3-2C8AA46EC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2FD8-A6AF-423F-AC18-BFEAAF38D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53D5-5F2E-46E3-A0F5-9DA6032CB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FF9E-CF2E-4340-8BB4-78EADEF70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9EFE-1110-490E-8446-13342C550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B40E-2573-44B0-BBEA-314E6B114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B50D-8619-4421-B4D7-F10BDCEBE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D458-B3F7-4F0F-923D-B5F883C41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EE57-3D36-4BBC-901E-D58026152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0691-3054-4626-A8B7-404A4BCC6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B4D3-A490-4459-AEC4-54C87F19E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B376-E354-408C-8392-D84FFA73C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38B1-A462-49E3-B977-A3F608C61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2127-DF6F-427B-A52C-0B27F7099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6DE4-95FE-4506-8814-E62B07A4E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11C7-BAA8-4749-9B6D-4DF4BB776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0666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CTIONAL CHARACTER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58800" y="762120"/>
            <a:ext cx="7826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. SEUSS CHARACTER HAD A HEART TWO SIZES TOO SM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R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519200" y="762120"/>
            <a:ext cx="6105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GRE IS MARRIED TO FIO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37160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HU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19120" y="762120"/>
            <a:ext cx="810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ALTER EGO OF  DR. ROBERT BRUCE BAN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409760" y="4343400"/>
            <a:ext cx="6324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EENAGE  MUTANT  NINJA  TUR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47600" y="762120"/>
            <a:ext cx="7048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HEROES   ARE NAMED AFTER 4 RENAISSANCE ARTIS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RMIT  THE  FR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90440" y="762120"/>
            <a:ext cx="8763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PPET SANG "THE RAINBOW CONNEC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647640" y="4876920"/>
            <a:ext cx="78487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CKED  WITCH  OF  THE   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14440" y="762120"/>
            <a:ext cx="8115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HIGHEST RANKING FEMALE VILLAIN IN THE AMERICAN FILM INSTITUTE'S LIST OF THE BEST MOVIE VILLAINS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31840" y="762120"/>
            <a:ext cx="688032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DINOSAUR IN THE "TOY STORY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M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34800" y="762120"/>
            <a:ext cx="8472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AY ANIMATION CHARACTER WAS PARODIED BY EDDIE MURPHY ON "SN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429920" y="762120"/>
            <a:ext cx="6281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GRE IS MARRIED TO FIO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22280" y="762120"/>
            <a:ext cx="8299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TAR WARS" CHARACTER WOULD THIS QUESTION THIS WAY PHRA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I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09560" y="762120"/>
            <a:ext cx="7723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. SEUSS CHARACTER HAD A HEART TWO SIZES TOO SM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ALL  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85640" y="761760"/>
            <a:ext cx="8172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ALTER EGO OF  DR. ROBERT BRUCE BANN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85760" y="762120"/>
            <a:ext cx="6972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HEROES   ARE NAMED AFTER 4 RENAISSANCE ARTIS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79280" y="762120"/>
            <a:ext cx="8785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PPET SANG "THE RAINBOW CONNECT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00040" y="762120"/>
            <a:ext cx="8143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HIGHEST RANKING FEMALE VILLAIN IN THE AMERICAN FILM INSTITUTE'S LIST OF THE BEST MOVIE VILLAINS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58400" y="761760"/>
            <a:ext cx="7024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DINOSAUR IN THE "TOY STORY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81160" y="762120"/>
            <a:ext cx="8581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AY ANIMATION CHARACTER WAS PARODIED BY EDDIE MURPHY ON "SN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5920" y="762120"/>
            <a:ext cx="8372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TAR WARS" CHARACTER WOULD THIS QUESTION THIS WAY PHRA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8:45:38Z</dcterms:created>
  <dc:creator>Jennifer Budzinski</dc:creator>
  <dc:description/>
  <dc:language>en-US</dc:language>
  <cp:lastModifiedBy>Erich Friedman</cp:lastModifiedBy>
  <dcterms:modified xsi:type="dcterms:W3CDTF">2020-08-29T16:36:29Z</dcterms:modified>
  <cp:revision>434</cp:revision>
  <dc:subject/>
  <dc:title>Slide 1</dc:title>
</cp:coreProperties>
</file>