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7520-70AD-4EB6-AD3D-A4ACCE917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C43F-67E0-47E2-B81C-66C61114B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272C-FE79-48EA-AAE2-45B69D2F3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772D-55BD-4C8D-BF41-35316B77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0CBF-9270-42EC-AD8E-A9FCC1132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4123-E19C-442D-B2F2-CD64E10A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034B-DF0C-41CD-92EA-7B2945A69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D153-38EB-4518-B41C-9E321A7C5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CD5C-88B0-45A2-B4EB-510C3C1A0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2CC-F720-49BE-BC90-7D14BF39F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E83E-788F-4D40-B7EC-5384D4D86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714E-0501-489A-9F41-C23ABFCA8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CA38-1AB0-451C-811A-81C8BD47C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9897-4B77-4721-8029-679714E5D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E85C-4C48-4F7F-BB95-AC1332A0B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1852-1520-451D-92E4-FA2BE72F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4716-BC21-43F6-934E-3BFA03916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BCE3-9C01-4987-BA09-28CFA2C72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FC43-549B-4939-A4CE-1D199903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32A2-4E9F-4204-A92F-AA2126D1C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139C-7ACE-4EEF-8173-F678F9B8E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5CBA-DF62-44A6-822E-ADBDD9F46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C403-C59F-4754-BE4E-AB2240844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CTIONAL CHARACTE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. SEUSS CHARACTER HAD A HEART TWO SIZES TOO SM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19200" y="762120"/>
            <a:ext cx="61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GRE IS MARRIED TO FIO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19120" y="762120"/>
            <a:ext cx="810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LTER EGO OF  DR. ROBERT BRUCE BA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40976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ENAGE  MUTANT  NINJA  TUR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47600" y="762120"/>
            <a:ext cx="704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ES   ARE NAMED AFTER 4 RENAISSANCE ART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MIT  THE 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PPET SANG "THE RAINBOW CONNE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47640" y="4876920"/>
            <a:ext cx="7848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CKED  WITCH  OF  THE 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IGHEST RANKING FEMALE VILLAIN IN THE AMERICAN FILM INSTITUTE'S LIST OF THE BEST MOVIE VILLAIN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31840" y="762120"/>
            <a:ext cx="688032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INOSAUR IN THE "TOY STORY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M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34800" y="762120"/>
            <a:ext cx="8472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Y ANIMATION CHARACTER WAS PARODIED BY EDDIE MURPHY ON "SN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29920" y="762120"/>
            <a:ext cx="6281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GRE IS MARRIED TO FIO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22280" y="762120"/>
            <a:ext cx="8299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CHARACTER WOULD THIS QUESTION THIS WAY PHR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I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09560" y="762120"/>
            <a:ext cx="7723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. SEUSS CHARACTER HAD A HEART TWO SIZES TOO SM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LTER EGO OF  DR. ROBERT BRUCE BAN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85760" y="762120"/>
            <a:ext cx="6972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ES   ARE NAMED AFTER 4 RENAISSANCE ART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79280" y="762120"/>
            <a:ext cx="878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PPET SANG "THE RAINBOW CONNEC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IGHEST RANKING FEMALE VILLAIN IN THE AMERICAN FILM INSTITUTE'S LIST OF THE BEST MOVIE VILLAIN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58400" y="761760"/>
            <a:ext cx="7024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INOSAUR IN THE "TOY STORY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81160" y="762120"/>
            <a:ext cx="8581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Y ANIMATION CHARACTER WAS PARODIED BY EDDIE MURPHY ON "SN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5920" y="762120"/>
            <a:ext cx="837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CHARACTER WOULD THIS QUESTION THIS WAY PHR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29T16:36:29Z</dcterms:modified>
  <cp:revision>434</cp:revision>
  <dc:subject/>
  <dc:title>Slide 1</dc:title>
</cp:coreProperties>
</file>