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CBD6-9575-496B-8D8B-017D6D5AB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183C-F0C0-4CAE-A65B-AD3F37454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8A1E-D26D-490C-A835-C6BE79083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9870-527D-4CEC-9739-80DEEA0D4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4339-8F5F-4F2E-8791-C4955E145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8608-AE9A-4425-8B71-483AF2529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0175-3FAB-48ED-AA7B-74992AD24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E052-C114-4D67-8F8B-DA6A75073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47AC-9F7E-4992-8285-3BEB0925D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34EF-7DE0-4AB2-B02C-0E271D1A2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6FFE-3AE7-4E13-9E3E-5A86F1CF3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5D5A-7586-4A0B-AA1E-EFD7A3492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3C4E-03A0-4A79-9E57-CD45548B7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4F26-5B30-4E06-94A0-1E71B1286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6418-672B-4DB2-A0F0-A2D12CF5C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9190-F19E-45D9-A373-721781846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661E-ADEE-4D2E-8CB7-621F19783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6BC2-C45C-4734-85B6-A5EB0F409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4E9B-23E4-43AA-BD98-63A2DE129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9830-8524-4344-8692-3981552EC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7622-4F99-42BD-8B2D-F4ABEE0C6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4C4E-D7A5-47A4-9558-8D90F709D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AFB0-0964-47FB-A4A2-1BBEF0962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CTIONAL CHARACTE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. SEUSS CHARACTER HAD A HEART TWO SIZES TOO SM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19200" y="762120"/>
            <a:ext cx="61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GRE IS MARRIED TO FIO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U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19120" y="762120"/>
            <a:ext cx="810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ALTER EGO OF  DR. ROBERT BRUCE BAN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409760" y="4343400"/>
            <a:ext cx="6324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ENAGE  MUTANT  NINJA  TUR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47600" y="762120"/>
            <a:ext cx="7048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ES   ARE NAMED AFTER 4 RENAISSANCE ARTI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RMIT  THE  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PPET SANG "THE RAINBOW CONNEC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647640" y="4876920"/>
            <a:ext cx="7848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CKED  WITCH  OF  THE 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IGHEST RANKING FEMALE VILLAIN IN THE AMERICAN FILM INSTITUTE'S LIST OF THE BEST MOVIE VILLAIN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31840" y="762120"/>
            <a:ext cx="688032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INOSAUR IN THE "TOY STORY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M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34800" y="762120"/>
            <a:ext cx="8472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Y ANIMATION CHARACTER WAS PARODIED BY EDDIE MURPHY ON "SN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29920" y="762120"/>
            <a:ext cx="6281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GRE IS MARRIED TO FIO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22280" y="762120"/>
            <a:ext cx="8299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TAR WARS" CHARACTER WOULD THIS QUESTION THIS WAY PHR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I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09560" y="762120"/>
            <a:ext cx="7723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. SEUSS CHARACTER HAD A HEART TWO SIZES TOO SM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85640" y="761760"/>
            <a:ext cx="817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ALTER EGO OF  DR. ROBERT BRUCE BAN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85760" y="762120"/>
            <a:ext cx="6972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ES   ARE NAMED AFTER 4 RENAISSANCE ARTI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79280" y="762120"/>
            <a:ext cx="878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PPET SANG "THE RAINBOW CONNEC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IGHEST RANKING FEMALE VILLAIN IN THE AMERICAN FILM INSTITUTE'S LIST OF THE BEST MOVIE VILLAIN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58400" y="761760"/>
            <a:ext cx="7024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INOSAUR IN THE "TOY STORY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81160" y="762120"/>
            <a:ext cx="8581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Y ANIMATION CHARACTER WAS PARODIED BY EDDIE MURPHY ON "SN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5920" y="762120"/>
            <a:ext cx="837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TAR WARS" CHARACTER WOULD THIS QUESTION THIS WAY PHRA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08-29T16:36:29Z</dcterms:modified>
  <cp:revision>434</cp:revision>
  <dc:subject/>
  <dc:title>Slide 1</dc:title>
</cp:coreProperties>
</file>