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901F-B140-4AAC-9A49-6DBB89ECA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E75D-57EB-47EC-9164-41583C89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9B0A-77BE-40C8-85AF-7E6EF48C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8107-E0CE-4273-9F86-372F5E5E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372B-0159-4F31-A8B2-C243CCC4A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29DD-ACB6-4BF9-9A4F-D235E10D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D6D0-62F1-4339-B7EA-77FB30F93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C89C-6290-42F6-8888-DBCF519E1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1366-8F18-4A90-A307-6CE9F19B4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CD04-BF8C-4260-9626-A6B675982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D2B6-D301-4307-8079-3B78E467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01E3-21C9-48C6-BD21-6D029AC2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EEE7-601C-4B57-89E7-F8122AD46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6BA8-3D8B-4606-ACEA-51FBDC7C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3C06-DCF7-410F-BD35-EF75FF784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E1A1-6256-4798-B455-AF5F0302D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FAB-E7E2-4E80-8A9D-C2E4F666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0698-60E3-4AED-BD41-6E96D5DB2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5226-CEFF-4031-BC50-AB894355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7D2A-C353-438F-AAC6-79239B710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6DED-930C-49E2-9D14-86AC87AC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3655-3864-457C-BD09-8A6DB540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77A6-2178-4A34-8042-2220940BF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R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24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Y)  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IRON GOLF CLUB IS USED FOR HITTING THE BALL OUT OF A SAND BUNKER OR "PITCHING" IT ONTO TH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    WAS CONNECTED TO ITS NEIGHBOR, THE ASTORIA, WHEN THE ALLEY BETWEEN THEM WAS OPENED IN 18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TANTALUS WAS PUNISHED BY THE GODS FOR STEALING WHAT DIVINE FOOD FROM MOUNT OLYM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YANKEE DOODLE CALL THE FEATHER HE STUCK IN HI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NE OF 1845-1849 REDUCED THE POPULATION OF IRELAND BY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SEBALL PLAYER WHO HOLDS THE RECORDS FOR RUNS SCORED, RBI'S, AND CAREER BATTING A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ROSOFT OFFICE CONSISTS OF SEVERAL APPLICATIONS. 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THE LAND AROUND A HOUSE THAT WE CALL A "Y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PRINCE PHILLIP, ARIANNA HUFFINGTON, AND YAN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00:19:46Z</dcterms:created>
  <dc:creator>Jennifer Budzinski</dc:creator>
  <dc:description/>
  <dc:language>en-US</dc:language>
  <cp:lastModifiedBy>Erich Friedman</cp:lastModifiedBy>
  <dcterms:modified xsi:type="dcterms:W3CDTF">2020-08-29T16:37:01Z</dcterms:modified>
  <cp:revision>453</cp:revision>
  <dc:subject/>
  <dc:title>Slide 1</dc:title>
</cp:coreProperties>
</file>