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6E78-525A-4E43-9C4F-B22B7B7B0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16F9-FF04-47D7-98A1-BCF207078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31B4-6FB9-4E48-848C-8B20A05B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31B4-1A5A-4590-9220-F11132F9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C283-6779-4B60-8235-EBAF1ABA2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E8F7-2E94-4DE2-84C0-A5B398756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9C0F-FDA4-4CF3-88CB-799B20389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A8DF-40A1-42EE-BC71-B6A6D9ED5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CB15-A273-4EBD-AA66-0F4B6D1F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CA3F-A97B-48A5-9F28-F441D3E1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F4BF-B6E9-42D7-8E7C-3B4784E91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B831-1335-41E4-BB95-E397BE23F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7143-26C2-482B-A494-89644C4F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4541-3BE7-4786-A44E-DB97FD16B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9543-56CE-445F-B5CC-F79D0A7AF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D670-7B46-4544-93AD-72B58C07C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2251-840D-4B9E-8A39-E1077588A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F678-8AC1-4A71-839C-1312E3247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240D-C322-4EF3-8595-FF7B78152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2523-922D-4A9E-B114-C7A25C54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875B-BA75-45F3-B1FA-B5646706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A859-996C-4DBE-BF80-5CDDAC940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8B41-8B4F-4A98-AAFA-9B9FFB44F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HOTEL     WAS CONNECTED TO ITS NEIGHBOR, THE ASTORIA, WHEN THE ALLEY BETWEEN THEM WAS OPENED IN 18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IRON GOLF CLUB IS USED FOR HITTING THE BALL OUT OF A SAND BUNKER OR "PITCHING" IT ONTO THE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BRO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TANTALUS WAS PUNISHED BY THE GODS FOR STEALING WHAT DIVINE FOOD FROM MOUNT OLYMP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AR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YANKEE DOODLE CALL THE FEATHER HE STUCK IN HIS 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524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NE OF 1845-1849 REDUCED THE POPULATION OF IRELAND BY 2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Y)  CO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SEBALL PLAYER WHO HOLDS THE RECORDS FOR RUNS SCORED, RBI'S, AND CAREER BATTING AVE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SOFT OFFICE CONSISTS OF SEVERAL APPLICATIONS.  WHICH ONE COMES LA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THE LAND AROUND A HOUSE THAT WE CALL A "Y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IRON GOLF CLUB IS USED FOR HITTING THE BALL OUT OF A SAND BUNKER OR "PITCHING" IT ONTO THE G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PRINCE PHILLIP, ARIANNA HUFFINGTON, AND YAN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DO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HOTEL     WAS CONNECTED TO ITS NEIGHBOR, THE ASTORIA, WHEN THE ALLEY BETWEEN THEM WAS OPENED IN 18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876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A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TANTALUS WAS PUNISHED BY THE GODS FOR STEALING WHAT DIVINE FOOD FROM MOUNT OLYMP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YANKEE DOODLE CALL THE FEATHER HE STUCK IN HIS 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NE OF 1845-1849 REDUCED THE POPULATION OF IRELAND BY 2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SEBALL PLAYER WHO HOLDS THE RECORDS FOR RUNS SCORED, RBI'S, AND CAREER BATTING AVE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SOFT OFFICE CONSISTS OF SEVERAL APPLICATIONS.  WHICH ONE COMES LA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THE LAND AROUND A HOUSE THAT WE CALL A "Y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PRINCE PHILLIP, ARIANNA HUFFINGTON, AND YANN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00:19:46Z</dcterms:created>
  <dc:creator>Jennifer Budzinski</dc:creator>
  <dc:description/>
  <dc:language>en-US</dc:language>
  <cp:lastModifiedBy>Erich Friedman</cp:lastModifiedBy>
  <dcterms:modified xsi:type="dcterms:W3CDTF">2020-08-29T16:37:01Z</dcterms:modified>
  <cp:revision>453</cp:revision>
  <dc:subject/>
  <dc:title>Slide 1</dc:title>
</cp:coreProperties>
</file>