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A55-D21D-4D0F-B6AE-78E097EA5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947E-5F17-44F6-8779-C4E3C46C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398-65EA-4329-9F3C-784389518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67C-B56C-4887-86FE-B04FE8AD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0A81-30DF-4775-B3DA-5021D9538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01C-C50B-48EE-9579-B81D089D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3AD-D427-4186-A595-D846BAF5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3FC0-050E-4273-96D4-82F920AC0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B65-5A9D-4FAB-88C7-F7070DE6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9E50-2E64-4E81-9BC8-720B129A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B45E-31B6-4359-AC9B-D1F25972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24E2-CF83-4B37-BDEF-7705CF982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5809-A7B9-456F-9BEE-9E561462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E69A-9543-4F40-93A0-E68E116B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AF4F-2916-4E3C-A7FE-716CA0CD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618D-49E1-490D-A105-84967D11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61D-E937-4E0A-A406-28858BE2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E489-6439-4E53-BB18-F8508593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13A-95D5-437C-8CA4-A608A645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58A-5F42-4C46-8834-60537B03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286B-C4A9-4AD3-B99D-1938E3D2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F8E-F396-4392-A5FD-1655286D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F4DE-7C71-461A-8322-5EA77965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    WAS CONNECTED TO ITS NEIGHBOR, THE ASTORIA, WHEN THE ALLEY BETWEEN THEM WAS OPENED IN 18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IRON GOLF CLUB IS USED FOR HITTING THE BALL OUT OF A SAND BUNKER OR "PITCHING" IT ONTO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RO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TANTALUS WAS PUNISHED BY THE GODS FOR STEALING WHAT DIVINE FOOD FROM MOUNT OLYM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R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YANKEE DOODLE CALL THE FEATHER HE STUCK IN HI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524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NE OF 1845-1849 REDUCED THE POPULATION OF IRELAND BY 2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Y)  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SEBALL PLAYER WHO HOLDS THE RECORDS FOR RUNS SCORED, RBI'S, AND CAREER BATTING A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OFT OFFICE CONSISTS OF SEVERAL APPLICATIONS. 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THE LAND AROUND A HOUSE THAT WE CALL A "Y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IRON GOLF CLUB IS USED FOR HITTING THE BALL OUT OF A SAND BUNKER OR "PITCHING" IT ONTO TH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PRINCE PHILLIP, ARIANNA HUFFINGTON, AND YAN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    WAS CONNECTED TO ITS NEIGHBOR, THE ASTORIA, WHEN THE ALLEY BETWEEN THEM WAS OPENED IN 18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A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TANTALUS WAS PUNISHED BY THE GODS FOR STEALING WHAT DIVINE FOOD FROM MOUNT OLYM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YANKEE DOODLE CALL THE FEATHER HE STUCK IN HI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NE OF 1845-1849 REDUCED THE POPULATION OF IRELAND BY 2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SEBALL PLAYER WHO HOLDS THE RECORDS FOR RUNS SCORED, RBI'S, AND CAREER BATTING A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OFT OFFICE CONSISTS OF SEVERAL APPLICATIONS. 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THE LAND AROUND A HOUSE THAT WE CALL A "Y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PRINCE PHILLIP, ARIANNA HUFFINGTON, AND YAN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00:19:46Z</dcterms:created>
  <dc:creator>Jennifer Budzinski</dc:creator>
  <dc:description/>
  <dc:language>en-US</dc:language>
  <cp:lastModifiedBy>Erich Friedman</cp:lastModifiedBy>
  <dcterms:modified xsi:type="dcterms:W3CDTF">2020-08-29T16:37:01Z</dcterms:modified>
  <cp:revision>453</cp:revision>
  <dc:subject/>
  <dc:title>Slide 1</dc:title>
</cp:coreProperties>
</file>