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6D53-4F5B-4813-A2EB-6EC35E3B1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25B5-F894-4766-877E-DF3A2D88E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584E-ADFF-484E-98C6-2E519CCA1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FEB6-DD24-4D0A-899A-0AD54FC5C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246B-6FA6-465E-863A-C1923B4DB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A5FD-117E-4515-B064-0A9A3F379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8301-8EE8-4B82-9329-0126022D0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D158-E682-4496-A6DA-3540B2EE8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8FB9-D85E-4A35-8F8D-BC33D412B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162C-CACD-4051-B3A5-7E7A4AEA8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3519-0A84-4E08-AEBF-2B4C0C56E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15FC-3060-4871-B5A5-2992B13EA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E000-60C0-4A92-8746-1E44A6819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5AE8-1C2C-4381-AE7B-A6BCBB718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A773-4A3D-4E1A-983B-2D41F26D7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ECB9-9783-4BEE-9628-8504B678E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1922-D49E-48EC-B584-9BF66DED2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6E8C-401B-4ED4-B346-A47595E9C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BCB9-7FE0-4F5B-865B-A6FBDDE04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46C8-8FFA-48DD-BA58-5F767C384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8254-FD44-4008-998C-9D48B4592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8EAE-C617-43E6-870A-F85B37DC0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920B-D85E-4410-926A-114DDFABE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ISLAND IN THE GULF OF NAPLES COULD YOU VISIT THE 500-FOOT-DEEP BLUE GROT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OY STORY 3", WHAT WAS THE NAME OF THE PURPLE OCTOPUS TOY VOICED BY WHOOPI GOLDBE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, SUBTITLED "A LA LA LA LA LONG", OF THE REGGAE GROUP INNER CIR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RTIN)  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WITH STEVE MARTIN IN "THREE AMIGOS" AND "FATHER OF THE B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STOLEN, SEXY, OR RADIOA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ACH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55640"/>
            <a:ext cx="8382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CHARD NELSON BOLLES SOLD 10 MILLION BOOKS BY ASKING JOB HUNTERS ABOUT THE COLOR OF WHAT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V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VIOLATION IS SIGNALED BY PLACING ONE FOREARM ABOVE THE OTHER AND THEN ROTATING YOUR FISTS AROUND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LANESIAN CULTS REVERED THE JAPANESE AND ALLIED SUPPLIES AIRDROPPED ONTO THEIR ISLANDS DURING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OY STORY 3", WHAT WAS THE NAME OF THE PURPLE OCTOPUS TOY VOICED BY WHOOPI GOLDBER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BRA AND UPWARD DOG ARE AMONG THE MANY POSES OF WHAT DISCIP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ISLAND IN THE GULF OF NAPLES COULD YOU VISIT THE 500-FOOT-DEEP BLUE GROT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14680" y="487692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, SUBTITLED "A LA LA LA LA LONG", OF THE REGGAE GROUP INNER CIR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WITH STEVE MARTIN IN "THREE AMIGOS" AND "FATHER OF THE B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STOLEN, SEXY, OR RADIOA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CHARD NELSON BOLLES SOLD 10 MILLION BOOKS BY ASKING JOB HUNTERS ABOUT THE COLOR OF WHAT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VIOLATION IS SIGNALED BY PLACING ONE FOREARM ABOVE THE OTHER AND THEN ROTATING YOUR FISTS AROUND EACH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LANESIAN CULTS REVERED THE JAPANESE AND ALLIED SUPPLIES AIRDROPPED ONTO THEIR ISLANDS DURING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BRA AND UPWARD DOG ARE AMONG THE MANY POSES OF WHAT DISCIPL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7:33:24Z</dcterms:created>
  <dc:creator>Jennifer Budzinski</dc:creator>
  <dc:description/>
  <dc:language>en-US</dc:language>
  <cp:lastModifiedBy>Erich Friedman</cp:lastModifiedBy>
  <dcterms:modified xsi:type="dcterms:W3CDTF">2020-08-29T16:37:46Z</dcterms:modified>
  <cp:revision>452</cp:revision>
  <dc:subject/>
  <dc:title>Slide 1</dc:title>
</cp:coreProperties>
</file>