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51DA-D95B-43AB-8EDB-1A436BA22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F6D1-B143-4A99-AF1A-FD0A42CDB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B0DE-FEFC-450D-8480-76E777907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8A11-19A8-407D-9314-1F0403358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54EC-4FAA-40E8-9B7C-96D42D180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6560-8EA0-47C0-9234-22D608703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75C2-962B-4DEA-BAF4-FDE38F9C6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55CE-2369-4060-89F6-5E3F1E2C4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0ECF-011B-4A6E-BE73-8C74E65D1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5BF3-8E9A-4A3E-B458-BAF660F9F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8EFC-BC45-4DFA-BFAB-08D53F18D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4AB6-50AB-49A1-8FF7-6F471493A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67B6-2057-4888-A933-FFB3D4BFB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C05C-66C0-4799-8CD3-BB73090E8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400A-F49B-48C1-948D-2A46DF3FD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43A2-E302-48ED-902A-A3F390670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D3A1-63C5-46EA-AC57-F7824349B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62EC-0579-4E63-BE8D-C86EC593A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EB2E-929F-424E-886A-22E458250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3DCB-519B-4BB4-87E2-9D78AC251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3CC8-084B-45E6-86E0-04B097CAA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059C-B3FA-4AD4-9AF9-A62579499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9787-B96C-406A-8FDF-89006A612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ISLAND IN THE GULF OF NAPLES COULD YOU VISIT THE 500-FOOT-DEEP BLUE GROT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E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TOY STORY 3", WHAT WAS THE NAME OF THE PURPLE OCTOPUS TOY VOICED BY WHOOPI GOLDBER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HIT, SUBTITLED "A LA LA LA LA LONG", OF THE REGGAE GROUP INNER CIRC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MARTIN)  SH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STARRED WITH STEVE MARTIN IN "THREE AMIGOS" AND "FATHER OF THE BRID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523880" y="762120"/>
            <a:ext cx="609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STOLEN, SEXY, OR RADIOACT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RACHU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80880" y="755640"/>
            <a:ext cx="83822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ICHARD NELSON BOLLES SOLD 10 MILLION BOOKS BY ASKING JOB HUNTERS ABOUT THE COLOR OF WHAT OBJE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AV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KETBALL VIOLATION IS SIGNALED BY PLACING ONE FOREARM ABOVE THE OTHER AND THEN ROTATING YOUR FISTS AROUND EACH 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MELANESIAN CULTS REVERED THE JAPANESE AND ALLIED SUPPLIES AIRDROPPED ONTO THEIR ISLANDS DURING WWI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TOY STORY 3", WHAT WAS THE NAME OF THE PURPLE OCTOPUS TOY VOICED BY WHOOPI GOLDBER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90400" y="762120"/>
            <a:ext cx="796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BRA AND UPWARD DOG ARE AMONG THE MANY POSES OF WHAT DISCIPL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P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ISLAND IN THE GULF OF NAPLES COULD YOU VISIT THE 500-FOOT-DEEP BLUE GROT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714680" y="4876920"/>
            <a:ext cx="5715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P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HIT, SUBTITLED "A LA LA LA LA LONG", OF THE REGGAE GROUP INNER CIRC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STARRED WITH STEVE MARTIN IN "THREE AMIGOS" AND "FATHER OF THE BRID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523880" y="762120"/>
            <a:ext cx="6096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STOLEN, SEXY, OR RADIOACTI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ICHARD NELSON BOLLES SOLD 10 MILLION BOOKS BY ASKING JOB HUNTERS ABOUT THE COLOR OF WHAT OBJE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KETBALL VIOLATION IS SIGNALED BY PLACING ONE FOREARM ABOVE THE OTHER AND THEN ROTATING YOUR FISTS AROUND EACH O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MELANESIAN CULTS REVERED THE JAPANESE AND ALLIED SUPPLIES AIRDROPPED ONTO THEIR ISLANDS DURING WWI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52600" y="762120"/>
            <a:ext cx="8038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BRA AND UPWARD DOG ARE AMONG THE MANY POSES OF WHAT DISCIPL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8T17:33:24Z</dcterms:created>
  <dc:creator>Jennifer Budzinski</dc:creator>
  <dc:description/>
  <dc:language>en-US</dc:language>
  <cp:lastModifiedBy>Erich Friedman</cp:lastModifiedBy>
  <dcterms:modified xsi:type="dcterms:W3CDTF">2020-08-29T16:37:46Z</dcterms:modified>
  <cp:revision>452</cp:revision>
  <dc:subject/>
  <dc:title>Slide 1</dc:title>
</cp:coreProperties>
</file>