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5894-5F54-4573-89A4-5C9C5ED70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0109-03B5-4B19-A8CF-B37D95950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3869-1EB5-447C-9AE7-68D4043D6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677F-D969-4A78-AFDC-6C6C308CD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0ADF-2A94-41D1-BAC6-3F5CE17E6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7265-FF2A-4381-9ABA-861B61092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E520-072B-48CD-A78E-0F9441D81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EB5A-D1B4-4657-AB3C-5A47E43C1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453D-E20F-43B8-8698-E527702DF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E9CD-6DFB-4071-993E-569EB6D76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D9BF-6E4C-4E33-AA60-A9F61C985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C6DC2-23A2-4DA4-9149-6685B32A6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6672-9094-453A-B724-5CE1B5AC0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D1DD-88DF-4503-8408-FDB76BCF8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37CE-4C7C-453A-A861-32FBD5A8D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ECDA-F49E-4EE4-8AC9-B88471EFF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8349-98C7-4304-9A39-D59A63B5A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705C7-C5DB-4032-BB38-CFC2DDF02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984C-CDA9-449E-B3B6-8036FCD46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3C1F-9C9A-4C84-884E-886F8960D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11AB-A549-4D5C-86E2-90FB7BC26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B64C-F5FF-4869-A419-BBE56AC08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5083-28CB-4188-82AA-9A49A9C1D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ISLAND IN THE GULF OF NAPLES COULD YOU VISIT THE 500-FOOT-DEEP BLUE GROTT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E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TOY STORY 3", WHAT WAS THE NAME OF THE PURPLE OCTOPUS TOY VOICED BY WHOOPI GOLDBER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HIT, SUBTITLED "A LA LA LA LA LONG", OF THE REGGAE GROUP INNER CIRC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MARTIN)  SH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47640" y="762120"/>
            <a:ext cx="7848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STARRED WITH STEVE MARTIN IN "THREE AMIGOS" AND "FATHER OF THE BRID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523880" y="762120"/>
            <a:ext cx="6096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STOLEN, SEXY, OR RADIOACT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RACHU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80880" y="755640"/>
            <a:ext cx="83822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ICHARD NELSON BOLLES SOLD 10 MILLION BOOKS BY ASKING JOB HUNTERS ABOUT THE COLOR OF WHAT OBJE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AV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SKETBALL VIOLATION IS SIGNALED BY PLACING ONE FOREARM ABOVE THE OTHER AND THEN ROTATING YOUR FISTS AROUND EACH O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MELANESIAN CULTS REVERED THE JAPANESE AND ALLIED SUPPLIES AIRDROPPED ONTO THEIR ISLANDS DURING WWI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TOY STORY 3", WHAT WAS THE NAME OF THE PURPLE OCTOPUS TOY VOICED BY WHOOPI GOLDBER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90400" y="762120"/>
            <a:ext cx="7963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BRA AND UPWARD DOG ARE AMONG THE MANY POSES OF WHAT DISCIPL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P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ISLAND IN THE GULF OF NAPLES COULD YOU VISIT THE 500-FOOT-DEEP BLUE GROT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714680" y="4876920"/>
            <a:ext cx="5715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S  OF  P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HIT, SUBTITLED "A LA LA LA LA LONG", OF THE REGGAE GROUP INNER CIRC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STARRED WITH STEVE MARTIN IN "THREE AMIGOS" AND "FATHER OF THE BRID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523880" y="762120"/>
            <a:ext cx="6096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STOLEN, SEXY, OR RADIOACTI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ICHARD NELSON BOLLES SOLD 10 MILLION BOOKS BY ASKING JOB HUNTERS ABOUT THE COLOR OF WHAT OBJEC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SKETBALL VIOLATION IS SIGNALED BY PLACING ONE FOREARM ABOVE THE OTHER AND THEN ROTATING YOUR FISTS AROUND EACH OTH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MELANESIAN CULTS REVERED THE JAPANESE AND ALLIED SUPPLIES AIRDROPPED ONTO THEIR ISLANDS DURING WWI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52600" y="762120"/>
            <a:ext cx="8038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BRA AND UPWARD DOG ARE AMONG THE MANY POSES OF WHAT DISCIPL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8T17:33:24Z</dcterms:created>
  <dc:creator>Jennifer Budzinski</dc:creator>
  <dc:description/>
  <dc:language>en-US</dc:language>
  <cp:lastModifiedBy>Erich Friedman</cp:lastModifiedBy>
  <dcterms:modified xsi:type="dcterms:W3CDTF">2020-08-29T16:37:46Z</dcterms:modified>
  <cp:revision>452</cp:revision>
  <dc:subject/>
  <dc:title>Slide 1</dc:title>
</cp:coreProperties>
</file>