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C4E-9EDB-4E5F-8165-D7F4218D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0F4D-669B-43E9-912C-D8D22EEE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C3F-C12B-4E87-AAD6-C5627DB5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A20-0547-4196-9D39-9526074F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E4C-1EAC-4550-B043-E8D1EA3E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502-1662-4108-93C8-9F29C4CC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340-4B1D-466A-A801-0C1E06C5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1E9-6427-4A40-92DE-CA8F98B5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5B8-8474-419C-9668-DE7ED105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6B3-1EDE-4AC7-B236-FDCFA2E6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2AA-877E-48FA-84E6-B9397897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490E-C4A2-4970-8BA0-7E4D7C86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AD9-E0A4-45ED-A231-2ED9C0789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B8EA-B200-40A6-BA92-0820F59AC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BF5-DD81-4E56-A263-4113CA79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ACD-1B08-4970-97EF-A25B0452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7DB9-98D6-4416-B958-5BA00C5F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7F79-9F81-4962-9D44-0EBC7DC6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9B1-97AC-473A-803B-57FBFE35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1E90-870A-403A-93E8-A1BBF541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970A-2F54-4DD9-AE6C-BBEE028F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059-981C-4B54-9597-334B4A34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5BB4-707E-451A-9F7E-3B677D71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ERCULTURE MUSICAL WON A 1969 GRAMMY FOR BEST SCORE, AND A 2009 TONY FOR  BEST MUSICAL REVIV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THE OTHER WHITE MEAT" ACCORDING TO A 1987 ADVERTISING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0804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IS APPROXIMATELY 1/3 FAT AND 1/3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HESSBOARD, A COLUMN IS CALLED A FILE AND A   ROW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HUMANS HAVE 28-32 OF, THAT DOLPHINS HAVE 80-100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SECTIONS OF A MODERN ORCHESTRA IS BY FAR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OES LARCENY BECOME WHEN THE PROPERTY IS TAKEN DIRECTLY FROM ANOTHER PERSON BY F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'RE FROM BRITAIN OR IRELAND, AND ESPECIALLY IF YOU'RE A BOXER OR WRESTLER, WHAT MIGHT YOU MEASURE IN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THE OTHER WHITE MEAT" ACCORDING TO A 1987 ADVERTISING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5420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NANCY BOTWIN, PLAYED BY MARY-LOUISE PARKER, GROW A STRAIN OF MARIJUANA CALLED MI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ERCULTURE MUSICAL WON A 1969 GRAMMY FOR BEST SCORE, AND A 2009 TONY FOR   BEST MUSICAL REV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P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IS APPROXIMATELY 1/3 FAT AND 1/3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HESSBOARD, A COLUMN IS CALLED A FILE AND A    ROW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HUMANS HAVE    28-32 OF, THAT DOLPHINS HAVE 80-100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SECTIONS OF A MODERN ORCHESTRA IS BY FAR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OES LARCENY BECOME WHEN THE PROPERTY IS TAKEN DIRECTLY FROM ANOTHER PERSON BY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'RE FROM BRITAIN OR IRELAND, AND ESPECIALLY IF YOU'RE A BOXER OR WRESTLER, WHAT MIGHT YOU MEASURE IN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NANCY BOTWIN, PLAYED BY MARY-LOUISE PARKER, GROW A STRAIN OF MARIJUANA CALLED MI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3:49:15Z</dcterms:created>
  <dc:creator>Jennifer Budzinski</dc:creator>
  <dc:description/>
  <dc:language>en-US</dc:language>
  <cp:lastModifiedBy>Erich Friedman</cp:lastModifiedBy>
  <dcterms:modified xsi:type="dcterms:W3CDTF">2020-08-29T16:38:24Z</dcterms:modified>
  <cp:revision>453</cp:revision>
  <dc:subject/>
  <dc:title>Slide 1</dc:title>
</cp:coreProperties>
</file>