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F15B-60C9-49ED-A189-084ECB989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29A-72BA-4EF7-96EA-7DFE348A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0764-A118-431B-90F1-CB6563F5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B4E2-FC67-40B8-A593-F7140253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3E6-C53A-47D7-A167-F83B2248B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73D-ACA8-4711-ACDE-FE711A24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EBF-07B6-4E82-8B69-CE17A5FE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B16-371A-4323-9AF8-D3204DE0D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B7CF-C260-4A48-8B7E-27FC74933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2F97-ABFD-4B04-AC9B-51A4EB51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0D8E-27F2-4119-B21E-E34609DA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7BFB-F822-434A-B323-AB5E8E51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7CB2-BC50-47C2-9247-165AFEA1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FA8C-C628-472F-B495-FC1792D56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A5AC-9E49-4F33-A054-964AC3AC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1EBE-A4EA-4555-81E8-75FF77F2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B1D1-DEF4-45A8-AF4F-214AF902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D147-F13A-45C3-908F-4E7CCA5A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2FC7-85DE-4539-914F-D58A9EF6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1F49-1B16-4E64-8149-0995E2B2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F863-D3A2-411A-A0ED-5770BBE3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5783-F0B7-4F41-B1D2-47E1D5E9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827-68A7-484C-BE4B-561FB986B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ERCULTURE MUSICAL WON A 1969 GRAMMY FOR BEST SCORE, AND A 2009 TONY FOR  BEST MUSICAL REVIV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THE OTHER WHITE MEAT" ACCORDING TO A 1987 ADVERTISING SL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0804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IS APPROXIMATELY 1/3 FAT AND 1/3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HESSBOARD, A COLUMN IS CALLED A FILE AND A   ROW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HUMANS HAVE 28-32 OF, THAT DOLPHINS HAVE 80-100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SECTIONS OF A MODERN ORCHESTRA IS BY FAR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OES LARCENY BECOME WHEN THE PROPERTY IS TAKEN DIRECTLY FROM ANOTHER PERSON BY F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'RE FROM BRITAIN OR IRELAND, AND ESPECIALLY IF YOU'RE A BOXER OR WRESTLER, WHAT MIGHT YOU MEASURE IN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THE OTHER WHITE MEAT" ACCORDING TO A 1987 ADVERTISING SL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5420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NANCY BOTWIN, PLAYED BY MARY-LOUISE PARKER, GROW A STRAIN OF MARIJUANA CALLED MI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ERCULTURE MUSICAL WON A 1969 GRAMMY FOR BEST SCORE, AND A 2009 TONY FOR   BEST MUSICAL REV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P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IS APPROXIMATELY 1/3 FAT AND 1/3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HESSBOARD, A COLUMN IS CALLED A FILE AND A    ROW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HUMANS HAVE    28-32 OF, THAT DOLPHINS HAVE 80-100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SECTIONS OF A MODERN ORCHESTRA IS BY FAR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OES LARCENY BECOME WHEN THE PROPERTY IS TAKEN DIRECTLY FROM ANOTHER PERSON BY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'RE FROM BRITAIN OR IRELAND, AND ESPECIALLY IF YOU'RE A BOXER OR WRESTLER, WHAT MIGHT YOU MEASURE IN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NANCY BOTWIN, PLAYED BY MARY-LOUISE PARKER, GROW A STRAIN OF MARIJUANA CALLED MI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3:49:15Z</dcterms:created>
  <dc:creator>Jennifer Budzinski</dc:creator>
  <dc:description/>
  <dc:language>en-US</dc:language>
  <cp:lastModifiedBy>Erich Friedman</cp:lastModifiedBy>
  <dcterms:modified xsi:type="dcterms:W3CDTF">2020-08-29T16:38:24Z</dcterms:modified>
  <cp:revision>453</cp:revision>
  <dc:subject/>
  <dc:title>Slide 1</dc:title>
</cp:coreProperties>
</file>