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58BC-C3D1-478B-A7A2-D6EE88551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CA92-9D36-4665-8AAA-63C385093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09D0-D671-4936-A74F-164B5C270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9B3B-8273-4A61-B281-687457668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DAA7-7BB2-471C-92F3-9D1D285C6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B718-9728-474F-A4C1-6F6937000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8278-4BFE-41CE-978D-449659898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1847-214E-4F56-A8B6-F27FAA497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6D15-B2D4-41A3-9FA3-FD7E950C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7BCC-058F-4714-9BC3-BF2DF380F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0857-8F73-4F70-8140-D4AE0CDDD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4725-5A56-4E9D-A52C-FB974BD9D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AFC-AACF-49E8-A2FB-AA020B18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1682-53F0-4547-BD86-92A88F1EC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557E-A787-4D03-A70B-FB280C35B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332-0F81-45A6-AB81-0AD67A4F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45DF-497A-40FA-85BA-537DD32AF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5BD-F75E-4E89-AB17-D45882199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AB1A-8DE0-4270-8D33-559BF4555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72CC-E2F0-4A4D-9688-3D44FADFF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FB31-27D4-4832-833A-665A65441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8685-D2AF-4E3F-8B56-E7D1F8B0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BDBB-B16D-4744-AAB1-D67B2E0C8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ERCULTURE MUSICAL WON A 1969 GRAMMY FOR BEST SCORE, AND A 2009 TONY FOR  BEST MUSICAL REVIV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THE OTHER WHITE MEAT" ACCORDING TO A 1987 ADVERTISING SL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0804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IS APPROXIMATELY 1/3 FAT AND 1/3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HESSBOARD, A COLUMN IS CALLED A FILE AND A   ROW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HUMANS HAVE 28-32 OF, THAT DOLPHINS HAVE 80-100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SECTIONS OF A MODERN ORCHESTRA IS BY FAR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OES LARCENY BECOME WHEN THE PROPERTY IS TAKEN DIRECTLY FROM ANOTHER PERSON BY FO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W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'RE FROM BRITAIN OR IRELAND, AND ESPECIALLY IF YOU'RE A BOXER OR WRESTLER, WHAT MIGHT YOU MEASURE IN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THE OTHER WHITE MEAT" ACCORDING TO A 1987 ADVERTISING SL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5420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NANCY BOTWIN, PLAYED BY MARY-LOUISE PARKER, GROW A STRAIN OF MARIJUANA CALLED MI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ERCULTURE MUSICAL WON A 1969 GRAMMY FOR BEST SCORE, AND A 2009 TONY FOR   BEST MUSICAL REV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87692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P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UMAN BODY IS APPROXIMATELY 1/3 FAT AND 1/3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CHESSBOARD, A COLUMN IS CALLED A FILE AND A    ROW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HUMANS HAVE    28-32 OF, THAT DOLPHINS HAVE 80-100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SECTIONS OF A MODERN ORCHESTRA IS BY FAR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OES LARCENY BECOME WHEN THE PROPERTY IS TAKEN DIRECTLY FROM ANOTHER PERSON BY FO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'RE FROM BRITAIN OR IRELAND, AND ESPECIALLY IF YOU'RE A BOXER OR WRESTLER, WHAT MIGHT YOU MEASURE IN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NANCY BOTWIN, PLAYED BY MARY-LOUISE PARKER, GROW A STRAIN OF MARIJUANA CALLED MI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3:49:15Z</dcterms:created>
  <dc:creator>Jennifer Budzinski</dc:creator>
  <dc:description/>
  <dc:language>en-US</dc:language>
  <cp:lastModifiedBy>Erich Friedman</cp:lastModifiedBy>
  <dcterms:modified xsi:type="dcterms:W3CDTF">2020-08-29T16:38:24Z</dcterms:modified>
  <cp:revision>453</cp:revision>
  <dc:subject/>
  <dc:title>Slide 1</dc:title>
</cp:coreProperties>
</file>