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934B-5750-46A8-8A43-9C7794624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3CB1-CAB1-49F3-BB65-70F84F652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4F36-A9DF-4A67-81A2-153AD68AC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950A-EB18-469D-859A-A2A2CFFC3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0B78-0ECE-419E-BFE9-5AA3394D8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0711-2E48-4F7C-ABB5-6F04B5D2F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73C9-F717-4F96-BB3F-C3F03B22C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6C48-147D-4187-8DC0-516F12F09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7F43-1D8B-476E-9FAD-9E51CE6DF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74EC-7AB8-4E2D-8A0C-BD3D53233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460E-FE8B-49C8-AB5F-B7EC77F5E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1260-A914-48CC-9E8F-35D8F054C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F472-156A-48FB-AE32-C3AB81AE5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820D-EB3A-4EC5-814C-FCACA34D1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DE16-CE91-469E-A464-F3593D371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C2E0-903B-47DC-ACD1-B3709BA51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4099-746E-4623-9D23-D4B0DBC8D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74B1-4635-421D-8A27-448B93D6C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5634-48F6-470E-8DD3-329212DA4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8AAB-987A-4C14-9ECE-6960B3B6D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2116-1565-4E92-8732-607F5B404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86F8-6E7E-47D8-8C5A-A0406EE2D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0EA7-5A95-4454-9A05-520150ACE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0666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86880" y="761760"/>
            <a:ext cx="77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OF THE TITLE OF THE QUIRKY 1990-1995 TV SHOW ABOUT LIFE IN ALASK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479520" y="4875120"/>
            <a:ext cx="371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838080" y="1219320"/>
            <a:ext cx="2838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WER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"/>
          <p:cNvPicPr/>
          <p:nvPr/>
        </p:nvPicPr>
        <p:blipFill>
          <a:blip r:embed="rId1"/>
          <a:stretch/>
        </p:blipFill>
        <p:spPr>
          <a:xfrm>
            <a:off x="4952880" y="533520"/>
            <a:ext cx="3711600" cy="47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01880" y="762120"/>
            <a:ext cx="7140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COMPACT CAR THAT FORD MANUFACTU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G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09760" y="762120"/>
            <a:ext cx="8124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NUMBER APPEARED FOR THE FIRST TIME IN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CHI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WN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90560" y="770040"/>
            <a:ext cx="7562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R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RADE GIRL SCOU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41400" y="762120"/>
            <a:ext cx="725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THE STRUCTURAL SKELETON OF A VEHIC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–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28880" y="762120"/>
            <a:ext cx="70866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OF A FLIGHT LEAVING LATE AT NIGHT AND ARRIVING THE NEXT MOR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YMP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71640" y="762120"/>
            <a:ext cx="7200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UNTAIN WAS HOME TO THE 12 GODS OF GREEK MYTHOLO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1760" y="990720"/>
            <a:ext cx="3066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WER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4952880" y="533520"/>
            <a:ext cx="37116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79440" y="4876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58960" y="762120"/>
            <a:ext cx="742464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HERO DRESSES IN RED EXCEPT FOR THE LIGHTNING BOLT LOGO ON HIS CH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NORTHERN)  EXPO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90560" y="762120"/>
            <a:ext cx="7562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OF THE TITLE OF THE QUIRKY 1990-1995 TV SHOW ABOUT LIFE IN ALASK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284120" y="4876920"/>
            <a:ext cx="65757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TOGRAPHY 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966960" y="761760"/>
            <a:ext cx="7210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COMPACT CAR THAT FORD MANUFACTUR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563400" y="762120"/>
            <a:ext cx="80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NUMBER APPEARED FOR THE FIRST TIME IN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CHI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R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RADE GIRL SCOU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66960" y="761760"/>
            <a:ext cx="7210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THE STRUCTURAL SKELETON OF A VEHIC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25560" y="761760"/>
            <a:ext cx="7291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OF A FLIGHT LEAVING LATE AT NIGHT AND ARRIVING THE NEXT MOR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27080" y="761760"/>
            <a:ext cx="7089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UNTAIN WAS HOME TO THE 12 GODS OF GREEK MYTHOLOG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39960" y="762120"/>
            <a:ext cx="7264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HERO DRESSES IN RED EXCEPT FOR THE LIGHTNING BOLT LOGO ON HIS CH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08-29T16:39:03Z</dcterms:modified>
  <cp:revision>395</cp:revision>
  <dc:subject/>
  <dc:title>Slide 1</dc:title>
</cp:coreProperties>
</file>