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50CF-2A63-454B-9BA2-D35FD01FD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BAA5-31DA-44BA-A8FE-70C70CAF4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5DCB-30BA-4850-AF1F-C103FC580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7613-997F-4747-A038-1417EAA5E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40B8-F77A-4AEB-8439-05F56498B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A62F-FF26-494F-BE16-FE1CA25AD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F49A-8E6A-44E6-AEA4-8EBE250FC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F17D-3521-4092-A8D4-F00534260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4015-5D89-4BED-A93D-496944570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9933-C910-4E52-9074-311A088F7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D3C3-C7B7-4ADD-AD9D-0DF05140F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876A-FD61-4C07-AED0-90A2D3AC6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E496-17F4-4A3B-8982-08457F831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A8C9-185C-4C30-BE1A-9D05CCDDE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4549-DE5E-411D-8DCB-6A8CF9C99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3055A-1C71-4797-89F0-691FD457D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269E-206D-4529-ADC4-92FAFC4F8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D675-685B-4FF2-A666-0E2A7FA29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4E1F-A0A5-4E51-A33D-CB8E80DCE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69C1-E0A0-4A5D-B460-E16ED63A1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FA57-A7A1-47D3-90C0-69CE5B4E4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EEC8-4884-4CB4-AC05-72A53F5DB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8023-00F7-419F-AFFB-63F0B3F09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0666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86880" y="761760"/>
            <a:ext cx="77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TITLE OF THE QUIRKY 1990-1995 TV SHOW ABOUT LIFE IN ALASK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479520" y="4875120"/>
            <a:ext cx="371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38080" y="1219320"/>
            <a:ext cx="2838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WER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1"/>
          <a:stretch/>
        </p:blipFill>
        <p:spPr>
          <a:xfrm>
            <a:off x="4952880" y="533520"/>
            <a:ext cx="371160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01880" y="762120"/>
            <a:ext cx="7140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OMPACT CAR THAT FORD MANUFACTU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G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09760" y="762120"/>
            <a:ext cx="812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NUMBER APPEARED FOR THE FIRST TIME IN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CH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W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90560" y="770040"/>
            <a:ext cx="7562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R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RADE GIRL SCOU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41400" y="762120"/>
            <a:ext cx="725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THE STRUCTURAL SKELETON OF A VEHIC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–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A FLIGHT LEAVING LATE AT NIGHT AND ARRIVING THE NEXT MOR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YMP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71640" y="762120"/>
            <a:ext cx="720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UNTAIN WAS HOME TO THE 12 GODS OF GREEK MYTHO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1760" y="990720"/>
            <a:ext cx="3066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WER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4952880" y="533520"/>
            <a:ext cx="37116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79440" y="4876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58960" y="762120"/>
            <a:ext cx="74246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DRESSES IN RED EXCEPT FOR THE LIGHTNING BOLT LOGO ON HIS CH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NORTHERN)  EXPO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90560" y="762120"/>
            <a:ext cx="7562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TITLE OF THE QUIRKY 1990-1995 TV SHOW ABOUT LIFE IN ALASK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284120" y="4876920"/>
            <a:ext cx="65757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TOGRAPHY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966960" y="761760"/>
            <a:ext cx="7210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OMPACT CAR THAT FORD MANUFACTUR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563400" y="762120"/>
            <a:ext cx="80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NUMBER APPEARED FOR THE FIRST TIME IN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CH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R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RADE GIRL SCOU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66960" y="761760"/>
            <a:ext cx="7210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THE STRUCTURAL SKELETON OF A VEHIC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25560" y="761760"/>
            <a:ext cx="7291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A FLIGHT LEAVING LATE AT NIGHT AND ARRIVING THE NEXT MOR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27080" y="761760"/>
            <a:ext cx="7089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UNTAIN WAS HOME TO THE 12 GODS OF GREEK MYTHOLO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39960" y="762120"/>
            <a:ext cx="7264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DRESSES IN RED EXCEPT FOR THE LIGHTNING BOLT LOGO ON HIS CH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8-29T16:39:03Z</dcterms:modified>
  <cp:revision>395</cp:revision>
  <dc:subject/>
  <dc:title>Slide 1</dc:title>
</cp:coreProperties>
</file>