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CACD-8110-40BE-B571-C58C1BDF5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7E03-A97A-45F8-83AF-869E94F7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B79C-0C9F-49FD-BA73-483501E5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AF93-ACB3-4722-8F75-6D7B8C38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34C4-8787-446E-873A-6BEE1FC28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5C99-F444-4D19-B73D-6CCEF3D0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9BD-443F-4A57-889B-2F3A105C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75E-2F46-42AA-84EB-5D319F75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F49E-DF8F-487D-856D-075E9100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27FB-1F5A-4D84-A048-099974F1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011-C10D-4223-8FF2-EA1B7C0C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2226-B9A2-4EE5-AD25-AFC4D0B2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B21-6B96-4A8F-A45E-65622EFF5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92C9-6A02-4036-AB67-EF8B035E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8BA7-ABC9-43E7-85AA-FF25E9F3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9EF1-42C2-44AE-B20A-8C0074BB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EE9A-637A-416E-8274-1AF12410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0951-75F7-4090-A900-B1BDF777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295C-1A6E-48D1-9CE5-7E215AE92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D10-59C9-4729-A1AC-4D8E8761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0A50-2D36-4782-A745-2AD6AEC9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E08-6868-4720-8DA3-F90F2A410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C910-5FB8-45A9-82E1-582E7FCCB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QUIRKY 1990-1995 TV SHOW ABOUT LIFE IN ALAS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79520" y="4875120"/>
            <a:ext cx="371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1219320"/>
            <a:ext cx="2838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7116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01880" y="762120"/>
            <a:ext cx="714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MPACT CAR THAT FORD MANUFA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9760" y="762120"/>
            <a:ext cx="81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UMBER APPEARED FOR THE FIRST TIME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7004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 GIRL SCOU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STRUCTURAL SKELETON OF A VEHI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–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A FLIGHT LEAVING LATE AT NIGHT AND ARRIVING THE NEXT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WAS HOME TO THE 12 GODS OF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1760" y="990720"/>
            <a:ext cx="306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711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7944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58960" y="762120"/>
            <a:ext cx="7424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DRESSES IN RED EXCEPT FOR THE LIGHTNING BOLT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RTHERN)  EXP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90560" y="762120"/>
            <a:ext cx="7562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QUIRKY 1990-1995 TV SHOW ABOUT LIFE IN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84120" y="4876920"/>
            <a:ext cx="65757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GRAPHY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MPACT CAR THAT FORD MANUFAC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63400" y="76212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UMBER APPEARED FOR THE FIRST TIME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 GIRL SCOU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STRUCTURAL SKELETON OF A VEHI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25560" y="761760"/>
            <a:ext cx="729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A FLIGHT LEAVING LATE AT NIGHT AND ARRIVING THE NEXT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7080" y="761760"/>
            <a:ext cx="708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WAS HOME TO THE 12 GODS OF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9960" y="762120"/>
            <a:ext cx="726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DRESSES IN RED EXCEPT FOR THE LIGHTNING BOLT LOGO ON HIS C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39:03Z</dcterms:modified>
  <cp:revision>395</cp:revision>
  <dc:subject/>
  <dc:title>Slide 1</dc:title>
</cp:coreProperties>
</file>