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194-8E22-4906-96DA-5807965E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2B7-9267-4150-AB9C-7732786D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16C-6DC2-4D3D-8883-C4A74ABB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1EC6-D5CE-4E67-902D-D77CE9970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DD12-F1FC-4BCF-B8AD-0FEDA1C6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45E-EF3E-4656-A1A8-00E4BB72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1D3-6483-4506-828A-7ABD1809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ACD7-5FBC-43D6-8EF5-87467823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6716-0877-49E9-8A16-58021AB7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6FE-FC05-4B53-A81F-136E1093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2FA-09AA-440E-AA46-32537B9B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835-087B-47B6-86BE-C63ED80F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D43C-CBE5-4E20-A07C-B0F833B8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5FE9-96DE-4151-8689-6C4DF0AC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046-BB70-41C7-A2ED-028EEA14B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160-DED3-43DA-BC7B-3CA596A9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EBD9-09CA-4F2C-97AE-68A0317A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CB6-364A-4122-BFEA-D3B19CD8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050F-C8B0-4735-BEA7-3D8C02B5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41E4-CC17-4A5A-9337-4F01C1D9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505E-29F0-4C92-A812-7C3B6D3B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BA1-A273-48FF-834D-47B85B005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730D-6D5E-4A05-A6A9-E0916783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FEMME FATALE ROLES IN THE 40'S FRITZ LANG FILMS "MAN HUNT", "THE WOMAN IN THE WINDOW", AND "SCARLET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A  DEL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DICAL EXAMINER MEGAN HUNT ON "BODY OF PROOF" AND CRYSTAL HARRIS ON "HAND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G.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BETWEEN WOODROW WILSON AND CALVIN COOL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PATRICK  HA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DOOGIE HOW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52560" y="4873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HUCKABE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71720" y="758880"/>
            <a:ext cx="700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ER  T.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26920" y="762120"/>
            <a:ext cx="7488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LEADER IN THE AFRICAN-AMERICAN COMMUNITY FROM 1890 TO 19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90440" y="7621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GH GRANT IN "TWO WEEKS NOTICE" AND WITH BILL PULLMAN IN "WHILE YOU WERE SLEEP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VIN KLINE IN "FRENCH KISS" AND WITH HUGH JACKMAN IN "KATE AND LEOP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DICAL EXAMINER MEGAN HUNT ON "BODY OF PROOF" AND CRYSTAL HARRIS ON "HAND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U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CUBA FROM 2008 TO 2018 AFTER HIS BROTHER W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4000" y="762120"/>
            <a:ext cx="849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FEMME FATALE ROLES IN THE 40'S FRITZ LANG FILMS "MAN HUNT", "THE WOMAN IN THE WINDOW", AND "SCARLET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5720" y="4343400"/>
            <a:ext cx="79725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2020  DEMOCRATIC  CANDI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BETWEEN WOODROW WILSON AND CALVIN COOL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DOOGIE HOW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LEADER IN THE AFRICAN-AMERICAN COMMUNITY FROM 1890 TO 19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3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GH GRANT IN "TWO WEEKS NOTICE" AND WITH BILL PULLMAN IN "WHILE YOU WERE SLEEP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VIN KLINE IN "FRENCH KISS" AND WITH HUGH JACKMAN IN "KATE AND LEOP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CUBA FROM 2008 TO 2018, AFTER HIS BROTHER W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1:16Z</dcterms:modified>
  <cp:revision>388</cp:revision>
  <dc:subject/>
  <dc:title>Slide 1</dc:title>
</cp:coreProperties>
</file>