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C818-053A-4926-9DD7-DF916918E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39B4-6932-44E4-878C-5374DABCF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7972-31DF-44B2-837F-D55776D8C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692C-FAF4-4A40-A121-87AA3905A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09C0-42FD-4EC2-8215-0534F69B5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DE20-C8BA-4432-B92B-6EF0E5608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EEB1-5309-43DF-9FDB-C50D576A7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01C7-4312-4C8B-85AE-15F0A3E64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6620-474F-4D1E-BACE-20EAC0A18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2796-F0B4-4E3B-B6B9-88F2AFEB0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46BB-7931-4942-B6DF-1637EEEB4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4AC9-3F31-4F1D-8827-CD70846AF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CBEC-0578-4367-B172-75E39F8D8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110E-598B-4766-976D-19DBA215D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A83B-CBF3-4554-8DE7-A770E7A69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CF80-7673-4457-BA17-0E203633C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1FE6-0CDD-45EC-9480-039615D6F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F928-9EEE-4BDB-A9D6-BBE741B43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7D75-8769-4393-9970-BABAD35C3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3733-D8A1-4A4A-A722-FAFD30508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5B6A-0E7E-4380-942B-000B16405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C845-9A15-4562-A228-1F86101BC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1E4E-BA0D-485C-9611-62CFA02D9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7760" y="761760"/>
            <a:ext cx="844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FEMME FATALE ROLES IN THE 40'S FRITZ LANG FILMS "MAN HUNT", "THE WOMAN IN THE WINDOW", AND "SCARLET STRE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A  DEL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85760" y="762120"/>
            <a:ext cx="6972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EDICAL EXAMINER MEGAN HUNT ON "BODY OF PROOF" AND CRYSTAL HARRIS ON "HAND OF G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REN  G.  HAR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9440" y="762120"/>
            <a:ext cx="7845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U.S. PRESIDENT BETWEEN WOODROW WILSON AND CALVIN COOLI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PATRICK  HAR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71640" y="76500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ON "DOOGIE HOWSER, M.D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952560" y="48736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H  HUCKABEE  S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71720" y="758880"/>
            <a:ext cx="7000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WHITE HOUSE PRESS SECRETARY 2017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3560" y="4876920"/>
            <a:ext cx="8153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KER  T.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26920" y="762120"/>
            <a:ext cx="7488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OMINANT LEADER IN THE AFRICAN-AMERICAN COMMUNITY FROM 1890 TO 19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RA  BUL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90440" y="7621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HUGH GRANT IN "TWO WEEKS NOTICE" AND WITH BILL PULLMAN IN "WHILE YOU WERE SLEEP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G  RY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KEVIN KLINE IN "FRENCH KISS" AND WITH HUGH JACKMAN IN "KATE AND LEOP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EDICAL EXAMINER MEGAN HUNT ON "BODY OF PROOF" AND CRYSTAL HARRIS ON "HAND OF G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UL  CAS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52320" y="762120"/>
            <a:ext cx="783936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CUBA FROM 2008 TO 2018 AFTER HIS BROTHER W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BENN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24000" y="762120"/>
            <a:ext cx="8496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FEMME FATALE ROLES IN THE 40'S FRITZ LANG FILMS "MAN HUNT", "THE WOMAN IN THE WINDOW", AND "SCARLET STR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85720" y="4343400"/>
            <a:ext cx="797256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2020  DEMOCRATIC  CANDID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38280" y="761760"/>
            <a:ext cx="786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U.S. PRESIDENT BETWEEN WOODROW WILSON AND CALVIN COOLID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ON "DOOGIE HOWSER, M.D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69840" y="762120"/>
            <a:ext cx="720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WHITE HOUSE PRESS SECRETARY 2017-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38360" y="762120"/>
            <a:ext cx="7667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OMINANT LEADER IN THE AFRICAN-AMERICAN COMMUNITY FROM 1890 TO 19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01600" y="761760"/>
            <a:ext cx="8739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HUGH GRANT IN "TWO WEEKS NOTICE" AND WITH BILL PULLMAN IN "WHILE YOU WERE SLEEP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KEVIN KLINE IN "FRENCH KISS" AND WITH HUGH JACKMAN IN "KATE AND LEOP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35120" y="762120"/>
            <a:ext cx="7673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CUBA FROM 2008 TO 2018, AFTER HIS BROTHER W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29T16:51:16Z</dcterms:modified>
  <cp:revision>388</cp:revision>
  <dc:subject/>
  <dc:title>Slide 1</dc:title>
</cp:coreProperties>
</file>