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293D-39E3-4E04-93DA-AF9BBC0A5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11B0-D780-4722-8A27-C11BEE4AB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BD38-5D14-45A1-8CDD-3D8151FC3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D17D-9869-4A3D-8158-D965A43A5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05CE-69FB-49FD-8174-4D285417B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2646-409C-41B1-8B9F-0FFEDB72B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F5E4-A968-4BED-84A2-AF3458582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81DB-2793-4715-BE12-2F29AF175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1E2F-0857-4A81-AC6A-92A2C765F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36DE-7ADD-49D5-ABAD-6A7D910A2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5676-752A-48E8-BC83-82BD79812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1FE-2966-482C-807A-0E5FD9505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5D8B-966D-45D5-9A00-13C8ED44D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CAA1-4BDE-4DE9-A2F2-46B2DF2B4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9A63-E1AB-44E5-A238-DA0E05DFC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96F0-4FF0-4152-9075-ABF2B79B0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F016-BA1E-40A2-90B0-69492BCFF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39B3-CF93-4873-994C-F0164CB4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7468-06A3-45A1-A1F1-762C54CE7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A7E6-39CE-403B-9911-F0F34058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3A60-1799-4442-9B10-FF37C87EA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6C47-CF00-4A85-9B29-E281F39EA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FBA-E2A8-41AB-B156-10814589C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7760" y="761760"/>
            <a:ext cx="844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FEMME FATALE ROLES IN THE 40'S FRITZ LANG FILMS "MAN HUNT", "THE WOMAN IN THE WINDOW", AND "SCARLET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A  DEL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DICAL EXAMINER MEGAN HUNT ON "BODY OF PROOF" AND CRYSTAL HARRIS ON "HAND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G.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BETWEEN WOODROW WILSON AND CALVIN COOL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PATRICK  HA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DOOGIE HOW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52560" y="48736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HUCKABE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71720" y="758880"/>
            <a:ext cx="700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356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ER  T.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26920" y="762120"/>
            <a:ext cx="7488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LEADER IN THE AFRICAN-AMERICAN COMMUNITY FROM 1890 TO 19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90440" y="7621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GH GRANT IN "TWO WEEKS NOTICE" AND WITH BILL PULLMAN IN "WHILE YOU WERE SLEEP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VIN KLINE IN "FRENCH KISS" AND WITH HUGH JACKMAN IN "KATE AND LEOP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DICAL EXAMINER MEGAN HUNT ON "BODY OF PROOF" AND CRYSTAL HARRIS ON "HAND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U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CUBA FROM 2008 TO 2018 AFTER HIS BROTHER W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4000" y="762120"/>
            <a:ext cx="849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FEMME FATALE ROLES IN THE 40'S FRITZ LANG FILMS "MAN HUNT", "THE WOMAN IN THE WINDOW", AND "SCARLET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85720" y="4343400"/>
            <a:ext cx="79725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2020  DEMOCRATIC  CANDI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BETWEEN WOODROW WILSON AND CALVIN COOL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DOOGIE HOWSER, M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69840" y="762120"/>
            <a:ext cx="720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OMINANT LEADER IN THE AFRICAN-AMERICAN COMMUNITY FROM 1890 TO 19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01600" y="761760"/>
            <a:ext cx="8739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GH GRANT IN "TWO WEEKS NOTICE" AND WITH BILL PULLMAN IN "WHILE YOU WERE SLEEP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VIN KLINE IN "FRENCH KISS" AND WITH HUGH JACKMAN IN "KATE AND LEOP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CUBA FROM 2008 TO 2018, AFTER HIS BROTHER W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1:16Z</dcterms:modified>
  <cp:revision>388</cp:revision>
  <dc:subject/>
  <dc:title>Slide 1</dc:title>
</cp:coreProperties>
</file>