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4648-8756-4174-B3D8-C44B142DD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597D-2C7A-4DD6-988D-0204B3BF1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47C9-90F6-4053-B1AD-C0E6E54EB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00B6-01D8-430D-9FB8-089D67DC9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3522-D8EC-44F8-BF4E-B93E06986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517A-63FA-4C68-B11B-0F73E0619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3B2B-CF24-4292-AEA0-5C80F3C47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E64D-A56E-45B2-8B6D-02EDE08A4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23B3-FEA7-48E3-B176-EF9FDCF8B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4037-CA38-4444-8D4B-C1D5916CE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7CB3-BE21-46D2-880E-13A1CDEEF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ED55-1572-42C2-AE5F-B7BA93287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20B8-0E2E-4C27-BCD0-B71C11F2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231F-851F-48F0-96AE-FDE407F07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BB9D-D7C0-45D8-97B5-3941B6CEC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940C-E57E-4D8E-B474-7CB0C306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BB83-628D-46FB-9586-DD3215302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A9AD-333B-4829-BF87-880EC56AB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20EF-2A1B-4D42-9A28-515CCA128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6DD3-7FCA-4DC1-B724-AC6421078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4E32-3498-4726-A22D-EF728251B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016B-6CEE-42C9-AABE-41C7BC4AF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346C-5074-48FA-9B62-4E512D92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RMY DOCTO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47600" y="762120"/>
            <a:ext cx="7048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EFINED AS THE LENGTH LIGHT TRAVELS IN 1 / 299,792,45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82640" y="762120"/>
            <a:ext cx="757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ALD TRUMP AND JAMES POLK ARE THE ONLY U.S. PRESIDENTS WHO HAVE NOT OWN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14240" y="7650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TATISTICAL DISTRIBUTION OFTEN CALLED "THE BELL CUR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66720" y="75888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HE PLACE WHERE EQUIPMENT IS ATTACHED, A LARGE HILL, OR A RIDING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84040" y="762120"/>
            <a:ext cx="857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40 JIMMY BUFFETT SONG CONTAINS THE LYRICS "CAN'T YOU FEEL 'EM CIRCLIN', HONEY, CAN'T YOU FEEL 'EM SWIMMIN' ARO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IRPORT CODE FOR THE LARGEST AIRPORT IN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OF A ROMAN SUN GOD AND A NORSE SUN GODDESS IS USED BY ASTRONOMERS TO REFER TO OUR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EFINED AS THE LENGTH LIGHT TRAVELS IN 1 /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99,792,45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SECO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2320" y="762120"/>
            <a:ext cx="78393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BALL", OR THE NAME OF A WEAPON CONSISTING OF BALLS AT THE END OF INTERCONNECTED 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RMY DOCTO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84120" y="4343400"/>
            <a:ext cx="65757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THAT  CAN  FOLLOW  "PARA–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ALD TRUMP AND JAMES POLK ARE THE ONLY U.S. PRESIDENTS WHO HAVE NOT OWN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47720" y="762120"/>
            <a:ext cx="764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TATISTICAL DISTRIBUTION OFTEN CALLED "THE BELL CUR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HE PLACE WHERE EQUIPMENT IS ATTACHED, A LARGE HILL, OR A RIDING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33360" y="7617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40 JIMMY BUFFETT SONG CONTAINS THE LYRICS "CAN'T YOU FEEL 'EM CIRCLIN', HONEY, CAN'T YOU FEEL 'EM SWIMMIN' AROU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IRPORT CODE FOR THE LARGEST AIRPORT IN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7080" y="761760"/>
            <a:ext cx="708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OF A ROMAN SUN GOD AND A NORSE SUN GODDESS IS USED BY ASTRONOMERS TO REFER TO OUR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BALL", OR THE NAME OF A WEAPON CONSISTING OF BALLS AT THE END OF INTERCONNECTED C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29T16:51:48Z</dcterms:modified>
  <cp:revision>390</cp:revision>
  <dc:subject/>
  <dc:title>Slide 1</dc:title>
</cp:coreProperties>
</file>