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E26E-EDB9-4329-BFCD-778E19BC5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F73A-F634-4870-843F-7CA30D35F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57D6-E14D-4B56-A88F-E1131AA42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BF8B-E01F-4F62-B869-6FFD6F4CD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C97A-296F-496F-ACF6-B8864CED5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EFB3-E133-4FF4-91BC-F3A39B039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7A5F-8853-46BB-97E9-1A926AFE3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408A-270E-40B0-B1FF-C13C75D35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CC27-6930-431F-ACD1-013F4ECF1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9B1D-4B37-492D-BDDF-48931A11D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2535-49B0-46D6-90ED-4A473631D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AF52-421E-40DF-A5CD-EAAB6C9DF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D36C-B14B-46A3-9FAA-250239662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D305-AB84-4F22-96E2-BC68FC502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704D-2E43-49F2-B9DB-79AB95557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B0F3-01E0-4049-A947-916B1403E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7A79-E669-47B7-A3D1-2E89FEF82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3B79-E499-4942-A197-E97AB8498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6A3C-DE05-4160-B8F6-DC6C13F06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A04F-9859-4948-A839-59028A26D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9E15-1338-4F39-943C-89B13432F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7E11-F473-4AE8-B901-586E671A4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216A-84AD-4FF0-83C5-F0D8C7F42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 ARMY DOCTO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47600" y="762120"/>
            <a:ext cx="7048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DEFINED AS THE LENGTH LIGHT TRAVELS IN 1 / 299,792,45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SEC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82640" y="762120"/>
            <a:ext cx="757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ALD TRUMP AND JAMES POLK ARE THE ONLY U.S. PRESIDENTS WHO HAVE NOT OWN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14240" y="7650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TATISTICAL DISTRIBUTION OFTEN CALLED "THE BELL CUR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66720" y="758880"/>
            <a:ext cx="781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THE PLACE WHERE EQUIPMENT IS ATTACHED, A LARGE HILL, OR A RIDING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84040" y="762120"/>
            <a:ext cx="857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40 JIMMY BUFFETT SONG CONTAINS THE LYRICS "CAN'T YOU FEEL 'EM CIRCLIN', HONEY, CAN'T YOU FEEL 'EM SWIMMIN' AROU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AIRPORT CODE FOR THE LARGEST AIRPORT IN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OF A ROMAN SUN GOD AND A NORSE SUN GODDESS IS USED BY ASTRONOMERS TO REFER TO OUR S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DEFINED AS THE LENGTH LIGHT TRAVELS IN 1 /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99,792,45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SECO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52320" y="762120"/>
            <a:ext cx="78393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BALL", OR THE NAME OF A WEAPON CONSISTING OF BALLS AT THE END OF INTERCONNECTED C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D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 ARMY DOCTO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84120" y="4343400"/>
            <a:ext cx="657576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THAT  CAN  FOLLOW  "PARA–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38280" y="761760"/>
            <a:ext cx="78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ALD TRUMP AND JAMES POLK ARE THE ONLY U.S. PRESIDENTS WHO HAVE NOT OWNED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47720" y="762120"/>
            <a:ext cx="7648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TATISTICAL DISTRIBUTION OFTEN CALLED "THE BELL CUR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THE PLACE WHERE EQUIPMENT IS ATTACHED, A LARGE HILL, OR A RIDING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33360" y="761760"/>
            <a:ext cx="8477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40 JIMMY BUFFETT SONG CONTAINS THE LYRICS "CAN'T YOU FEEL 'EM CIRCLIN', HONEY, CAN'T YOU FEEL 'EM SWIMMIN' AROU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AIRPORT CODE FOR THE LARGEST AIRPORT IN CALIFOR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7080" y="761760"/>
            <a:ext cx="7089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OF A ROMAN SUN GOD AND A NORSE SUN GODDESS IS USED BY ASTRONOMERS TO REFER TO OUR S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BALL", OR THE NAME OF A WEAPON CONSISTING OF BALLS AT THE END OF INTERCONNECTED C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29T16:51:48Z</dcterms:modified>
  <cp:revision>390</cp:revision>
  <dc:subject/>
  <dc:title>Slide 1</dc:title>
</cp:coreProperties>
</file>