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4595-9ACB-4FC3-895A-9AD46CCB2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8901-4ACF-4B76-9677-E24B9A53B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375-3CA9-4A9C-8802-D603FF10A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B1D8-C191-495E-9189-8499ADFF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2264-227E-4592-9CBB-219D8675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F2E5-EE64-4C31-8E8B-495D91594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F26F-B51F-4696-9463-0A62B612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34C-1887-4CE4-99A4-DAF45B609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22B-6C59-4FAB-9EF8-AD936ABF6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5490-53D9-45B4-B1EC-1BF44EF8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6ADB-0BDF-4F32-9DD8-5084A1AB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BD84-DCE0-4F3F-A0C5-8B4CDF44D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6BA5-6D4A-4AD6-BE53-2812A785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34EF-12E0-4572-B5FE-F1A52838A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6975-4C41-4A8D-A9B7-2812D623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B49C-26EB-4A34-A864-135D21213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1EF-0D92-420E-BE78-3D17A6316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2005-CC12-408E-89BE-231B2A5CE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1950-018B-4135-A0A8-A60F8B4D8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4818-2A5E-4B27-8790-F261B5BF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28F-2F84-43CD-A661-99537F55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71EF-3837-4D16-9A2D-531A57D8E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4A9D-0B3E-423C-9A14-C17E1771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82640" y="762120"/>
            <a:ext cx="757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14240" y="76500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66720" y="75888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EFINED AS THE LENGTH LIGHT TRAVELS IN 1 /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99,792,45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SECO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 ARMY DOCT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84120" y="4343400"/>
            <a:ext cx="657576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FOLLOW  "PARA–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ALD TRUMP AND JAMES POLK ARE THE ONLY U.S. PRESIDENTS WHO HAVE NOT OWN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7720" y="762120"/>
            <a:ext cx="76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TATISTICAL DISTRIBUTION OFTEN CALLED "THE BELL CUR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HE PLACE WHERE EQUIPMENT IS ATTACHED, A LARGE HILL, OR A RIDING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40 JIMMY BUFFETT SONG CONTAINS THE LYRICS "CAN'T YOU FEEL 'EM CIRCLIN', HONEY, CAN'T YOU FEEL 'EM SWIMMIN' A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THE LARGEST AIRPORT IN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7080" y="761760"/>
            <a:ext cx="708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ASTRONOMERS TO REFER TO OUR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BALL", OR THE NAME OF A WEAPON CONSISTING OF BALLS AT THE END OF INTERCONNECTED 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29T16:51:48Z</dcterms:modified>
  <cp:revision>390</cp:revision>
  <dc:subject/>
  <dc:title>Slide 1</dc:title>
</cp:coreProperties>
</file>