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3407-9C49-4233-8419-D0B96577E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DA1A-E027-4B25-A918-09AFC037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902-C723-4452-B802-A859A1D24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CF32-4E86-4FF4-A25F-8C29B158B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8C2B-1D45-476E-A06F-A7B54228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7BE1-453A-40CF-8B64-37D06E6E4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D852-7E81-4F21-8189-3F7474214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315A-7253-4581-AB87-D61C5773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5353-7141-412C-B3F5-828DC4F47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9E96-5EB7-4782-BFEA-39A58031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500-04A9-4B12-A5AA-CA883E45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5FC7-7CA9-4348-91A3-7CD83E0AB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28F9-1249-4435-8981-E48CDB7D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51FA-6F80-42D1-AD67-714912970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8830-CB4A-485A-9420-B17DE0E3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8079-02D2-4BFB-B2AC-186039498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A85-1872-4938-A144-F8BA7511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6427-3601-4313-94CA-D6323F0F1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40F5-83FB-4D5A-BAA4-92A504AD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D910-3E8E-4D66-9C79-2F7491180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A3B5-9412-45E8-ABF7-6F72C23A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3C5-782E-49FE-9E5A-0AD62344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248C-669E-40C6-B2E4-DD411FE86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8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14240" y="762120"/>
            <a:ext cx="7715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2800" y="76212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9920" y="762120"/>
            <a:ext cx="880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GER  H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TR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AUCTION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L  B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5120" y="762120"/>
            <a:ext cx="76737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PHOTOGRAPHY EVENT, AN IMMATURE PLANT, OR SOMETHING YOU DO WITH A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3733920"/>
            <a:ext cx="797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NIMAL  NOISES      (BAY,  SING,  COO,  BUZZ,  BARK,  HISS,  TRILL,  BELLOW,   HOO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ENDY'S, WHAT IS    THE NAME OF THEIR SMALLEST HAMBURGER, WITH ONLY ONE PA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8640" y="762120"/>
            <a:ext cx="768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RON HOWARD HAD THE LARGEST AVERAGE AGE OF ACTORS AND ACTRE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WALK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5760" y="762120"/>
            <a:ext cx="8772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THE END OF EVERY SHOW, WHAT GAME SHOW HOST WOULD REMIND VIEWERS TO SPAY AND NEUTER THEIR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WAS ACCUSED OF BEING A SOVIET SPY IN 1948, AND CONVICTED OF PERJURY IN 195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2440" y="761760"/>
            <a:ext cx="66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MILLION TIMES ONE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5400" y="762120"/>
            <a:ext cx="769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AUTHOR TO WIN BOTH A PULITZER PRIZE AND A NOBEL PRIZE FOR LITERATURE IN THE SAME YEAR,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2:32Z</dcterms:modified>
  <cp:revision>393</cp:revision>
  <dc:subject/>
  <dc:title>Slide 1</dc:title>
</cp:coreProperties>
</file>