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A1B9-D27B-4354-82E4-471636E6C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24DB-D74D-4CF3-BBD9-5FAAFB536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463F-DBE8-43FC-B09A-DBDB4322B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C9E2-3119-4554-A805-3090F57D9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B29E-2A4B-4A82-93C4-8C0E2C2E8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A1C2-83A6-4CCF-BA3A-77BE8FA6F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1585-56AB-4E45-A2EE-AE8747A75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2C21-00D6-48A7-83A7-26608A66F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27B7-A5EF-414F-BCC3-87724FDA5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5D24-9A02-4C4D-8ADE-523FEA500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3139-7F3B-4D30-B334-7631D11C6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E05E-BD16-45AD-B754-95C6C769A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6752-B459-45ED-9E12-B2C5D7BAA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24F9-24B1-454B-AC63-4DA6498BC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B44A-56E2-49DF-BE47-B90C99373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C04C-3C5D-4F6D-ACC8-6BB0DC509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1993-5E74-48D7-9DB7-1324517C9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F00E-98D7-4A36-A99A-ECBAC6BA3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4037-D9CA-40CF-90E2-6B90FC2D0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10D4-BDE8-4494-B5FE-17A07A246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5E25-0302-4A89-9487-8E3996904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408A-4862-43E5-810D-B539A7692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60BC-BF54-4055-A775-C8C5BC0E8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0666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 (THANKS MARGI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2160" y="761760"/>
            <a:ext cx="7158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A PHOTOGRAPHY EVENT, AN IMMATURE PLANT, OR SOMETHING YOU DO WITH A BASKETBA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B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14240" y="762120"/>
            <a:ext cx="7715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'S LARGEST AUCTION SI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N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30320" y="762120"/>
            <a:ext cx="70833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ENDY'S, WHAT IS    THE NAME OF THEIR SMALLEST HAMBURGER, WITH ONLY ONE PAT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C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12800" y="762120"/>
            <a:ext cx="7718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DIRECTED BY RON HOWARD HAD THE LARGEST AVERAGE AGE OF ACTORS AND ACTRESS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ZZ  ALDR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524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ECOND MAN TO WALK ON THE MO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BAR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69920" y="762120"/>
            <a:ext cx="880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THE END OF EVERY SHOW, WHAT GAME SHOW HOST WOULD REMIND VIEWERS TO SPAY AND NEUTER THEIR PE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GER  HI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04920" y="762120"/>
            <a:ext cx="85341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AMOUSLY WAS ACCUSED OF BEING A SOVIET SPY IN 1948, AND CONVICTED OF PERJURY IN 195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  TRILL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71640" y="762120"/>
            <a:ext cx="7200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ONE MILLION TIMES ONE M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23800" y="762120"/>
            <a:ext cx="8096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'S LARGEST AUCTION SI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UL  BEL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35120" y="762120"/>
            <a:ext cx="767376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AUTHOR TO WIN BOTH A PULITZER PRIZE AND A NOBEL PRIZE FOR LITERATURE IN THE SAME YEAR, 197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57320" y="762120"/>
            <a:ext cx="7029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A PHOTOGRAPHY EVENT, AN IMMATURE PLANT, OR SOMETHING YOU DO WITH A BASKETB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85720" y="3733920"/>
            <a:ext cx="79725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ANIMAL  NOISES      (BAY,  SING,  COO,  BUZZ,  BARK,  HISS,  TRILL,  BELLOW,   HOOT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19160" y="761760"/>
            <a:ext cx="7105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ENDY'S, WHAT IS    THE NAME OF THEIR SMALLEST HAMBURGER, WITH ONLY ONE PAT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8640" y="762120"/>
            <a:ext cx="7685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DIRECTED BY RON HOWARD HAD THE LARGEST AVERAGE AGE OF ACTORS AND ACTRESS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33400" y="762120"/>
            <a:ext cx="7477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ECOND MAN TO WALK ON THE MO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85760" y="762120"/>
            <a:ext cx="8772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THE END OF EVERY SHOW, WHAT GAME SHOW HOST WOULD REMIND VIEWERS TO SPAY AND NEUTER THEIR PE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276120" y="761760"/>
            <a:ext cx="8591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AMOUSLY WAS ACCUSED OF BEING A SOVIET SPY IN 1948, AND CONVICTED OF PERJURY IN 195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252440" y="761760"/>
            <a:ext cx="6639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ONE MILLION TIMES ONE MILL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25400" y="762120"/>
            <a:ext cx="7693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AUTHOR TO WIN BOTH A PULITZER PRIZE AND A NOBEL PRIZE FOR LITERATURE IN THE SAME YEAR, 197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0-08-29T16:52:32Z</dcterms:modified>
  <cp:revision>393</cp:revision>
  <dc:subject/>
  <dc:title>Slide 1</dc:title>
</cp:coreProperties>
</file>