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41F8-C1D5-4076-82FE-FDF822F0B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90B0-F553-4456-9BA2-1155C818E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2548-EB3A-45F3-93D9-AF3C57C69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D517-25E7-40F5-85AF-C4701AF21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0CC0-3D21-486C-B4DB-7786CFB30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EDE9-197C-4465-9166-F17D631B3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4B9D-3EE0-4B42-A8BC-208C12E0B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E047-AB8F-41A2-8B26-39FBCCD73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7938-0BDD-4DEF-97EA-96F8F61AE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CFA4-3BD4-4987-B657-1369D8198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3432-9AE9-4420-AD4C-38108859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98C0-4328-40EC-8E85-885B27ABD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8BF9-8159-4386-9DD2-06343EBE1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1442-4045-4530-AE6A-106AFE2AA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FE68-3154-4D36-95F9-BE2C09AF7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48C6-EF8F-4025-B228-11BE07C3E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BA02-4573-4729-AF77-D10F57E07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39E6-14D3-4316-8731-725804C38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DAE8-A96C-4088-B999-D1CD167A0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D428-E9CA-4597-B69A-7DD504B9E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E9DB-62B4-4079-AB7B-D2FF14618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81A2-3284-4F97-9ACC-99C59114B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6882-19A7-427D-848A-70D697CC5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2160" y="761760"/>
            <a:ext cx="7158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PHOTOGRAPHY EVENT, AN IMMATURE PLANT, OR SOMETHING YOU DO WITH A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14240" y="762120"/>
            <a:ext cx="7715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AUCTION 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0320" y="762120"/>
            <a:ext cx="708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ENDY'S, WHAT IS    THE NAME OF THEIR SMALLEST HAMBURGER, WITH ONLY ONE PAT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12800" y="762120"/>
            <a:ext cx="771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RON HOWARD HAD THE LARGEST AVERAGE AGE OF ACTORS AND ACTRES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ZZ  ALD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WALK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BA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9920" y="762120"/>
            <a:ext cx="880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THE END OF EVERY SHOW, WHAT GAME SHOW HOST WOULD REMIND VIEWERS TO SPAY AND NEUTER THEIR 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GER  H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WAS ACCUSED OF BEING A SOVIET SPY IN 1948, AND CONVICTED OF PERJURY IN 195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TR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MILLION TIMES ONE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AUCTION S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UL  B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35120" y="762120"/>
            <a:ext cx="76737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AUTHOR TO WIN BOTH A PULITZER PRIZE AND A NOBEL PRIZE FOR LITERATURE IN THE SAME YEAR, 19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57320" y="762120"/>
            <a:ext cx="7029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PHOTOGRAPHY EVENT, AN IMMATURE PLANT, OR SOMETHING YOU DO WITH A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85720" y="3733920"/>
            <a:ext cx="797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ANIMAL  NOISES      (BAY,  SING,  COO,  BUZZ,  BARK,  HISS,  TRILL,  BELLOW,   HOO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19160" y="761760"/>
            <a:ext cx="710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ENDY'S, WHAT IS    THE NAME OF THEIR SMALLEST HAMBURGER, WITH ONLY ONE PAT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8640" y="762120"/>
            <a:ext cx="768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RON HOWARD HAD THE LARGEST AVERAGE AGE OF ACTORS AND ACTRES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3400" y="762120"/>
            <a:ext cx="74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WALK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85760" y="762120"/>
            <a:ext cx="8772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THE END OF EVERY SHOW, WHAT GAME SHOW HOST WOULD REMIND VIEWERS TO SPAY AND NEUTER THEIR 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WAS ACCUSED OF BEING A SOVIET SPY IN 1948, AND CONVICTED OF PERJURY IN 195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52440" y="761760"/>
            <a:ext cx="6639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MILLION TIMES ONE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5400" y="7621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AUTHOR TO WIN BOTH A PULITZER PRIZE AND A NOBEL PRIZE FOR LITERATURE IN THE SAME YEAR, 19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29T16:52:32Z</dcterms:modified>
  <cp:revision>393</cp:revision>
  <dc:subject/>
  <dc:title>Slide 1</dc:title>
</cp:coreProperties>
</file>