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1304-6E22-4DCE-94B0-F19A127A9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AF34-17E2-4D3E-AA7D-8AC8C4CFA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2F79-EE96-4758-982B-BAD564F58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12FD-6EBB-4945-9330-84FF83062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9D59-9449-4D46-B958-F7278B661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0487-6D09-49F2-974B-B4B1D2D55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9D8E-03F2-4D8D-BD3F-7E8093548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F53E-3C41-4C24-9C5C-C5C702249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FB7C-7184-492E-8228-5A4FAD17E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35EF-C6A6-4B1A-9DD0-A598C5F38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81C2-65D5-442C-AA4B-742F7BCB9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0051-71D5-4EDF-871E-E1EEB50FA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DDA3-D0BD-465F-BEA0-68F8A1ECC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EE58-08EF-4CEB-891A-754057064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452B-7865-4CA9-A732-8164075D4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2B5C-44CC-40DC-B55C-61CC2C5B8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7200-D40D-472E-B578-C3D0351BB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63E1-7249-417D-894F-427CAD74E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5B50-BE8C-48BD-9494-59FB60E4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67E6-618E-4763-BE9F-A0E8AE518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732D-348A-43E8-8852-3B9FA1CB9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C016-4706-4826-BB36-9323BC1D6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E52D-6CB5-47C1-BC22-3F815E178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WD-SOURCED ON-LINE DICTIONARY FOUNDED IN 1999 BY A FRESHMAN COMPUTER SCIENCE MAJOR HAS BEEN CALLED "THE ANTI-WIKIPEDI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LVESTER  STAL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ROCK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ENTINE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CHRISTMAS, FOR WHICH HOLIDAY IS THE LARGEST NUMBER OF GREETINGS CARDS GIVE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CTOR  HU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ES MISÉRABLES"? AND "THE HUNCHBACK OF NOTRE D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N OF THE ZODIAC SPANS FROM JULY 23 TO AUGUST 2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EDICT  CUMBERB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SHERLOCK ON TV'S "SHERL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92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  FORD  COPP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76520" y="762120"/>
            <a:ext cx="579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   "THE GODFA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O  CALRISS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BILLIE DEE WILLIAMS PORTRAY IN THE ORIGINAL "STAR WARS" TRILOG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ROCK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SUMED  INNO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0 FILM DID HARRISON FORD PLAY A PROSECUTOR ACCUSED OF MURDERING HIS MIS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RBAN  DICTIO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WD-SOURCED ON-LINE DICTIONARY FOUNDED IN 1999 BY A FRESHMAN COMPUTER SCIENCE MAJOR HAS BEEN CALLED "THE ANTI-WIKIPED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PO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CHRISTMAS, FOR WHICH HOLIDAY IS THE LARGEST NUMBER OF GREETINGS CARDS GIVE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ES MISÉRABLES"? AND "THE HUNCHBACK OF NOTRE D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N OF THE ZODIAC SPANS FROM JULY 23 TO AUGUST 2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SHERLOCK ON TV'S "SHERL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38360" y="7617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   "THE GODFA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BILLIE DEE WILLIAMS PORTRAY IN THE ORIGINAL "STAR WARS" TRILOG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0 FILM DID HARRISON FORD PLAY A PROSECUTOR ACCUSED OF MURDERING HIS MIS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9T19:43:03Z</dcterms:created>
  <dc:creator>Jennifer Budzinski</dc:creator>
  <dc:description/>
  <dc:language>en-US</dc:language>
  <cp:lastModifiedBy>Erich Friedman</cp:lastModifiedBy>
  <dcterms:modified xsi:type="dcterms:W3CDTF">2020-08-24T13:12:49Z</dcterms:modified>
  <cp:revision>362</cp:revision>
  <dc:subject/>
  <dc:title>Slide 1</dc:title>
</cp:coreProperties>
</file>