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19B7-FE06-48A9-B5DA-1AAEB0D8D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0B73-D3A5-4BE2-81A7-83DD4E753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869D-F3A0-4AB8-AA8A-D9385CB7D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4735-C4EF-4503-A662-5EBE281E3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BF85-CB11-419E-826B-508D4E90F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CA70-BF7D-434B-A6B9-E3D98C4A5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D2C6-151C-444D-AF7F-159E1CFF2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57D6-E081-490F-B036-C82883F4A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6281-AEFA-4E21-8293-60C663197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0A00-FC03-4AD1-9968-E66B80823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8BD0-19B1-4C23-835F-3FD633C00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A148-1AAF-4914-82BE-9A05CEB8B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4132-3C40-490D-BCDA-2AE4CDB63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3F7E-A4BA-42D8-9254-63A28DD20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861A-C0DD-45A7-885E-DCC0DB9D5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5709-FB0E-445D-9198-1D662F938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F76A-B89B-4FFD-A74B-DAC1DD9C6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30A0-18A3-48CB-866A-456762087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D12A-F7B5-4164-A387-8CBE89E2C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FB37-0FE5-4BA2-831D-BFEDF0883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B439-B26E-4523-B6FC-54F0ADDDE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94F9-7292-4D0B-A3EC-20754B9C1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F587-051E-4E12-98E0-ADE02FAAF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OWD-SOURCED ON-LINE DICTIONARY FOUNDED IN 1999 BY A FRESHMAN COMPUTER SCIENCE MAJOR HAS BEEN CALLED "THE ANTI-WIKIPEDI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LVESTER  STAL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ROCK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ENTINE'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CHRISTMAS, FOR WHICH HOLIDAY IS THE LARGEST NUMBER OF GREETINGS CARDS GIVE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CTOR  HU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LES MISÉRABLES"? AND "THE HUNCHBACK OF NOTRE D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GN OF THE ZODIAC SPANS FROM JULY 23 TO AUGUST 2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EDICT  CUMBERB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SHERLOCK ON TV'S "SHERL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92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IS  FORD  COPP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676520" y="762120"/>
            <a:ext cx="57909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   "THE GODFAT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O  CALRISS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BILLIE DEE WILLIAMS PORTRAY IN THE ORIGINAL "STAR WARS" TRILOG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ROCK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SUMED  INNOC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0 FILM DID HARRISON FORD PLAY A PROSECUTOR ACCUSED OF MURDERING HIS MIS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RBAN  DICTION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28600" y="762120"/>
            <a:ext cx="86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OWD-SOURCED ON-LINE DICTIONARY FOUNDED IN 1999 BY A FRESHMAN COMPUTER SCIENCE MAJOR HAS BEEN CALLED "THE ANTI-WIKIPED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NAMES  OF  PO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CHRISTMAS, FOR WHICH HOLIDAY IS THE LARGEST NUMBER OF GREETINGS CARDS GIVE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LES MISÉRABLES"? AND "THE HUNCHBACK OF NOTRE DA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GN OF THE ZODIAC SPANS FROM JULY 23 TO AUGUST 2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SHERLOCK ON TV'S "SHERLO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638360" y="7617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   "THE GODFATH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BILLIE DEE WILLIAMS PORTRAY IN THE ORIGINAL "STAR WARS" TRILOG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0 FILM DID HARRISON FORD PLAY A PROSECUTOR ACCUSED OF MURDERING HIS MIST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9T19:43:03Z</dcterms:created>
  <dc:creator>Jennifer Budzinski</dc:creator>
  <dc:description/>
  <dc:language>en-US</dc:language>
  <cp:lastModifiedBy>Erich Friedman</cp:lastModifiedBy>
  <dcterms:modified xsi:type="dcterms:W3CDTF">2020-08-24T13:12:49Z</dcterms:modified>
  <cp:revision>362</cp:revision>
  <dc:subject/>
  <dc:title>Slide 1</dc:title>
</cp:coreProperties>
</file>