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D3EF-70CB-4230-B1B0-D9AE2946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A8F8-8BBF-4B36-A565-089336D2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DD48-479A-406D-B6FF-55ACBD80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3E15-8D36-44C1-88EC-973AD66C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4B6-8726-4003-A02E-6720032C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21A7-AAB9-4FD6-AEDE-068BD73DC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692E-B3BB-45B8-BDFE-559593C77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B025-2687-4C17-B089-E6E6C133C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9CEC-E8D1-458F-9E8C-BA2CCF80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2A0A-D5B5-428B-A82D-3A6E3EE9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E3C7-F9DA-48BF-A815-A9FE2B467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D2B1-3F26-4149-9522-06138ED3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8B80-986F-4D6E-B712-F4475E585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6216-A699-42C1-8FBC-61FDB540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F233-F710-44B0-A54C-346966DB0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034F-C9A5-426F-A45C-140FFF95C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E5E8-31C5-4F1E-B872-AE3A1F56E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AAE7-0BFE-4490-B113-DE25121A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3C40-7844-4B74-8837-F2C95536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7A3-FC71-41E4-AB50-153679D7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3EA-9A03-43D3-8108-22591EF4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0912-B41B-4336-B325-D56BCDF7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E0CE-3CDE-42C8-B4E7-DDA28FF0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WD-SOURCED ON-LINE DICTIONARY FOUNDED IN 1999 BY A FRESHMAN COMPUTER SCIENCE MAJOR HAS BEEN CALLED "THE ANTI-WIKIPED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ROCK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NTINE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CHRISTMAS, FOR WHICH HOLIDAY IS THE LARGEST NUMBER OF GREETINGS CARDS GIV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CTOR  HU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S MISÉRABLES"? AND "THE HUNCHBACK OF NOTRE D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 OF THE ZODIAC SPANS FROM JULY 23 TO AUGUST 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O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92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  FORD  COPP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76520" y="762120"/>
            <a:ext cx="579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   "THE GODFA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O  CALRI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BILLIE DEE WILLIAMS PORTRAY IN THE ORIGINAL "STAR WARS" TRILOG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ROCK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UMED  INNO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0 FILM DID HARRISON FORD PLAY A PROSECUTOR ACCUSED OF MURDERING HIS MIS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RBAN  DICTIO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WD-SOURCED ON-LINE DICTIONARY FOUNDED IN 1999 BY A FRESHMAN COMPUTER SCIENCE MAJOR HAS BEEN CALLED "THE ANTI-WIKIPED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P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CHRISTMAS, FOR WHICH HOLIDAY IS THE LARGEST NUMBER OF GREETINGS CARDS GIVE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S MISÉRABLES"? AND "THE HUNCHBACK OF NOTRE D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 OF THE ZODIAC SPANS FROM JULY 23 TO AUGUST 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ON TV'S "SHER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   "THE GODFA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BILLIE DEE WILLIAMS PORTRAY IN THE ORIGINAL "STAR WARS" TRILOG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0 FILM DID HARRISON FORD PLAY A PROSECUTOR ACCUSED OF MURDERING HIS MIS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9:43:03Z</dcterms:created>
  <dc:creator>Jennifer Budzinski</dc:creator>
  <dc:description/>
  <dc:language>en-US</dc:language>
  <cp:lastModifiedBy>Erich Friedman</cp:lastModifiedBy>
  <dcterms:modified xsi:type="dcterms:W3CDTF">2020-08-24T13:12:49Z</dcterms:modified>
  <cp:revision>362</cp:revision>
  <dc:subject/>
  <dc:title>Slide 1</dc:title>
</cp:coreProperties>
</file>