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33CE-7141-4168-9EE4-585D344FD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420-B12A-4CC4-B144-3806DC70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8174-B228-43AF-9D49-77FD8C5D7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6D9-5D68-48AD-AF68-934EED6E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4BAC-4A27-45A8-B5B0-687FB884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1E1A-D248-454B-A18D-7FBA4259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188-F716-4CC1-B54D-89106397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2A05-B019-4A81-B667-178B45F8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724E-1ACC-4FB2-ABE5-3893BF0A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149-F379-4713-ADE8-736E132E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3AB-311D-4DCC-B986-E915AC27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E414-7DE7-42F8-AF1A-3952974D4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3C1-AE74-4A9B-8D8F-F0CF2FAB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DB88-C192-4E49-88F2-049A788C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0F91-0EE8-467D-B320-22A8EFEC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4A9C-4BDA-40ED-BBBB-A56F8F30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A27-72F2-4151-B477-A145E3C9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2C61-6053-4C4C-8A29-BFDBE8E4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556C-4FF2-4CAE-B138-68F7FD35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168-0CFB-4D2F-B130-202CE8F6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2F6-7049-4C94-9772-29BBE340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B33-73D3-4E72-B244-050E3F41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2B1A-7779-4E79-A9D9-9C9A2E2A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IS KNOWN FOR HIS PROP COMEDY AND RED HAI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533520" y="4952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CUC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ANIM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sea cucumber.jpg"/>
          <p:cNvPicPr/>
          <p:nvPr/>
        </p:nvPicPr>
        <p:blipFill>
          <a:blip r:embed="rId1"/>
          <a:stretch/>
        </p:blipFill>
        <p:spPr>
          <a:xfrm>
            <a:off x="2057400" y="1996920"/>
            <a:ext cx="5029200" cy="286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380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RINCESS  AND  THE  P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ANS CHRISTIAN ANDERSEN FAIRY TALE IS A WOMAN'S ROYAL IDENTITY ESTABLISHED BY A TEST OF HER PHYSICAL SENSI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LAGRO  BEANFIELD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-76320" y="762120"/>
            <a:ext cx="5334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DIRECTED BY ROBERT REDFORD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Milagro_Beanfield_War_Post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066680" y="43434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GT.  PEPPER'S  LONELY  HEARTS  CLUB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ROCK ALBUM TO WIN THE GRAMMY FOR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D  GREEN  TOMA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CK-FLICK STARRED KATHY BATES, JESSICA TANDY, MARY STUART MASTERSON, AND MARY-LOUISE PAR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333440" y="490680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notesstaff.gif"/>
          <p:cNvPicPr/>
          <p:nvPr/>
        </p:nvPicPr>
        <p:blipFill>
          <a:blip r:embed="rId1"/>
          <a:stretch/>
        </p:blipFill>
        <p:spPr>
          <a:xfrm>
            <a:off x="1293840" y="1989000"/>
            <a:ext cx="655632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ACTRESS STRANDED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39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ANIMA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sea cucumber.jpg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IS KNOWN FOR HIS PROP COMEDY AND RED HA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409760" y="48769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ANS CHRISTIAN ANDERSEN FAIRY TALE IS A WOMAN'S ROYAL IDENTITY ESTABLISHED BY A TEST OF HER PHYSICAL SENSI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83808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DIRECTED BY ROBERT REDFORD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Milagro_Beanfield_War_Post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ROCK ALBUM TO WIN THE GRAMMY FOR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CK-FLICK STARRED KATHY BATES, JESSICA TANDY, MARY STUART MASTERSON, AND MARY-LOUISE PAR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notesstaff.gif"/>
          <p:cNvPicPr/>
          <p:nvPr/>
        </p:nvPicPr>
        <p:blipFill>
          <a:blip r:embed="rId1"/>
          <a:stretch/>
        </p:blipFill>
        <p:spPr>
          <a:xfrm>
            <a:off x="1146240" y="2057400"/>
            <a:ext cx="685152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ACTRESS STRANDED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13:36:48Z</dcterms:created>
  <dc:creator>Jennifer Budzinski</dc:creator>
  <dc:description/>
  <dc:language>en-US</dc:language>
  <cp:lastModifiedBy>Erich Friedman</cp:lastModifiedBy>
  <dcterms:modified xsi:type="dcterms:W3CDTF">2020-08-29T18:10:46Z</dcterms:modified>
  <cp:revision>473</cp:revision>
  <dc:subject/>
  <dc:title>Slide 1</dc:title>
</cp:coreProperties>
</file>