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05A7C-9CBC-41A4-8BFD-F067AF9922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1503B-BF83-4BBE-A522-844FD84CD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EF94D-32AF-4E83-A6CA-EE8C8E60A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CF13A-CD38-459E-BAC6-FBAA1062C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666AB-75FC-483B-AA3F-879BBD173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B479A-46B1-48F0-B2D6-226FB824B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FD8E2-9872-4A7C-9871-5A36D8285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E3D5E-0678-49DF-910B-D0E594D2A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5E18E-F98E-4BDC-B7AA-1AD2ED540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BC281-37D2-4900-91F0-5D3DD11EB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9FA20-EC5A-476C-9912-5FCB09950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533F6-C65A-4446-90BF-1DFD7C039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3CF92-573E-4478-84F0-2272F5CDF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A1AD5-93F0-45CD-96F8-DBECE1201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6B2B9-C029-42D1-BF66-CAAB65519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8672F-36E2-482B-992A-C7CF79E6F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28BF3-60FD-4CE4-9D22-B7D8D8CAB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93FD6-46A8-47FD-90B0-5F3E71A5D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980A1-6FD5-4FA5-9615-7DE789D16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8995F-6AAF-483B-942D-B26D983F8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0236C-440E-4240-BA24-FA4506EE5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F9898-AFE3-4E93-BB9D-48EA821B7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6C2CF-BE37-4097-A4B7-7B6B6293F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IS KNOWN FOR HIS PROP COMEDY AND RED HAIR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533520" y="4952880"/>
            <a:ext cx="8076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A  CUCU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RINE ANIMAL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3" descr="sea cucumber.jpg"/>
          <p:cNvPicPr/>
          <p:nvPr/>
        </p:nvPicPr>
        <p:blipFill>
          <a:blip r:embed="rId1"/>
          <a:stretch/>
        </p:blipFill>
        <p:spPr>
          <a:xfrm>
            <a:off x="2057400" y="1996920"/>
            <a:ext cx="5029200" cy="2864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838080" y="4876920"/>
            <a:ext cx="7543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PRINCESS  AND  THE  P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HANS CHRISTIAN ANDERSEN FAIRY TALE IS A WOMAN'S ROYAL IDENTITY ESTABLISHED BY A TEST OF HER PHYSICAL SENSITIV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19040" y="48769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MILAGRO  BEANFIELD  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-76320" y="762120"/>
            <a:ext cx="5334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8 FILM DIRECTED BY ROBERT REDFORD HAD THIS MOVIE POS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3" descr="Milagro_Beanfield_War_Poster.jpg"/>
          <p:cNvPicPr/>
          <p:nvPr/>
        </p:nvPicPr>
        <p:blipFill>
          <a:blip r:embed="rId1"/>
          <a:stretch/>
        </p:blipFill>
        <p:spPr>
          <a:xfrm>
            <a:off x="5562720" y="1219320"/>
            <a:ext cx="3041640" cy="31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1066680" y="4343400"/>
            <a:ext cx="7010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GT.  PEPPER'S  LONELY  HEARTS  CLUB  B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ROCK ALBUM TO WIN THE GRAMMY FOR ALBUM OF THE Y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914400" y="487692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IED  GREEN  TOMAT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838080" y="762120"/>
            <a:ext cx="74678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1 CHICK-FLICK STARRED KATHY BATES, JESSICA TANDY, MARY STUART MASTERSON, AND MARY-LOUISE PARK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1333440" y="4906800"/>
            <a:ext cx="6477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BB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533520" y="762120"/>
            <a:ext cx="8076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OTES ARE THE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2" descr="notesstaff.gif"/>
          <p:cNvPicPr/>
          <p:nvPr/>
        </p:nvPicPr>
        <p:blipFill>
          <a:blip r:embed="rId1"/>
          <a:stretch/>
        </p:blipFill>
        <p:spPr>
          <a:xfrm>
            <a:off x="1293840" y="1989000"/>
            <a:ext cx="6556320" cy="271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INGER  GR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ULL NAME OF THE ACTRESS STRANDED ON "GILLIGAN'S ISLA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39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RINE ANIMAL IS TH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3" descr="sea cucumber.jpg"/>
          <p:cNvPicPr/>
          <p:nvPr/>
        </p:nvPicPr>
        <p:blipFill>
          <a:blip r:embed="rId1"/>
          <a:stretch/>
        </p:blipFill>
        <p:spPr>
          <a:xfrm>
            <a:off x="2057400" y="2057400"/>
            <a:ext cx="5029200" cy="28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TA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DID VICE PRESIDENT DAN QUAYLE FAMOUSLY MISSPE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ROT  T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"/>
          <p:cNvSpPr/>
          <p:nvPr/>
        </p:nvSpPr>
        <p:spPr>
          <a:xfrm>
            <a:off x="1143000" y="762120"/>
            <a:ext cx="6858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IS KNOWN FOR HIS PROP COMEDY AND RED HAI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3"/>
          <p:cNvSpPr/>
          <p:nvPr/>
        </p:nvSpPr>
        <p:spPr>
          <a:xfrm>
            <a:off x="1409760" y="4876920"/>
            <a:ext cx="6324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VEGE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HANS CHRISTIAN ANDERSEN FAIRY TALE IS A WOMAN'S ROYAL IDENTITY ESTABLISHED BY A TEST OF HER PHYSICAL SENSITIV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0" y="838080"/>
            <a:ext cx="5334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8 FILM DIRECTED BY ROBERT REDFORD HAD THIS MOVIE POS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2" descr="Milagro_Beanfield_War_Poster.jpg"/>
          <p:cNvPicPr/>
          <p:nvPr/>
        </p:nvPicPr>
        <p:blipFill>
          <a:blip r:embed="rId1"/>
          <a:stretch/>
        </p:blipFill>
        <p:spPr>
          <a:xfrm>
            <a:off x="5562720" y="1219320"/>
            <a:ext cx="304164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ROCK ALBUM TO WIN THE GRAMMY FOR ALBUM OF THE YE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1 CHICK-FLICK STARRED KATHY BATES, JESSICA TANDY, MARY STUART MASTERSON, AND MARY-LOUISE PARK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OTES ARE THE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0" name="Picture 2" descr="notesstaff.gif"/>
          <p:cNvPicPr/>
          <p:nvPr/>
        </p:nvPicPr>
        <p:blipFill>
          <a:blip r:embed="rId1"/>
          <a:stretch/>
        </p:blipFill>
        <p:spPr>
          <a:xfrm>
            <a:off x="1146240" y="2057400"/>
            <a:ext cx="6851520" cy="283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ULL NAME OF THE ACTRESS STRANDED ON "GILLIGAN'S ISLA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DID VICE PRESIDENT DAN QUAYLE FAMOUSLY MISSPE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13:36:48Z</dcterms:created>
  <dc:creator>Jennifer Budzinski</dc:creator>
  <dc:description/>
  <dc:language>en-US</dc:language>
  <cp:lastModifiedBy>Erich Friedman</cp:lastModifiedBy>
  <dcterms:modified xsi:type="dcterms:W3CDTF">2020-08-29T18:10:46Z</dcterms:modified>
  <cp:revision>473</cp:revision>
  <dc:subject/>
  <dc:title>Slide 1</dc:title>
</cp:coreProperties>
</file>