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5A5B-E90F-4C5C-A6D9-F8103860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2435-97D8-4E8D-A2EE-9FC34D865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6F5-9A80-49F2-9C06-FF9AE0B6E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2CCF-0928-4F1F-9EEC-4F692A78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0A68-BD2E-4B6F-8229-6FA88A79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5CC1-A632-42A7-BDC7-8C57F644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0172-F9EC-44E8-92B1-2D3ADD36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F8E0-AB17-428D-8196-161205910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01B-86E7-4EE7-B4E7-7BEDC4EE8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E7CA-905F-4846-8AA9-8C399C549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7159-4E82-4C96-BADE-B85AD4356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20D1-4785-4984-A418-F112AA869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741F-6E7B-42E5-B8E5-EEA0EC381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856F-CC79-4B18-8DE2-C33D158F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973A-2E13-41E2-840A-1B4F7DDCC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3FBB-C0FE-4B89-8A32-6D0EBFB6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3377-B912-45D4-8433-6796FC37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C351-CCC8-4FAE-9A36-38C975DB5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CF2E-603A-4B7E-8C61-27DBD1977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A7AB-CE1D-4499-8A07-85F02B011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FAE-CF3B-4B82-B838-DC547006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C742-B6E6-4F9D-A37C-CD1DA5BA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FD19-E926-4281-AE59-F2937FCF0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9528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CUC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1996920"/>
            <a:ext cx="5029200" cy="286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380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NCESS  AND  THE  P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LAGRO  BEANFIELD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-76320" y="762120"/>
            <a:ext cx="5334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066680" y="434340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GT.  PEPPER'S  LONELY  HEARTS  CLUB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D  GREEN  TOMA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33440" y="4906800"/>
            <a:ext cx="6477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notesstaff.gif"/>
          <p:cNvPicPr/>
          <p:nvPr/>
        </p:nvPicPr>
        <p:blipFill>
          <a:blip r:embed="rId1"/>
          <a:stretch/>
        </p:blipFill>
        <p:spPr>
          <a:xfrm>
            <a:off x="1293840" y="1989000"/>
            <a:ext cx="655632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39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INE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ea cucumber.jpg"/>
          <p:cNvPicPr/>
          <p:nvPr/>
        </p:nvPicPr>
        <p:blipFill>
          <a:blip r:embed="rId1"/>
          <a:stretch/>
        </p:blipFill>
        <p:spPr>
          <a:xfrm>
            <a:off x="2057400" y="2057400"/>
            <a:ext cx="502920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IS KNOWN FOR HIS PROP COMEDY AND RED HAI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409760" y="487692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VEGE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HANS CHRISTIAN ANDERSEN FAIRY TALE IS A WOMAN'S ROYAL IDENTITY ESTABLISHED BY A TEST OF HER PHYSICAL SENSI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0" y="838080"/>
            <a:ext cx="533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FILM DIRECTED BY ROBERT REDFORD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Milagro_Beanfield_War_Poster.jpg"/>
          <p:cNvPicPr/>
          <p:nvPr/>
        </p:nvPicPr>
        <p:blipFill>
          <a:blip r:embed="rId1"/>
          <a:stretch/>
        </p:blipFill>
        <p:spPr>
          <a:xfrm>
            <a:off x="5562720" y="1219320"/>
            <a:ext cx="30416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ROCK ALBUM TO WIN THE GRAMMY FOR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HICK-FLICK STARRED KATHY BATES, JESSICA TANDY, MARY STUART MASTERSON, AND MARY-LOUIS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notesstaff.gif"/>
          <p:cNvPicPr/>
          <p:nvPr/>
        </p:nvPicPr>
        <p:blipFill>
          <a:blip r:embed="rId1"/>
          <a:stretch/>
        </p:blipFill>
        <p:spPr>
          <a:xfrm>
            <a:off x="1146240" y="2057400"/>
            <a:ext cx="685152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ACTRESS STRANDED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VICE PRESIDENT DAN QUAYLE FAMOUSLY MISSP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3:36:48Z</dcterms:created>
  <dc:creator>Jennifer Budzinski</dc:creator>
  <dc:description/>
  <dc:language>en-US</dc:language>
  <cp:lastModifiedBy>Erich Friedman</cp:lastModifiedBy>
  <dcterms:modified xsi:type="dcterms:W3CDTF">2020-08-29T18:10:46Z</dcterms:modified>
  <cp:revision>473</cp:revision>
  <dc:subject/>
  <dc:title>Slide 1</dc:title>
</cp:coreProperties>
</file>