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E381-A986-4E75-9AC5-00A69E9A9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EE43-6631-47C0-9469-289D3DDA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8445-4832-4E98-AD85-55CF5536F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DB03-6355-4FEC-AA1F-D2AC43DEF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5263-8005-4778-B5B7-FC3BF976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4FCA-343E-4A2C-9B3F-5C6E51B5B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7531-E7C6-4EE8-BCF6-17DCC230A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F2FE-C250-4900-9525-D064E6C9A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00AE-11BF-461F-B162-1D3E0F6B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0E55-4220-4512-9100-007B4239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EFF-F3D6-4B1A-868C-F58BC1E3F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9D38-0B8F-42C1-BC96-E366FCFD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DB75-57EC-4CF2-A550-3754C7987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5CE6-FA03-420D-9F60-9DE0A6E0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C265-FCF5-4DF6-83D1-E11968D56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924F-FFF6-4E0E-AA3C-0F0672F41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648B-A62C-4112-9DFE-CDB6E3536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EE96-B406-4826-882A-AAFC23CBE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D58B-AA41-47D1-88FE-0B064918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10FA-D49B-411D-A647-B9393725C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7D3E-6B45-440E-BAF9-581CE5E8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82A9-3148-4AB7-BE6E-77992AC0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D70-AA54-4F4E-BCD0-D6F4D1BA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KNOWN AS "OLD HICK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ITCHHIKER'S GUIDE TO THE GALAXY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MAN IS THE CAPITAL OF WHAT COUNT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1971, THE BRITISH POUND WAS DIVIDED INTO 20 SHILLINGS, EACH OF WHICH WAS WORTH 12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P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OHN MCCAIN'S RUNNING MATE IN THE 2012 PRESIDENTIAL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NATIONAL SECURITY ADVISOR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STER  KE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OF "SHERLOCK JR."  AND "THE GENERAL" WAS KNOWN AS "THE GREAT STONE F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INE  MUT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MAN WOUK NOVEL WON THE 1951 PULITZER PRIZE, AND WAS MADE INTO A FILM STARRING HUMPHREY BOGART AND FRED MACMUR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ITCHHIKER'S GUIDE TO THE GALAXY"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SON  F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5420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CESSOR AND MARKETER OF MEA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KNOWN AS "OLD HICK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1160" y="4267080"/>
            <a:ext cx="6781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NAMED  MICH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MAN IS THE CAPITAL OF WHAT COUNTR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1971, THE BRITISH POUND WAS DIVIDED INTO 20 SHILLINGS, EACH OF WHICH WAS WORTH 12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OHN MCCAIN'S RUNNING MATE IN THE 2012 PRESIDENTIAL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NATIONAL SECURITY ADVISOR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OF "SHERLOCK JR." AND "THE GENERAL" WAS KNOWN AS "THE GREAT STONE F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MAN WOUK NOVEL WON THE 1951 PULITZER PRIZE, AND WAS MADE INTO A FILM STARRING HUMPHREY BOGART AND FRED MACMURR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CESSOR AND MARKETER OF MEA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23:20:09Z</dcterms:created>
  <dc:creator>Jennifer Budzinski</dc:creator>
  <dc:description/>
  <dc:language>en-US</dc:language>
  <cp:lastModifiedBy>Erich Friedman</cp:lastModifiedBy>
  <dcterms:modified xsi:type="dcterms:W3CDTF">2020-08-29T18:11:42Z</dcterms:modified>
  <cp:revision>461</cp:revision>
  <dc:subject/>
  <dc:title>Slide 1</dc:title>
</cp:coreProperties>
</file>