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13EB-BD49-4866-A35B-BE5BFF8C4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E888-5DBD-40E6-9464-E44810B39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B8CF-E5C5-452E-969C-0B1E7AE96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EC62-9B39-4EE2-AA41-A6FFFE405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6FB0-B75C-4F81-B368-B5C2CCB9D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7D64-C3C4-488D-B74C-CE8175635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8F70-F2E7-4E2A-9719-F4480FFE9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100C-8AD6-47D3-B0B9-3ED6DF62D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9040-D906-4E4F-B75A-CE23EDBA6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DC16-4B9D-47D0-8591-6CE67A414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7561-092D-4911-9DE1-79BD91992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F1D5-3DB9-41EE-B7A5-54D28CC27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5001-BE12-4616-B766-FCE0E5861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BD38-BC28-493A-B74A-00AF738F8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9454-0A85-4E0D-97EF-3AE12F474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B3D1-3A22-447E-9DC7-23EC48CFC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7357-5586-4BA7-B11E-0B08FBF3C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6FF6-DB33-4223-BF5F-7BC597A7D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53A5-3B30-49F6-BE66-511A7FEB0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1B2B-6AD4-4865-B6F5-2CBEEAF22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1D61-29A1-43B2-B8C6-62803F021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B2E4-D8F1-43C1-9BE4-2B8F0F182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B901-5B1E-4444-A45D-1C0F39EC6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PRESIDENT WAS KNOWN AS "OLD HICKO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0060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UGLAS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"HITCHHIKER'S GUIDE TO THE GALAXY" BOO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0060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RD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219320" y="762120"/>
            <a:ext cx="6781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MMAN IS THE CAPITAL OF WHAT COUNTR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0060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19040" y="7621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1971, THE BRITISH POUND WAS DIVIDED INTO 20 SHILLINGS, EACH OF WHICH WAS WORTH 12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00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RAH  PA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JOHN MCCAIN'S RUNNING MATE IN THE 2012 PRESIDENTIAL ELE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0060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BO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NATIONAL SECURITY ADVISOR OF THE UNITED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0060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STER  KEA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LENT FILM STAR OF "SHERLOCK JR."  AND "THE GENERAL" WAS KNOWN AS "THE GREAT STONE FA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00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AINE  MUTI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228600" y="762120"/>
            <a:ext cx="8686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ERMAN WOUK NOVEL WON THE 1951 PULITZER PRIZE, AND WAS MADE INTO A FILM STARRING HUMPHREY BOGART AND FRED MACMURR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"HITCHHIKER'S GUIDE TO THE GALAXY" BOO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0060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SON  FO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5420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PROCESSOR AND MARKETER OF MEAT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REW  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PRESIDENT WAS KNOWN AS "OLD HICKO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81160" y="4267080"/>
            <a:ext cx="67816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AST  NAMES  OF  PEOPLE  NAMED  MICHA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705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MMAN IS THE CAPITAL OF WHAT COUNTR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90400" y="762120"/>
            <a:ext cx="7963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1971, THE BRITISH POUND WAS DIVIDED INTO 20 SHILLINGS, EACH OF WHICH WAS WORTH 12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JOHN MCCAIN'S RUNNING MATE IN THE 2012 PRESIDENTIAL ELE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NATIONAL SECURITY ADVISOR OF THE UNITED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LENT FILM STAR OF "SHERLOCK JR." AND "THE GENERAL" WAS KNOWN AS "THE GREAT STONE FA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ERMAN WOUK NOVEL WON THE 1951 PULITZER PRIZE, AND WAS MADE INTO A FILM STARRING HUMPHREY BOGART AND FRED MACMURR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61800" y="762120"/>
            <a:ext cx="8420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PROCESSOR AND MARKETER OF MEAT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0T23:20:09Z</dcterms:created>
  <dc:creator>Jennifer Budzinski</dc:creator>
  <dc:description/>
  <dc:language>en-US</dc:language>
  <cp:lastModifiedBy>Erich Friedman</cp:lastModifiedBy>
  <dcterms:modified xsi:type="dcterms:W3CDTF">2020-08-29T18:11:42Z</dcterms:modified>
  <cp:revision>461</cp:revision>
  <dc:subject/>
  <dc:title>Slide 1</dc:title>
</cp:coreProperties>
</file>