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6C7E-9E2D-463A-8109-611BA34E7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4241-1E55-4A1D-A611-3457DD65C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3130-FF06-41C2-B1F1-3F529D27E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F889-B970-4A1C-BDC1-48FA5304F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0306-42B5-4B2E-B0EA-0A8FE109E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BB4B-1E3D-46B2-A0D3-2C841958D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1884-C630-45E8-B4D2-3CC82E791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E603-E03C-4AF5-9C89-6188D0E84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EA31-4FD2-4D24-9B07-85767E5CE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109B-D164-4658-A6C3-8ED5F8293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4E54-9657-46EA-9B7B-5B957A27B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88AD-D4B0-4C92-AAC8-07F5B63BC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350C-1193-407C-9900-887229CA9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5561-60E3-40D1-9AFA-6B8D3EBC9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96F5-5735-40D9-A9BF-8353F23C8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FACF-654B-4DBF-9FD8-C8992D766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D5C8-3993-4C69-B010-C97652D7F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3E9E-A037-4830-9282-2F02BFE22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513E-E0E3-4DA8-964E-64A5A7A28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0C53-0FE1-4F1C-BCFD-DD69D1F2C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90D4-A4A0-4831-A6C9-599EFED70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F53A-1F52-4A93-83BF-ABFC32300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C588-AD77-4447-9BEE-367A80C55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WAS KNOWN AS "OLD HICK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GLAS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"HITCHHIKER'S GUIDE TO THE GALAXY"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1932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MAN IS THE CAPITAL OF WHAT COUNT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1971, THE BRITISH POUND WAS DIVIDED INTO 20 SHILLINGS, EACH OF WHICH WAS WORTH 12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H  P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JOHN MCCAIN'S RUNNING MATE IN THE 2012 PRESIDENTIAL 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O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NATIONAL SECURITY ADVISOR OF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STER  KE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OF "SHERLOCK JR."  AND "THE GENERAL" WAS KNOWN AS "THE GREAT STONE F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INE  MUTI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RMAN WOUK NOVEL WON THE 1951 PULITZER PRIZE, AND WAS MADE INTO A FILM STARRING HUMPHREY BOGART AND FRED MACMURR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"HITCHHIKER'S GUIDE TO THE GALAXY" BOO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00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SON  F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5420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OCESSOR AND MARKETER OF MEA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WAS KNOWN AS "OLD HICK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81160" y="4267080"/>
            <a:ext cx="6781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PEOPLE  NAMED  MICHA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MAN IS THE CAPITAL OF WHAT COUNTR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90400" y="762120"/>
            <a:ext cx="7963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1971, THE BRITISH POUND WAS DIVIDED INTO 20 SHILLINGS, EACH OF WHICH WAS WORTH 12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JOHN MCCAIN'S RUNNING MATE IN THE 2012 PRESIDENTIAL 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NATIONAL SECURITY ADVISOR OF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OF "SHERLOCK JR." AND "THE GENERAL" WAS KNOWN AS "THE GREAT STONE F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RMAN WOUK NOVEL WON THE 1951 PULITZER PRIZE, AND WAS MADE INTO A FILM STARRING HUMPHREY BOGART AND FRED MACMURR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OCESSOR AND MARKETER OF MEAT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0T23:20:09Z</dcterms:created>
  <dc:creator>Jennifer Budzinski</dc:creator>
  <dc:description/>
  <dc:language>en-US</dc:language>
  <cp:lastModifiedBy>Erich Friedman</cp:lastModifiedBy>
  <dcterms:modified xsi:type="dcterms:W3CDTF">2020-08-29T18:11:42Z</dcterms:modified>
  <cp:revision>461</cp:revision>
  <dc:subject/>
  <dc:title>Slide 1</dc:title>
</cp:coreProperties>
</file>