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7861-5381-45CA-BF40-DCB0F1DD5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37CB-A984-44A2-A4BE-1ABFDD49D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10B2-E6EF-4F98-B93D-3C513A4DD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9BA3-3DB7-4219-85F8-DC421887D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0113-932E-405C-A55F-75E282EEA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E12A-7557-4E4F-87FB-77FF689BB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F644-FC7E-4BE7-8E2C-15C70AFDA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ED43-2042-4B9E-A83F-C4729247F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A0CF-FB34-481C-B946-2920628D6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5EBE-EA08-4F77-A066-0139877C6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6180-4D9A-4AAC-9397-DA32872DC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07C6-1B1F-4790-A649-152588674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FCEA-EAAC-493D-A92B-FDF433DCB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2EC2-2D6F-40D5-A59C-D38C9A118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3D88-F7B9-45E1-9EA3-04306219A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4ABB-4916-42DE-98FC-C33FA8E34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1CB3-A8D7-490C-9602-A2A47ED60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66DD-E28A-4645-8747-8C7CA66D2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CBA2-C212-4750-9A2A-F936DF5D1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F339-1D1A-4D7E-B6CC-67CA080D7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2BB4-036C-4C44-A278-3B6172990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D689-C67D-4D7F-A9D3-5CB4D877E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27B8-E04B-4E28-943E-CBD531021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R. SMITH IN "MR. SMITH GOES TO WASHINGTON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BBIE  REYNO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THE UNSINKABLE MOLLY BROWN" AND "SUSAN SLEPT HE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L  MAL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WITH MARLON BRANDO IN "A STREETCAR NAMED DESIRE" AND "ON THE WATERFRO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F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ON GOLDEN PO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THE 1969 FILM "TRUE GR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M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OLONEL SHERMAN POTTER ON THE TV SERIES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PEPP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AUDREY  HEPBURN IN "BREAKFAST AT TIFFANY'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Y  P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APTAIN AHAB IN THE 1956 FILM "MOBY DI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THE UNSINKABLE MOLLY BROWN" AND "SUSAN SLEPT HE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NCER  T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DR. JEKYLL AND MR. HY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R. SMITH IN "MR. SMITH GOES TO WASHINGTON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343400"/>
            <a:ext cx="7467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RE  IN  THE  FILM            "HOW  THE  WEST  WAS  WO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WITH MARLON BRANDO IN "A STREETCAR NAMED DESIRE" AND "ON THE WATERFRO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ON GOLDEN PO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THE 1969 FILM "TRUE GR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OLONEL SHERMAN POTTER ON THE TV SERIES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AUDREY HEPBURN IN "BREAKFAST AT TIFFANY'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APTAIN AHAB IN THE 1956 FILM "MOBY DI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DR. JEKYLL AND MR. HY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2T19:29:59Z</dcterms:created>
  <dc:creator>Jennifer Budzinski</dc:creator>
  <dc:description/>
  <dc:language>en-US</dc:language>
  <cp:lastModifiedBy>Erich Friedman</cp:lastModifiedBy>
  <dcterms:modified xsi:type="dcterms:W3CDTF">2020-08-29T18:12:25Z</dcterms:modified>
  <cp:revision>461</cp:revision>
  <dc:subject/>
  <dc:title>Slide 1</dc:title>
</cp:coreProperties>
</file>