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E131-E2C4-49E7-8701-DA87FD6A7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D181-0A23-4A6B-B8F5-1C0184F52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7C40-61D3-447E-877E-B9D1318DB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79CA-B7DC-4EB9-8DE9-E9A232D4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983E-949B-478B-8068-AFD213C1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570D-7017-4F88-ADD5-A2F409435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FD5-3AF9-4732-B694-C76B64F9B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26C8-721F-44AD-AC1F-BA820FCB6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D5B1-EE61-44CD-86D5-BF9FBED42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6DB3-80C0-46EA-B576-E95C16ADC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9D17-29C1-4242-84CF-8A9B53950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7065-B338-4592-958E-619E1ABF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C70-4F1B-43D5-800B-0D88723B4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22B8-648F-4CA3-AA92-80FDE0880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DCEE-85C3-4A31-953A-14AB291A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41F1-1ED6-405B-BC48-0A27FDEF0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FE4B-06FC-4FD6-A469-96A46600C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A1BE-D15A-49C3-B754-4C61D06E1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CC0D-506E-4901-94BA-4903FED5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873A-FD98-4F7C-BDCB-9669979B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465D-09B4-491A-A612-A8C7FAE5A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260-14C7-40D3-8776-2D48DD47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399-B905-4E37-A5EC-8144D15BD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SMITH IN "MR. SMITH GOES TO WASHINGTON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BBIE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UNSINKABLE MOLLY BROWN" AND "SUSAN SLEPT 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MAL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MARLON BRANDO IN "A STREETCAR NAMED DESIRE" AND "ON THE WATERFRO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ON GOLDEN P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THE 1969 FILM "TRUE GR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ON THE TV SERIE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PEPP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AUDREY  HEPBURN IN "BREAKFAST AT TIFFANY'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HAB IN THE 1956 FILM "MOBY DI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UNSINKABLE MOLLY BROWN" AND "SUSAN SLEPT 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NCER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DR. JEKYLL AND MR. HY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R. SMITH IN "MR. SMITH GOES TO WASHINGTON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IN  THE  FILM            "HOW  THE  WEST  WAS  WO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-174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MARLON BRANDO IN "A STREETCAR NAMED DESIRE" AND "ON THE WATERFRO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ON GOLDEN P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THE 1969 FILM "TRUE GRI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ON THE TV SERIE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AUDREY HEPBURN IN "BREAKFAST AT TIFFANY'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APTAIN AHAB IN THE 1956 FILM "MOBY DI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DR. JEKYLL AND MR. HY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2T19:29:59Z</dcterms:created>
  <dc:creator>Jennifer Budzinski</dc:creator>
  <dc:description/>
  <dc:language>en-US</dc:language>
  <cp:lastModifiedBy>Erich Friedman</cp:lastModifiedBy>
  <dcterms:modified xsi:type="dcterms:W3CDTF">2020-08-29T18:12:25Z</dcterms:modified>
  <cp:revision>461</cp:revision>
  <dc:subject/>
  <dc:title>Slide 1</dc:title>
</cp:coreProperties>
</file>