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A1C6-F50E-48CD-B543-66EDF03F9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6AB-85FC-46FF-877C-82D7CE97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B6D4-A02B-41C0-A736-DCFC4F0E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80C-773B-46CC-B2F5-A5ACA6A3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48C5-9D82-40D6-85C5-B0284086D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3D10-AEF3-4505-801A-448D7C9F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7B2-5047-4AD9-BF34-607E1460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283-73E3-40A5-8AFB-BCF7BEC0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8212-1535-42FD-841E-0763506A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2D5F-BBFE-4C8F-A23A-FC20BD97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118-07B8-4081-B89B-332F23E03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0A3-9C85-4EE4-8084-CA1A5253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1D05-18FE-4D57-ABAD-C5E4CD01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0780-35D8-4FA7-B038-A5B30C3E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EB0-6381-4012-96DD-B863CC46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589-1AB6-4A0F-8CFC-F8157871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4920-ED23-4D24-AFCB-9B4B73D8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89E-D8DB-4855-9BC3-F3CC16CC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0AB2-F023-4CFE-868C-39A39F21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4D65-815E-4262-B6EE-E032CAD4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3B2-2C43-4DC8-AB5F-B5B7A6C6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616F-942E-4E3A-8B8C-74EF1A85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8D3-5A0F-469F-832C-757067D2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BIE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EPP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 HEPBURN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THE  FILM            "HOW  THE  WEST  WAS  W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HEPBURN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2T19:29:59Z</dcterms:created>
  <dc:creator>Jennifer Budzinski</dc:creator>
  <dc:description/>
  <dc:language>en-US</dc:language>
  <cp:lastModifiedBy>Erich Friedman</cp:lastModifiedBy>
  <dcterms:modified xsi:type="dcterms:W3CDTF">2020-08-29T18:12:25Z</dcterms:modified>
  <cp:revision>461</cp:revision>
  <dc:subject/>
  <dc:title>Slide 1</dc:title>
</cp:coreProperties>
</file>