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BA7F-D960-4B15-85A6-0CDBEED8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AC63-DBB5-4974-861C-751CB06C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682B-DDB6-46AE-B3B4-223C006D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551-99C1-40C2-B90D-C5835B4F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8E2-43C9-4DB0-A88F-3775026D3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720-D709-4E38-BBC3-A247B791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17FB-BF39-490B-B572-D4E33374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032-E61C-4381-9A69-F94D92C0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6E7-B30C-4312-B455-8E04B6A3B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A0F-62CD-4ED8-BB11-069B8842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87D-3AB7-489C-A19E-F98B0A68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C23-6966-41D6-9602-A45373D8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1CF0-842C-45D4-8329-880686B8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F48-ABC6-4C8D-A5A7-D19B38FA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685A-E468-47A2-93BB-5B4A2F21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F1E-1A82-414D-9D37-43F2B9AC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D14-5831-4150-9904-F3E01FCD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F5C-943E-486A-A1CC-EC6BFF97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B2D-FA78-45EC-BC2A-80527154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C93-7C6C-4BD4-8B7B-C53FCF82C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E9B-A7F1-436F-88FD-5FAFC8F7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0C27-CA6B-4866-A931-06F52E80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A54-3FC0-4D8E-AE5C-479604A5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ID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2:49:37Z</dcterms:created>
  <dc:creator>Jennifer Budzinski</dc:creator>
  <dc:description/>
  <dc:language>en-US</dc:language>
  <cp:lastModifiedBy>Erich Friedman</cp:lastModifiedBy>
  <dcterms:modified xsi:type="dcterms:W3CDTF">2020-08-29T18:13:19Z</dcterms:modified>
  <cp:revision>461</cp:revision>
  <dc:subject/>
  <dc:title>Slide 1</dc:title>
</cp:coreProperties>
</file>