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85B0-DA3A-4BA6-9B0F-8A6B87B46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BD4D-F1F2-4FBE-8F1A-FDE04B50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157-6ADE-420F-9F1B-D6F7F8577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31E-F426-4E67-A52E-099040A3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11B4-05B5-4FB7-9B18-9544BDF6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F19B-3E91-480F-AE46-14EB0FA0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6141-A0C6-4881-A314-5DD1480F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C9E1-2E93-46E0-AF5B-1684C54E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88B-C367-4085-8F83-ECBFBE486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490F-66ED-4DB0-BB00-0CFCBFD6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0079-80CB-4B64-AA9A-A0694ABE2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8B86-946B-4F9C-8057-BDAC8C8EF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FCC-524C-485D-830D-081609DB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3728-E90D-4014-816A-2D615677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BED-1413-4FD3-975C-D8691458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167-10FC-4366-A95C-861069193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007-6473-4EA5-80C7-5383A595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8807-B39E-4742-B42F-85981391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FB7C-0CF0-477C-A46E-4141DC4C9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2404-A30B-446D-8CCA-E81F575E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EE3-3B18-4974-8AF4-1C65332B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C1D-6200-4A74-BBD2-012A5A51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0A9-775C-423C-9D14-C534F1E9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 OF THE ATTORNEY WHO ACCUSED CLARENCE THOMAS OF SEXUAL HARASSM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9 ANIMATED FILM DID ED ASNER VOICE THE MAIN CHARACTER WHO TIES THOUSANDS OF BALLOONS TO HIS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BAMAS OWNED TWO PORTUGUESE WATER DOGS IN THE WHITE HOUSE, BO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&amp;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A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S ALEC BALDWIN AS A VISUALLY IMPAIRED MAN AND DEMI MOORE AS A WOMAN WHO READS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SSIAN LETTER THAT IS PRONOUNCED "V" LOOKS LIKE WHAT ENGLISH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9 ANIMATED FILM DID ED ASNER VOICE THE MAIN CHARACTER WHO TIES THOUSANDS OF BALLOONS TO HIS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OISM, WHAT IS THE LITERAL TRANSLATION OF "TA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TA)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 OF THE ATTORNEY WHO ACCUSED CLARENCE THOMAS OF SEXUAL HARASS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ID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BAMAS OWNED TWO PORTUGUESE WATER DOGS IN THE WHITE HOUSE, BO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A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S ALEC BALDWIN AS A VISUALLY IMPAIRED MAN AND DEMI MOORE AS A WOMAN WHO READS TO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SSIAN LETTER THAT IS PRONOUNCED "V" LOOKS LIKE WHAT ENGLISH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OISM, WHAT IS THE LITERAL TRANSLATION OF "TA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2:49:37Z</dcterms:created>
  <dc:creator>Jennifer Budzinski</dc:creator>
  <dc:description/>
  <dc:language>en-US</dc:language>
  <cp:lastModifiedBy>Erich Friedman</cp:lastModifiedBy>
  <dcterms:modified xsi:type="dcterms:W3CDTF">2020-08-29T18:13:19Z</dcterms:modified>
  <cp:revision>461</cp:revision>
  <dc:subject/>
  <dc:title>Slide 1</dc:title>
</cp:coreProperties>
</file>