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EEE6-EE09-42A2-9C26-40868751D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E7B4-CD9A-46D6-9357-7D0933CC1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F9EA-5A28-4584-AA53-6AF087DB2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C715-C7EE-4C40-A4E9-3B85CCB9E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6861-527E-4D40-859B-BF0759012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C176-B027-48F4-B08A-C5681DE8A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F820-13EA-47FA-9C8C-399C36B36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7504-4974-49F9-8CDB-F4ED6119A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70CC-6F72-42C9-8445-04FAA1526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0A20-7B0D-4CDB-BF6C-49A7A1F55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E004-1170-4EE8-A3C3-C34F22BBD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09FE-754A-42AE-A651-0D5ADB88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4812-DF03-4DA2-8F84-5629BFBB1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2FFC-9D30-4B8D-8831-543F5B264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EC09-B2A8-4F99-B31F-0DBBFB2BF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9F18-FC57-45B5-A7ED-CB355A03F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CCDA-3F94-49A9-B65E-0BE595E0B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B65C-34F1-4C0F-9791-CFF7C1638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37D3-FC11-4A2C-9CAC-6541DCFE3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927C-7D7D-4C17-91C9-887E5FA5F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5853-949B-4D8A-ADBA-ED6FE3F05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B891-4DC2-456C-A2FF-645EF7BAD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FF8F-6EE5-4C4E-9CAA-6034424B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  OF THE ATTORNEY WHO ACCUSED CLARENCE THOMAS OF SEXUAL HARASSMEN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9 ANIMATED FILM DID ED ASNER VOICE THE MAIN CHARACTER WHO TIES THOUSANDS OF BALLOONS TO HIS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BAMAS OWNED TWO PORTUGUESE WATER DOGS IN THE WHITE HOUSE, BO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&amp;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A 12-SECOND KISS BETWEEN KEVIN KLINE AND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0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STARS ALEC BALDWIN AS A VISUALLY IMPAIRED MAN AND DEMI MOORE AS A WOMAN WHO READS TO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USSIAN LETTER THAT IS PRONOUNCED "V" LOOKS LIKE WHAT ENGLISH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9 ANIMATED FILM DID ED ASNER VOICE THE MAIN CHARACTER WHO TIES THOUSANDS OF BALLOONS TO HIS 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OISM, WHAT IS THE LITERAL TRANSLATION OF "TA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ITA)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  OF THE ATTORNEY WHO ACCUSED CLARENCE THOMAS OF SEXUAL HARASSMEN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ID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BAMAS OWNED TWO PORTUGUESE WATER DOGS IN THE WHITE HOUSE, BO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A 12-SECOND KISS BETWEEN KEVIN KLINE AND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STARS ALEC BALDWIN AS A VISUALLY IMPAIRED MAN AND DEMI MOORE AS A WOMAN WHO READS TO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USSIAN LETTER THAT IS PRONOUNCED "V" LOOKS LIKE WHAT ENGLISH LE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OISM, WHAT IS THE LITERAL TRANSLATION OF "TA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2:49:37Z</dcterms:created>
  <dc:creator>Jennifer Budzinski</dc:creator>
  <dc:description/>
  <dc:language>en-US</dc:language>
  <cp:lastModifiedBy>Erich Friedman</cp:lastModifiedBy>
  <dcterms:modified xsi:type="dcterms:W3CDTF">2020-08-29T18:13:19Z</dcterms:modified>
  <cp:revision>461</cp:revision>
  <dc:subject/>
  <dc:title>Slide 1</dc:title>
</cp:coreProperties>
</file>